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AD74-CAD8-4BAE-81CA-D99734581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ЗП –контрольные значения пара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4BF7-3D7C-4633-8A56-91E923B477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02B-A4F1-4AD5-A067-9F9583C5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C5C-527D-4CF2-8140-125A40A3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261B2-D2AF-4EE0-B911-2EED56A2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7798C-7F99-4B2D-AAAC-6BE15ADC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C718D-079C-4793-A25F-19AE5D4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83A7E-6A24-4304-8896-4A4614DA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ADDBC-3277-453D-97A6-F24395D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A553-B298-44B6-93C9-32D65825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FF14C-135D-40AC-87FE-4F7173B3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DA2F3-9E2E-472C-A9BC-E01F0043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699BA-227A-45DC-8B75-0DDD6A61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DE9FA-0F0F-4D48-ADB4-BAEFA505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F8F-0D74-4C5A-A27C-55DE5DFC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AA5B5-0FD1-486B-9D62-334039BF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228AC-0433-494E-91BE-C81CCBD9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B145B-BFDD-48E7-B5FF-F25D901A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171E9-747D-412A-AC2B-FDD51CF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29E67-FD56-41A0-A9AC-2CEDD6BA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55526-2CA8-440B-B2BC-C6EADD7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45915-B7D5-4537-A734-A017631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FE923-6EB7-4A16-AA3C-2F1DAB4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7D5B1-91F0-4DF5-9C75-5F993807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90B20-A21B-4287-A423-37EBC52A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DF2-D9F3-476D-9523-6B56D8C8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E742D-319E-407B-A6FA-A272B437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4D05-2157-4750-A977-0996C1B3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7D8C-521E-46C5-994F-EB1709A3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AB11-A7D6-4F46-9F21-60999FD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1523-F78E-4CA4-ADCF-4DE6BC8B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D8DF-53F2-4BF3-BC3B-D3F06D74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E951-EA14-4385-9255-9767BA11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3F9E-4344-46EE-BE9A-620D391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FAE-E00D-47CC-BC74-BDF2F131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4BB0-D6E6-46B2-92A5-A7F59715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F27F-ED8C-4DAA-A581-DACEAEA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F9D2-34B8-4BD6-8F25-F9738E6D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E883-0F8B-40CF-A409-1B562A42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5A51-E4AE-441B-9DAA-62D5F287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E6B5-84F5-4392-90B3-9FFC902D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C3C4-096A-42FE-A113-3ADD176A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E0E0-CD72-4F2E-8A23-07EBE2B2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7D38-1243-438C-B1CC-449DE36B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6AA4-137F-41B2-AF63-12E82F9A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039-565B-461A-9BAC-EC2B26EB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2658-695E-4CE9-BC64-EDAE9BA8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A077-9833-4D8F-9345-2AEDE45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2194-0850-4EF8-9CBF-58C01F7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701E-F0DB-4B00-9147-DF736C4E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3FE7-49B4-435C-8A36-95A31661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A133-43D4-46B7-A10E-5CF1634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768F7-EEA0-4CCA-B30E-F2AAD417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967F8-F119-4134-B51B-3B68C374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6985-819C-4D8E-AFB5-5AA1DA26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EA1E-5D01-4100-8463-5EE817A7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D59-421B-45C5-98EC-B9FB1978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9889C-13F6-45DD-AFAD-2EDF8613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2CD0-76DD-4738-BB3B-93527948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397D-E40A-4710-84AE-1CE5971C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19004-6E8D-490A-8F91-2925B35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B5F7-E53C-4B6C-AD50-9C6B5B69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CF4E-99AA-4888-A5C4-6162634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BB5D9-9AA3-4E1A-A0E2-47E1F930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B5D2-689E-4359-888A-F144E1FB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1B01-E98A-4383-95B5-49009AAC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86280-85F6-46D9-ACD0-A5AFDEB5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2BE-9A3D-4E0D-A4B2-DA800284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FAEC3-5352-4B30-940D-519E850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6682-8404-47E0-89BD-A1CFDBCF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7108F-17C9-42EF-907A-79B257F7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95D2C-784B-4B0B-8175-4CD43EE0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12F33-4D1D-41DE-95C6-7D1535B2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6D49F-A1A4-46E2-97D0-6BD49762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E64FE-562F-4BBD-8625-C851714F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BFB8B-A9F7-4C32-9860-72D45395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2F0D9-5427-4B0C-A30C-AAC84C4B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D8582-4146-4A25-819A-765893F9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50F-CB77-4824-9F65-BBD32D35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4AEC5-BBA8-4AAB-A1B5-C92AD1EC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4EA37-761E-4898-9FE7-E8C696DB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AAB14-22CD-4624-A075-DC57C33C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4DC9E-D34A-48D0-8837-4B35C64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CF228-CEBC-44FD-9AA1-300BEA32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8A0EA-F8C3-4462-9637-D62344A3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9CA99-0A39-47B9-B2D0-16B3399E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76D0E-79E9-4DC6-961B-482D625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B250A-10F0-4766-BA14-BB3D973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33749-B418-44AC-8CB1-67965F8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7C1-ED8A-4AF9-B95C-37067402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D52EB-998C-467F-BBCF-73F693B7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A9344-DB0F-46BE-A44F-1EFF7645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CBC25-5CD6-4A31-87E1-91EBD9F6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13A41-4A1A-4FEE-82B0-434C6BD3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6B036-8B6B-40B2-9D2E-E139D128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626EF-88F4-4525-BE7D-6B13E6EF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D9EC-8F42-415B-B039-99852191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2A40F-8F65-464E-AAB2-2E599671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07EE-A131-4C96-B712-6A51A947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7B063-585E-455D-9BE5-3AC13B15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719-572D-4F15-90D0-732432A6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F7447-4AEC-4C42-B15A-E6B9F139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2D9C-28E5-45BB-AE71-05D8E72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555A8-0BB0-431A-9935-A2899C9E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6752-E2AE-4D9F-A775-0E771112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1105-3B70-47D9-AE74-01FC2FD0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7C1D-93D0-4365-BDF4-37B166C2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C5E9-00E6-4D1A-912B-ACD5922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D53A4-5AA6-4242-B430-CD6BC4D7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C5877-212F-4339-8819-50BE7691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1EF6D-7BA6-41BB-A528-165D9DD7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769-F6C2-4330-B898-58203B05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E0D3A-1668-4E9B-896A-531A2D7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1F82-4171-45DE-AAC8-3F965C7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81C79-C625-4B38-873F-84E39A4E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2CD79-2823-476C-9BAA-929CD960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B67AA-204E-476D-99B0-22D88DA0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9FF4C-2116-407B-95A1-95B409CB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E3BD-4AD0-45A6-B7B0-4EEF65D3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2E01A-3519-4D74-A20D-408EE4BE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C0257-5C04-4220-AF84-D381CCF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0B2BD-4BBB-4030-81A8-1076F061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0EEF-48AE-4F6A-879F-EE5F8BF43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6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1754-3AE3-4B69-A28A-D6FB1C328F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36BE-8137-42BE-8E99-6CC7DAED07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4096-1EC7-4A10-AA15-F4AC75788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4844-EDB3-42A2-BE32-B97DB03703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447F-70F4-478F-8BBA-6E8C9D000A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A270-0326-4B7E-A111-31239C138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10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E85F-7920-400F-8953-41F7F7A7CE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88E8-2D92-47F5-8E77-87A477EED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1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8AB-AC3F-4284-A35A-7F70A110F0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4.jpeg"/><Relationship Id="rId2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3" name="Picture 5" descr="мордашка1"/>
          <p:cNvPicPr/>
          <p:nvPr/>
        </p:nvPicPr>
        <p:blipFill>
          <a:blip r:embed="rId2"/>
          <a:stretch/>
        </p:blipFill>
        <p:spPr>
          <a:xfrm>
            <a:off x="324000" y="260280"/>
            <a:ext cx="954000" cy="1038240"/>
          </a:xfrm>
          <a:prstGeom prst="rect">
            <a:avLst/>
          </a:prstGeom>
          <a:ln w="0">
            <a:noFill/>
          </a:ln>
        </p:spPr>
      </p:pic>
      <p:sp>
        <p:nvSpPr>
          <p:cNvPr id="544" name="WordArt 30"/>
          <p:cNvSpPr txBox="1"/>
          <p:nvPr/>
        </p:nvSpPr>
        <p:spPr>
          <a:xfrm>
            <a:off x="755640" y="1700280"/>
            <a:ext cx="79437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Линейные неравенства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с параметром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5143680" y="5715000"/>
            <a:ext cx="3571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272fe"/>
                </a:solidFill>
                <a:latin typeface="Arial"/>
              </a:rPr>
              <a:t>Работу подготови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272fe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7272fe"/>
                </a:solidFill>
                <a:latin typeface="Arial"/>
              </a:rPr>
              <a:t>Коваленко Ирина Анатольевн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272fe"/>
                </a:solidFill>
                <a:latin typeface="Arial"/>
              </a:rPr>
              <a:t>учитель математики школы №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272fe"/>
                </a:solidFill>
                <a:latin typeface="Arial"/>
              </a:rPr>
              <a:t>город Стародуб Брянская обла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6"/>
          <p:cNvSpPr/>
          <p:nvPr/>
        </p:nvSpPr>
        <p:spPr>
          <a:xfrm>
            <a:off x="3048120" y="228600"/>
            <a:ext cx="236196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х =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7"/>
          <p:cNvGrpSpPr/>
          <p:nvPr/>
        </p:nvGrpSpPr>
        <p:grpSpPr>
          <a:xfrm>
            <a:off x="1295280" y="838080"/>
            <a:ext cx="1295280" cy="685800"/>
            <a:chOff x="1295280" y="838080"/>
            <a:chExt cx="1295280" cy="685800"/>
          </a:xfrm>
        </p:grpSpPr>
        <p:sp>
          <p:nvSpPr>
            <p:cNvPr id="549" name="Rectangle 8"/>
            <p:cNvSpPr/>
            <p:nvPr/>
          </p:nvSpPr>
          <p:spPr>
            <a:xfrm>
              <a:off x="1295280" y="838080"/>
              <a:ext cx="129528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А = 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"/>
            <p:cNvSpPr/>
            <p:nvPr/>
          </p:nvSpPr>
          <p:spPr>
            <a:xfrm flipH="1">
              <a:off x="1828440" y="990720"/>
              <a:ext cx="22860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Rectangle 10"/>
          <p:cNvSpPr/>
          <p:nvPr/>
        </p:nvSpPr>
        <p:spPr>
          <a:xfrm>
            <a:off x="5715000" y="914400"/>
            <a:ext cx="1295280" cy="685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5486400" y="2209680"/>
            <a:ext cx="1981080" cy="685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914400" y="2133720"/>
            <a:ext cx="2133720" cy="685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х =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6934320" y="3276720"/>
            <a:ext cx="1981080" cy="685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14"/>
          <p:cNvGrpSpPr/>
          <p:nvPr/>
        </p:nvGrpSpPr>
        <p:grpSpPr>
          <a:xfrm>
            <a:off x="4038480" y="3276720"/>
            <a:ext cx="1981080" cy="685800"/>
            <a:chOff x="4038480" y="3276720"/>
            <a:chExt cx="1981080" cy="685800"/>
          </a:xfrm>
        </p:grpSpPr>
        <p:sp>
          <p:nvSpPr>
            <p:cNvPr id="556" name="Rectangle 15"/>
            <p:cNvSpPr/>
            <p:nvPr/>
          </p:nvSpPr>
          <p:spPr>
            <a:xfrm>
              <a:off x="4038480" y="3276720"/>
              <a:ext cx="1981080" cy="685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В = 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 flipH="1">
              <a:off x="4952520" y="3429000"/>
              <a:ext cx="15228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Rectangle 17"/>
          <p:cNvSpPr/>
          <p:nvPr/>
        </p:nvSpPr>
        <p:spPr>
          <a:xfrm>
            <a:off x="6934320" y="4495680"/>
            <a:ext cx="1981080" cy="685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3962520" y="4495680"/>
            <a:ext cx="1981080" cy="685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7086600" y="5791320"/>
            <a:ext cx="1600200" cy="685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3657600" y="5791320"/>
            <a:ext cx="2362320" cy="685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ней 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21"/>
          <p:cNvSpPr/>
          <p:nvPr/>
        </p:nvSpPr>
        <p:spPr>
          <a:xfrm flipH="1">
            <a:off x="1904760" y="304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22"/>
          <p:cNvSpPr/>
          <p:nvPr/>
        </p:nvSpPr>
        <p:spPr>
          <a:xfrm>
            <a:off x="1905120" y="304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23"/>
          <p:cNvSpPr/>
          <p:nvPr/>
        </p:nvSpPr>
        <p:spPr>
          <a:xfrm flipH="1" rot="10800000">
            <a:off x="5485320" y="304560"/>
            <a:ext cx="1523880" cy="53316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AutoShape 24"/>
          <p:cNvSpPr/>
          <p:nvPr/>
        </p:nvSpPr>
        <p:spPr>
          <a:xfrm rot="10800000">
            <a:off x="1371240" y="304560"/>
            <a:ext cx="1676520" cy="4572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25"/>
          <p:cNvSpPr/>
          <p:nvPr/>
        </p:nvSpPr>
        <p:spPr>
          <a:xfrm>
            <a:off x="1692360" y="1557360"/>
            <a:ext cx="433440" cy="609480"/>
          </a:xfrm>
          <a:prstGeom prst="downArrow">
            <a:avLst>
              <a:gd name="adj1" fmla="val 50000"/>
              <a:gd name="adj2" fmla="val 351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26"/>
          <p:cNvSpPr/>
          <p:nvPr/>
        </p:nvSpPr>
        <p:spPr>
          <a:xfrm>
            <a:off x="6248520" y="16002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utoShape 27"/>
          <p:cNvSpPr/>
          <p:nvPr/>
        </p:nvSpPr>
        <p:spPr>
          <a:xfrm>
            <a:off x="7772400" y="5181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AutoShape 28"/>
          <p:cNvSpPr/>
          <p:nvPr/>
        </p:nvSpPr>
        <p:spPr>
          <a:xfrm>
            <a:off x="4876920" y="51814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29"/>
          <p:cNvSpPr/>
          <p:nvPr/>
        </p:nvSpPr>
        <p:spPr>
          <a:xfrm>
            <a:off x="769608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30"/>
          <p:cNvSpPr/>
          <p:nvPr/>
        </p:nvSpPr>
        <p:spPr>
          <a:xfrm>
            <a:off x="4876920" y="39625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31"/>
          <p:cNvSpPr/>
          <p:nvPr/>
        </p:nvSpPr>
        <p:spPr>
          <a:xfrm flipH="1">
            <a:off x="5105160" y="2895480"/>
            <a:ext cx="685800" cy="38124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2"/>
          <p:cNvSpPr/>
          <p:nvPr/>
        </p:nvSpPr>
        <p:spPr>
          <a:xfrm>
            <a:off x="7093080" y="2924280"/>
            <a:ext cx="838080" cy="38088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3"/>
          <p:cNvSpPr/>
          <p:nvPr/>
        </p:nvSpPr>
        <p:spPr>
          <a:xfrm>
            <a:off x="914400" y="3581280"/>
            <a:ext cx="2133720" cy="685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=В :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34"/>
          <p:cNvSpPr/>
          <p:nvPr/>
        </p:nvSpPr>
        <p:spPr>
          <a:xfrm>
            <a:off x="914400" y="44956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кор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35"/>
          <p:cNvSpPr/>
          <p:nvPr/>
        </p:nvSpPr>
        <p:spPr>
          <a:xfrm>
            <a:off x="1763640" y="2852640"/>
            <a:ext cx="432000" cy="72072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36" descr="Рисунок1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7" descr="Рисунок1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39"/>
          <p:cNvSpPr/>
          <p:nvPr/>
        </p:nvSpPr>
        <p:spPr>
          <a:xfrm>
            <a:off x="3048120" y="228600"/>
            <a:ext cx="2361960" cy="685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х =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Group 40"/>
          <p:cNvGrpSpPr/>
          <p:nvPr/>
        </p:nvGrpSpPr>
        <p:grpSpPr>
          <a:xfrm>
            <a:off x="1258920" y="836640"/>
            <a:ext cx="1295280" cy="685800"/>
            <a:chOff x="1258920" y="836640"/>
            <a:chExt cx="1295280" cy="685800"/>
          </a:xfrm>
        </p:grpSpPr>
        <p:sp>
          <p:nvSpPr>
            <p:cNvPr id="581" name="Rectangle 41"/>
            <p:cNvSpPr/>
            <p:nvPr/>
          </p:nvSpPr>
          <p:spPr>
            <a:xfrm>
              <a:off x="1258920" y="836640"/>
              <a:ext cx="1295280" cy="6858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А = 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42"/>
            <p:cNvSpPr/>
            <p:nvPr/>
          </p:nvSpPr>
          <p:spPr>
            <a:xfrm flipH="1">
              <a:off x="1792080" y="989280"/>
              <a:ext cx="22860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Rectangle 43"/>
          <p:cNvSpPr/>
          <p:nvPr/>
        </p:nvSpPr>
        <p:spPr>
          <a:xfrm>
            <a:off x="5715000" y="914400"/>
            <a:ext cx="1295280" cy="685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44"/>
          <p:cNvSpPr/>
          <p:nvPr/>
        </p:nvSpPr>
        <p:spPr>
          <a:xfrm>
            <a:off x="5486400" y="2209680"/>
            <a:ext cx="1981080" cy="6858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45"/>
          <p:cNvSpPr/>
          <p:nvPr/>
        </p:nvSpPr>
        <p:spPr>
          <a:xfrm>
            <a:off x="914400" y="2133720"/>
            <a:ext cx="2133720" cy="685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х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46"/>
          <p:cNvSpPr/>
          <p:nvPr/>
        </p:nvSpPr>
        <p:spPr>
          <a:xfrm>
            <a:off x="6934320" y="3276720"/>
            <a:ext cx="1981080" cy="6858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47"/>
          <p:cNvGrpSpPr/>
          <p:nvPr/>
        </p:nvGrpSpPr>
        <p:grpSpPr>
          <a:xfrm>
            <a:off x="4038480" y="3276720"/>
            <a:ext cx="1981080" cy="685800"/>
            <a:chOff x="4038480" y="3276720"/>
            <a:chExt cx="1981080" cy="685800"/>
          </a:xfrm>
        </p:grpSpPr>
        <p:sp>
          <p:nvSpPr>
            <p:cNvPr id="588" name="Rectangle 48"/>
            <p:cNvSpPr/>
            <p:nvPr/>
          </p:nvSpPr>
          <p:spPr>
            <a:xfrm>
              <a:off x="4038480" y="3276720"/>
              <a:ext cx="1981080" cy="6858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В = 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9"/>
            <p:cNvSpPr/>
            <p:nvPr/>
          </p:nvSpPr>
          <p:spPr>
            <a:xfrm flipH="1">
              <a:off x="4952520" y="3429000"/>
              <a:ext cx="15228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Rectangle 50"/>
          <p:cNvSpPr/>
          <p:nvPr/>
        </p:nvSpPr>
        <p:spPr>
          <a:xfrm>
            <a:off x="6934320" y="4495680"/>
            <a:ext cx="1981080" cy="6858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51"/>
          <p:cNvSpPr/>
          <p:nvPr/>
        </p:nvSpPr>
        <p:spPr>
          <a:xfrm>
            <a:off x="3962520" y="4495680"/>
            <a:ext cx="1981080" cy="685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х =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52"/>
          <p:cNvSpPr/>
          <p:nvPr/>
        </p:nvSpPr>
        <p:spPr>
          <a:xfrm>
            <a:off x="7086600" y="5791320"/>
            <a:ext cx="1600200" cy="6858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3657600" y="5791320"/>
            <a:ext cx="2362320" cy="6858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ней 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54"/>
          <p:cNvSpPr/>
          <p:nvPr/>
        </p:nvSpPr>
        <p:spPr>
          <a:xfrm flipH="1">
            <a:off x="1904760" y="304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55"/>
          <p:cNvSpPr/>
          <p:nvPr/>
        </p:nvSpPr>
        <p:spPr>
          <a:xfrm>
            <a:off x="1905120" y="304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56"/>
          <p:cNvSpPr/>
          <p:nvPr/>
        </p:nvSpPr>
        <p:spPr>
          <a:xfrm flipH="1" rot="10800000">
            <a:off x="5485320" y="304560"/>
            <a:ext cx="1523880" cy="533160"/>
          </a:xfrm>
          <a:prstGeom prst="pi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7"/>
          <p:cNvSpPr/>
          <p:nvPr/>
        </p:nvSpPr>
        <p:spPr>
          <a:xfrm rot="10800000">
            <a:off x="1371240" y="304560"/>
            <a:ext cx="1676520" cy="457200"/>
          </a:xfrm>
          <a:prstGeom prst="pi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58"/>
          <p:cNvSpPr/>
          <p:nvPr/>
        </p:nvSpPr>
        <p:spPr>
          <a:xfrm>
            <a:off x="1828800" y="15238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59"/>
          <p:cNvSpPr/>
          <p:nvPr/>
        </p:nvSpPr>
        <p:spPr>
          <a:xfrm>
            <a:off x="6248520" y="16002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60"/>
          <p:cNvSpPr/>
          <p:nvPr/>
        </p:nvSpPr>
        <p:spPr>
          <a:xfrm>
            <a:off x="7772400" y="5181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61"/>
          <p:cNvSpPr/>
          <p:nvPr/>
        </p:nvSpPr>
        <p:spPr>
          <a:xfrm>
            <a:off x="4876920" y="518148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62"/>
          <p:cNvSpPr/>
          <p:nvPr/>
        </p:nvSpPr>
        <p:spPr>
          <a:xfrm>
            <a:off x="7696080" y="3962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63"/>
          <p:cNvSpPr/>
          <p:nvPr/>
        </p:nvSpPr>
        <p:spPr>
          <a:xfrm>
            <a:off x="4876920" y="39625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64"/>
          <p:cNvSpPr/>
          <p:nvPr/>
        </p:nvSpPr>
        <p:spPr>
          <a:xfrm flipH="1">
            <a:off x="5105160" y="2895480"/>
            <a:ext cx="685800" cy="381240"/>
          </a:xfrm>
          <a:prstGeom prst="line">
            <a:avLst/>
          </a:prstGeom>
          <a:ln w="76320">
            <a:solidFill>
              <a:srgbClr val="d8d8e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65"/>
          <p:cNvSpPr/>
          <p:nvPr/>
        </p:nvSpPr>
        <p:spPr>
          <a:xfrm>
            <a:off x="7086600" y="2895480"/>
            <a:ext cx="838080" cy="381240"/>
          </a:xfrm>
          <a:prstGeom prst="line">
            <a:avLst/>
          </a:prstGeom>
          <a:ln w="76320">
            <a:solidFill>
              <a:srgbClr val="d8d8e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66"/>
          <p:cNvSpPr/>
          <p:nvPr/>
        </p:nvSpPr>
        <p:spPr>
          <a:xfrm>
            <a:off x="914400" y="3581280"/>
            <a:ext cx="2133720" cy="685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=В :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67"/>
          <p:cNvSpPr/>
          <p:nvPr/>
        </p:nvSpPr>
        <p:spPr>
          <a:xfrm>
            <a:off x="914400" y="44956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кор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71"/>
          <p:cNvSpPr/>
          <p:nvPr/>
        </p:nvSpPr>
        <p:spPr>
          <a:xfrm>
            <a:off x="900000" y="2133720"/>
            <a:ext cx="2133720" cy="685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х =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Алгоритм решения линейных уравнений с параметр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10920" y="1767960"/>
            <a:ext cx="771372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очкарик"/>
          <p:cNvPicPr/>
          <p:nvPr/>
        </p:nvPicPr>
        <p:blipFill>
          <a:blip r:embed="rId1"/>
          <a:stretch/>
        </p:blipFill>
        <p:spPr>
          <a:xfrm>
            <a:off x="7596360" y="1700280"/>
            <a:ext cx="814320" cy="8539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1368360" y="1557360"/>
            <a:ext cx="77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.Найти ДЗП ( допустим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начения параметр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. На ДЗП привести уравнение к стандартному ви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. Найти КЗП и решить частные урав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. Решить общие урав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5. Нанести все решения на ось параме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6. Записать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6" descr="мордашка1"/>
          <p:cNvPicPr/>
          <p:nvPr/>
        </p:nvPicPr>
        <p:blipFill>
          <a:blip r:embed="rId1"/>
          <a:stretch/>
        </p:blipFill>
        <p:spPr>
          <a:xfrm>
            <a:off x="0" y="0"/>
            <a:ext cx="954000" cy="103824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"/>
          <p:cNvSpPr/>
          <p:nvPr/>
        </p:nvSpPr>
        <p:spPr>
          <a:xfrm>
            <a:off x="749160" y="9684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шения линей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парамет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3276720" y="1628640"/>
            <a:ext cx="2160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9"/>
          <p:cNvSpPr/>
          <p:nvPr/>
        </p:nvSpPr>
        <p:spPr>
          <a:xfrm>
            <a:off x="539640" y="2205000"/>
            <a:ext cx="1728720" cy="50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>
            <a:off x="3348000" y="2852640"/>
            <a:ext cx="1728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= 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11"/>
          <p:cNvSpPr/>
          <p:nvPr/>
        </p:nvSpPr>
        <p:spPr>
          <a:xfrm>
            <a:off x="6588000" y="2133720"/>
            <a:ext cx="172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 flipH="1">
            <a:off x="2268000" y="1916280"/>
            <a:ext cx="100836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13"/>
          <p:cNvSpPr/>
          <p:nvPr/>
        </p:nvSpPr>
        <p:spPr>
          <a:xfrm>
            <a:off x="5435640" y="1844640"/>
            <a:ext cx="115236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14"/>
          <p:cNvSpPr/>
          <p:nvPr/>
        </p:nvSpPr>
        <p:spPr>
          <a:xfrm>
            <a:off x="4211640" y="220500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15"/>
          <p:cNvSpPr/>
          <p:nvPr/>
        </p:nvSpPr>
        <p:spPr>
          <a:xfrm>
            <a:off x="1332000" y="2708280"/>
            <a:ext cx="0" cy="649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16"/>
          <p:cNvSpPr/>
          <p:nvPr/>
        </p:nvSpPr>
        <p:spPr>
          <a:xfrm>
            <a:off x="468360" y="3357720"/>
            <a:ext cx="172872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/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17"/>
          <p:cNvSpPr/>
          <p:nvPr/>
        </p:nvSpPr>
        <p:spPr>
          <a:xfrm>
            <a:off x="7451640" y="263700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18"/>
          <p:cNvSpPr/>
          <p:nvPr/>
        </p:nvSpPr>
        <p:spPr>
          <a:xfrm>
            <a:off x="6443640" y="3284640"/>
            <a:ext cx="2016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/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9"/>
          <p:cNvSpPr/>
          <p:nvPr/>
        </p:nvSpPr>
        <p:spPr>
          <a:xfrm>
            <a:off x="3419640" y="3716280"/>
            <a:ext cx="172872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0х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20"/>
          <p:cNvSpPr/>
          <p:nvPr/>
        </p:nvSpPr>
        <p:spPr>
          <a:xfrm>
            <a:off x="4211640" y="3357720"/>
            <a:ext cx="0" cy="35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21"/>
          <p:cNvSpPr/>
          <p:nvPr/>
        </p:nvSpPr>
        <p:spPr>
          <a:xfrm>
            <a:off x="6012000" y="4581360"/>
            <a:ext cx="1800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22"/>
          <p:cNvSpPr/>
          <p:nvPr/>
        </p:nvSpPr>
        <p:spPr>
          <a:xfrm>
            <a:off x="3492360" y="4941720"/>
            <a:ext cx="180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=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23"/>
          <p:cNvSpPr/>
          <p:nvPr/>
        </p:nvSpPr>
        <p:spPr>
          <a:xfrm>
            <a:off x="1042920" y="4581360"/>
            <a:ext cx="180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4"/>
          <p:cNvSpPr/>
          <p:nvPr/>
        </p:nvSpPr>
        <p:spPr>
          <a:xfrm flipH="1">
            <a:off x="1907640" y="4076640"/>
            <a:ext cx="151164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5"/>
          <p:cNvSpPr/>
          <p:nvPr/>
        </p:nvSpPr>
        <p:spPr>
          <a:xfrm>
            <a:off x="4284720" y="4292640"/>
            <a:ext cx="0" cy="64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26"/>
          <p:cNvSpPr/>
          <p:nvPr/>
        </p:nvSpPr>
        <p:spPr>
          <a:xfrm>
            <a:off x="5148360" y="4005360"/>
            <a:ext cx="187164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27"/>
          <p:cNvSpPr/>
          <p:nvPr/>
        </p:nvSpPr>
        <p:spPr>
          <a:xfrm>
            <a:off x="900000" y="5589720"/>
            <a:ext cx="2016360" cy="576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cd7b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й 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8"/>
          <p:cNvSpPr/>
          <p:nvPr/>
        </p:nvSpPr>
        <p:spPr>
          <a:xfrm>
            <a:off x="3419640" y="5661000"/>
            <a:ext cx="2016000" cy="576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d37f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ужд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29"/>
          <p:cNvSpPr/>
          <p:nvPr/>
        </p:nvSpPr>
        <p:spPr>
          <a:xfrm>
            <a:off x="6156360" y="5661000"/>
            <a:ext cx="2016000" cy="576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c174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30"/>
          <p:cNvSpPr/>
          <p:nvPr/>
        </p:nvSpPr>
        <p:spPr>
          <a:xfrm>
            <a:off x="1908000" y="508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31"/>
          <p:cNvSpPr/>
          <p:nvPr/>
        </p:nvSpPr>
        <p:spPr>
          <a:xfrm>
            <a:off x="4356000" y="5445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2"/>
          <p:cNvSpPr/>
          <p:nvPr/>
        </p:nvSpPr>
        <p:spPr>
          <a:xfrm>
            <a:off x="6948360" y="5084640"/>
            <a:ext cx="14472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0099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9" descr="By The Pool"/>
          <p:cNvPicPr/>
          <p:nvPr/>
        </p:nvPicPr>
        <p:blipFill>
          <a:blip r:embed="rId1"/>
          <a:stretch/>
        </p:blipFill>
        <p:spPr>
          <a:xfrm>
            <a:off x="-612720" y="-38736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43" name="Picture 15" descr="men copy"/>
          <p:cNvPicPr/>
          <p:nvPr/>
        </p:nvPicPr>
        <p:blipFill>
          <a:blip r:embed="rId2"/>
          <a:stretch/>
        </p:blipFill>
        <p:spPr>
          <a:xfrm>
            <a:off x="0" y="0"/>
            <a:ext cx="1562040" cy="170028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20"/>
          <p:cNvSpPr/>
          <p:nvPr/>
        </p:nvSpPr>
        <p:spPr>
          <a:xfrm>
            <a:off x="611280" y="155736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еравенства с двумя переменными а и х вида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(x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) &gt;&lt; 0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азывается неравенством с переменной х и параметром а, если для любого значения а надо решить соответствующие частные неравенства относительно 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3" descr="мордашка1"/>
          <p:cNvPicPr/>
          <p:nvPr/>
        </p:nvPicPr>
        <p:blipFill>
          <a:blip r:embed="rId1"/>
          <a:stretch/>
        </p:blipFill>
        <p:spPr>
          <a:xfrm>
            <a:off x="0" y="907920"/>
            <a:ext cx="954000" cy="103824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ример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Решить неравенство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3(2а – х)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  <a:ea typeface="Arial"/>
              </a:rPr>
              <a:t> ах +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1258920" y="1628640"/>
            <a:ext cx="6985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а – 3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 + 1 ( первая степень переменной х – линейное неравенст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ЗП: а – любое чис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258920" y="3645000"/>
            <a:ext cx="684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 -3х –а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-6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 3 + а)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6а -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КЗП: 3 +а =0, а = 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 а = -3 имеем: 0х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-19, х – любое чис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4. Рассмотрим ось параметров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826920" y="3213000"/>
            <a:ext cx="756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При 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3  3 + 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0, тог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6а -1) / ( а+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684360" y="443700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3  3 + 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0, тогда х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6а -1) / ( а+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Group 16"/>
          <p:cNvGrpSpPr/>
          <p:nvPr/>
        </p:nvGrpSpPr>
        <p:grpSpPr>
          <a:xfrm>
            <a:off x="684360" y="1557360"/>
            <a:ext cx="7632720" cy="1549440"/>
            <a:chOff x="684360" y="1557360"/>
            <a:chExt cx="7632720" cy="1549440"/>
          </a:xfrm>
        </p:grpSpPr>
        <p:sp>
          <p:nvSpPr>
            <p:cNvPr id="653" name="Line 4"/>
            <p:cNvSpPr/>
            <p:nvPr/>
          </p:nvSpPr>
          <p:spPr>
            <a:xfrm>
              <a:off x="684360" y="2565000"/>
              <a:ext cx="75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Text Box 6"/>
            <p:cNvSpPr/>
            <p:nvPr/>
          </p:nvSpPr>
          <p:spPr>
            <a:xfrm>
              <a:off x="3996000" y="27079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-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8"/>
            <p:cNvSpPr/>
            <p:nvPr/>
          </p:nvSpPr>
          <p:spPr>
            <a:xfrm>
              <a:off x="4284720" y="242064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AutoShape 9"/>
            <p:cNvSpPr/>
            <p:nvPr/>
          </p:nvSpPr>
          <p:spPr>
            <a:xfrm>
              <a:off x="4069080" y="1557360"/>
              <a:ext cx="1511280" cy="647280"/>
            </a:xfrm>
            <a:prstGeom prst="wedgeRoundRectCallout">
              <a:avLst>
                <a:gd name="adj1" fmla="val -37708"/>
                <a:gd name="adj2" fmla="val 96569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Х – любое чис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11"/>
            <p:cNvSpPr/>
            <p:nvPr/>
          </p:nvSpPr>
          <p:spPr>
            <a:xfrm>
              <a:off x="1260720" y="1989000"/>
              <a:ext cx="22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х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lt;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(6а -1) / ( а+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14"/>
            <p:cNvSpPr/>
            <p:nvPr/>
          </p:nvSpPr>
          <p:spPr>
            <a:xfrm>
              <a:off x="5869080" y="1989000"/>
              <a:ext cx="216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х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gt;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(6а -1) / ( а+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Text Box 15"/>
            <p:cNvSpPr/>
            <p:nvPr/>
          </p:nvSpPr>
          <p:spPr>
            <a:xfrm>
              <a:off x="7885440" y="2636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Text Box 17"/>
          <p:cNvSpPr/>
          <p:nvPr/>
        </p:nvSpPr>
        <p:spPr>
          <a:xfrm>
            <a:off x="755640" y="5373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Отв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1331640" y="1905120"/>
            <a:ext cx="633564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20"/>
          <p:cNvSpPr/>
          <p:nvPr/>
        </p:nvSpPr>
        <p:spPr>
          <a:xfrm>
            <a:off x="1258920" y="1052640"/>
            <a:ext cx="69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Wide Latin"/>
              </a:rPr>
              <a:t>Алгоритм решения линей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Wide Lati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Wide Latin"/>
              </a:rPr>
              <a:t>неравенств с парамет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21"/>
          <p:cNvSpPr/>
          <p:nvPr/>
        </p:nvSpPr>
        <p:spPr>
          <a:xfrm>
            <a:off x="971640" y="2349360"/>
            <a:ext cx="727236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йти ОДЗ параме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вести на ОДЗП неравенство к стандартному ви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йти КЗП и решить частные нераве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ить неравенство на каждом промежут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нести полученное на ось парамет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исать от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37:04Z</dcterms:created>
  <dc:creator>Neo</dc:creator>
  <dc:description/>
  <dc:language>en-US</dc:language>
  <cp:lastModifiedBy>админ</cp:lastModifiedBy>
  <dcterms:modified xsi:type="dcterms:W3CDTF">2016-11-27T07:48:07Z</dcterms:modified>
  <cp:revision>19</cp:revision>
  <dc:subject/>
  <dc:title>Слайд 1</dc:title>
</cp:coreProperties>
</file>