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1C3D-99D1-4B54-A980-C73DA6B7EC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ЗП –допустимые значения параметра. КЗП – контрольные значения параме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F43A-16E3-41C7-BE64-A9C43F9BF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B1E-CFFC-41FC-AB61-387C467F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FA5-5E8D-430D-A770-5042242A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F87-7A31-4FF0-9A84-2336E06A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F30-7D4C-4AE0-B805-A5F539F5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936A-E4E6-447B-95B9-B634A4D7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1A29-073F-4202-9B95-1BF45412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D492-41DC-440B-B032-A18AB5F0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9DBA-85D0-444D-BF10-34E1B08E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0D1B-A56E-4AA1-9D80-1844A7BA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0BBD-60E5-43C4-BA8A-4F01B912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29D5-C156-44D3-9C46-09FC7C7F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6AE-CCEC-45ED-A4D4-D5A5CFA2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9F7D-B243-48E1-81F8-0CCD0AA6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D5FF-E4E1-4044-A662-403EA719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ACD9-2DC2-4B06-8D74-30C92FAD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4416-DB24-431A-A934-20D7F2AB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AE49-267A-4EC0-808D-17790345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B429-21FD-413B-BC56-5ADC91CC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E026-BB4A-4DE3-9DF4-C13A3FFF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AA62E-E676-4EB0-B9F1-69561E4A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CCFB8-582F-48C3-9084-3595265F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01413-0EED-426B-B401-0B533A0F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E10-9DBA-4B77-BD4F-B5E9233B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E7120-0AD9-4D1B-8521-125F0938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A6168-1EDF-47DF-918D-93FF0A39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1FFD3-816A-40DD-936A-C550C4E1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4B2B-6E62-4991-8E0D-B1975DD6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ABED6-3D35-4C8F-8D87-17E364CE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2DEF0-5B09-481C-B1E3-37E6E84B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ECABE-9C99-4DC1-BECF-0C2702BD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C462D-61D0-4EA6-A11F-8A0BE716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3A1E3-EBCE-46F9-8862-36BC92C5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1E942-B7A7-4EFE-B2DC-152DC90A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220-EF6E-47CB-9092-4A1ABF96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3DEBF-2A81-4AE2-8681-8C46375C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69F30-2705-4337-9FBB-BE10DEF8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D4E32-285E-423A-B6FC-7DD947F2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7956D-BA79-4697-BDC2-27ADC40E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20482-8F4D-462F-9523-754844A5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5E8FA-748C-4680-A12C-8556C8F8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69FFD-D407-4D36-B653-52D3E8BA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EA34D-4189-413C-B732-6F807C02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302E7-926E-403A-BEBA-9D391000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B48-6860-40C0-A94E-67AEF0D0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F46-5AAD-4936-9DD3-53EC17EF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861-2B4D-4A3D-9FD8-C63D6B14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932-E4E3-4D54-BECA-22100DE8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83D6-9F25-430C-8428-BB5A9601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7C92-CE6C-4778-BA88-224EE34855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75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C5FC-8442-41FD-B0B9-AB889A38D7B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A6A5-2056-49EF-B65D-98B157474F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95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40D1-B491-401A-BD4E-7CF8DAD526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Рисунок1"/>
          <p:cNvPicPr/>
          <p:nvPr/>
        </p:nvPicPr>
        <p:blipFill>
          <a:blip r:embed="rId1"/>
          <a:stretch/>
        </p:blipFill>
        <p:spPr>
          <a:xfrm>
            <a:off x="380880" y="152280"/>
            <a:ext cx="3329280" cy="2586240"/>
          </a:xfrm>
          <a:prstGeom prst="rect">
            <a:avLst/>
          </a:prstGeom>
          <a:ln w="0">
            <a:noFill/>
          </a:ln>
        </p:spPr>
      </p:pic>
      <p:sp>
        <p:nvSpPr>
          <p:cNvPr id="247" name="WordArt 6"/>
          <p:cNvSpPr txBox="1"/>
          <p:nvPr/>
        </p:nvSpPr>
        <p:spPr>
          <a:xfrm>
            <a:off x="990720" y="2743200"/>
            <a:ext cx="76197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Линейные уравнения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 </a:t>
            </a: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с параметром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8839080" y="228600"/>
            <a:ext cx="0" cy="632448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228600" y="228600"/>
            <a:ext cx="0" cy="632448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28600" y="6553080"/>
            <a:ext cx="86104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228600" y="228600"/>
            <a:ext cx="86104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5562720" y="501156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боту подготов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валенко Ирина Анатольевна, учитель математики школы 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род Стародуб  Брянская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5"/>
          <p:cNvSpPr/>
          <p:nvPr/>
        </p:nvSpPr>
        <p:spPr>
          <a:xfrm>
            <a:off x="3048120" y="228600"/>
            <a:ext cx="236196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х =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8"/>
          <p:cNvGrpSpPr/>
          <p:nvPr/>
        </p:nvGrpSpPr>
        <p:grpSpPr>
          <a:xfrm>
            <a:off x="1295280" y="838080"/>
            <a:ext cx="1295280" cy="685800"/>
            <a:chOff x="1295280" y="838080"/>
            <a:chExt cx="1295280" cy="685800"/>
          </a:xfrm>
        </p:grpSpPr>
        <p:sp>
          <p:nvSpPr>
            <p:cNvPr id="255" name="Rectangle 6"/>
            <p:cNvSpPr/>
            <p:nvPr/>
          </p:nvSpPr>
          <p:spPr>
            <a:xfrm>
              <a:off x="1295280" y="838080"/>
              <a:ext cx="129528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А 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7"/>
            <p:cNvSpPr/>
            <p:nvPr/>
          </p:nvSpPr>
          <p:spPr>
            <a:xfrm flipH="1">
              <a:off x="1828440" y="990720"/>
              <a:ext cx="228600" cy="304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Rectangle 10"/>
          <p:cNvSpPr/>
          <p:nvPr/>
        </p:nvSpPr>
        <p:spPr>
          <a:xfrm>
            <a:off x="5715000" y="914400"/>
            <a:ext cx="129528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5486400" y="2209680"/>
            <a:ext cx="1981080" cy="685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0х =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914400" y="2133720"/>
            <a:ext cx="2133720" cy="685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х =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934320" y="3276720"/>
            <a:ext cx="1981080" cy="685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7"/>
          <p:cNvGrpSpPr/>
          <p:nvPr/>
        </p:nvGrpSpPr>
        <p:grpSpPr>
          <a:xfrm>
            <a:off x="4038480" y="3276720"/>
            <a:ext cx="1981080" cy="685800"/>
            <a:chOff x="4038480" y="3276720"/>
            <a:chExt cx="1981080" cy="685800"/>
          </a:xfrm>
        </p:grpSpPr>
        <p:sp>
          <p:nvSpPr>
            <p:cNvPr id="262" name="Rectangle 14"/>
            <p:cNvSpPr/>
            <p:nvPr/>
          </p:nvSpPr>
          <p:spPr>
            <a:xfrm>
              <a:off x="4038480" y="3276720"/>
              <a:ext cx="1981080" cy="685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В 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6"/>
            <p:cNvSpPr/>
            <p:nvPr/>
          </p:nvSpPr>
          <p:spPr>
            <a:xfrm flipH="1">
              <a:off x="4952520" y="3429000"/>
              <a:ext cx="15228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18"/>
          <p:cNvSpPr/>
          <p:nvPr/>
        </p:nvSpPr>
        <p:spPr>
          <a:xfrm>
            <a:off x="6934320" y="4495680"/>
            <a:ext cx="1981080" cy="685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0х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3962520" y="4495680"/>
            <a:ext cx="1981080" cy="6858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0х =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7086600" y="5791320"/>
            <a:ext cx="1600200" cy="685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3657600" y="5791320"/>
            <a:ext cx="2362320" cy="6858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ней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4"/>
          <p:cNvSpPr/>
          <p:nvPr/>
        </p:nvSpPr>
        <p:spPr>
          <a:xfrm flipH="1">
            <a:off x="1904760" y="304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>
            <a:off x="1905120" y="304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6"/>
          <p:cNvSpPr/>
          <p:nvPr/>
        </p:nvSpPr>
        <p:spPr>
          <a:xfrm flipH="1" rot="10800000">
            <a:off x="5485320" y="304560"/>
            <a:ext cx="1523880" cy="53316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7"/>
          <p:cNvSpPr/>
          <p:nvPr/>
        </p:nvSpPr>
        <p:spPr>
          <a:xfrm rot="10800000">
            <a:off x="1371240" y="304560"/>
            <a:ext cx="1676520" cy="4572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8"/>
          <p:cNvSpPr/>
          <p:nvPr/>
        </p:nvSpPr>
        <p:spPr>
          <a:xfrm>
            <a:off x="1828800" y="15238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9"/>
          <p:cNvSpPr/>
          <p:nvPr/>
        </p:nvSpPr>
        <p:spPr>
          <a:xfrm>
            <a:off x="6248520" y="160020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0"/>
          <p:cNvSpPr/>
          <p:nvPr/>
        </p:nvSpPr>
        <p:spPr>
          <a:xfrm>
            <a:off x="7772400" y="51814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1"/>
          <p:cNvSpPr/>
          <p:nvPr/>
        </p:nvSpPr>
        <p:spPr>
          <a:xfrm>
            <a:off x="4876920" y="5181480"/>
            <a:ext cx="304560" cy="60984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7696080" y="39625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3"/>
          <p:cNvSpPr/>
          <p:nvPr/>
        </p:nvSpPr>
        <p:spPr>
          <a:xfrm>
            <a:off x="4876920" y="396252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5"/>
          <p:cNvSpPr/>
          <p:nvPr/>
        </p:nvSpPr>
        <p:spPr>
          <a:xfrm flipH="1">
            <a:off x="5105160" y="2895480"/>
            <a:ext cx="685800" cy="38124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6"/>
          <p:cNvSpPr/>
          <p:nvPr/>
        </p:nvSpPr>
        <p:spPr>
          <a:xfrm>
            <a:off x="7086600" y="2895480"/>
            <a:ext cx="838080" cy="38124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7"/>
          <p:cNvSpPr/>
          <p:nvPr/>
        </p:nvSpPr>
        <p:spPr>
          <a:xfrm>
            <a:off x="914400" y="3581280"/>
            <a:ext cx="2133720" cy="685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 =В :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8"/>
          <p:cNvSpPr/>
          <p:nvPr/>
        </p:nvSpPr>
        <p:spPr>
          <a:xfrm>
            <a:off x="914400" y="44956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9" descr="мордашка1"/>
          <p:cNvPicPr/>
          <p:nvPr/>
        </p:nvPicPr>
        <p:blipFill>
          <a:blip r:embed="rId13"/>
          <a:stretch/>
        </p:blipFill>
        <p:spPr>
          <a:xfrm>
            <a:off x="228600" y="228600"/>
            <a:ext cx="9540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Уравнение с двумя переменными а и х вида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F(x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a)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0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называется уравнением с переменной х и параметром а, если для любого значения а надо решить соответствующие частные уравнения относительно 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3024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шить уравнение для всех значений параметра а.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(а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-9а)х=а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5а + 6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йдем ДЗП: а – любое числ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йдем КЗП:а</a:t>
            </a:r>
            <a:r>
              <a:rPr b="0" lang="ru-RU" sz="29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9а=0, а=0, а=-3, а=3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шим соответствующие частные уравнения для каждого значения КЗП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 = 0, то 0х= 6, корней нет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= -3, то 0х = 30, корней нет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 = 3, то 0х =0, х =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4" descr="мордашка1"/>
          <p:cNvPicPr/>
          <p:nvPr/>
        </p:nvPicPr>
        <p:blipFill>
          <a:blip r:embed="rId1"/>
          <a:stretch/>
        </p:blipFill>
        <p:spPr>
          <a:xfrm>
            <a:off x="685800" y="228600"/>
            <a:ext cx="9540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мордашка1"/>
          <p:cNvPicPr/>
          <p:nvPr/>
        </p:nvPicPr>
        <p:blipFill>
          <a:blip r:embed="rId1"/>
          <a:stretch/>
        </p:blipFill>
        <p:spPr>
          <a:xfrm>
            <a:off x="533520" y="228600"/>
            <a:ext cx="954000" cy="10382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371600" y="1600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5а +6        (а -3) (а-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Х=                 =                      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9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– 9а           а(а-3) (а+3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 -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Х =      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+ 3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 уравнения в общих случаях, т.е.когда а≠0, а≠3, а≠-3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91" name="Group 13"/>
          <p:cNvGrpSpPr/>
          <p:nvPr/>
        </p:nvGrpSpPr>
        <p:grpSpPr>
          <a:xfrm>
            <a:off x="2133720" y="2971800"/>
            <a:ext cx="5333760" cy="1600200"/>
            <a:chOff x="2133720" y="2971800"/>
            <a:chExt cx="5333760" cy="1600200"/>
          </a:xfrm>
        </p:grpSpPr>
        <p:sp>
          <p:nvSpPr>
            <p:cNvPr id="292" name="Line 10"/>
            <p:cNvSpPr/>
            <p:nvPr/>
          </p:nvSpPr>
          <p:spPr>
            <a:xfrm>
              <a:off x="2133720" y="29718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4724280" y="29718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>
              <a:off x="3429000" y="45720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им ось парамет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446040" y="361476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6"/>
          <p:cNvSpPr/>
          <p:nvPr/>
        </p:nvSpPr>
        <p:spPr>
          <a:xfrm>
            <a:off x="2666880" y="3581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7"/>
          <p:cNvSpPr/>
          <p:nvPr/>
        </p:nvSpPr>
        <p:spPr>
          <a:xfrm>
            <a:off x="6553080" y="3581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8"/>
          <p:cNvSpPr/>
          <p:nvPr/>
        </p:nvSpPr>
        <p:spPr>
          <a:xfrm>
            <a:off x="4343400" y="3581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25146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4267080" y="3733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6477120" y="373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>
            <a:off x="4419720" y="2286000"/>
            <a:ext cx="1600200" cy="609480"/>
          </a:xfrm>
          <a:prstGeom prst="wedgeRoundRectCallout">
            <a:avLst>
              <a:gd name="adj1" fmla="val -48513"/>
              <a:gd name="adj2" fmla="val 151041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6705720" y="2362320"/>
            <a:ext cx="1600200" cy="609480"/>
          </a:xfrm>
          <a:prstGeom prst="wedgeRoundRectCallout">
            <a:avLst>
              <a:gd name="adj1" fmla="val -58037"/>
              <a:gd name="adj2" fmla="val 138541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5"/>
          <p:cNvSpPr/>
          <p:nvPr/>
        </p:nvSpPr>
        <p:spPr>
          <a:xfrm>
            <a:off x="2590920" y="2209680"/>
            <a:ext cx="1600200" cy="609840"/>
          </a:xfrm>
          <a:prstGeom prst="wedgeRoundRectCallout">
            <a:avLst>
              <a:gd name="adj1" fmla="val -42361"/>
              <a:gd name="adj2" fmla="val 170314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8686800" y="342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8"/>
          <p:cNvGrpSpPr/>
          <p:nvPr/>
        </p:nvGrpSpPr>
        <p:grpSpPr>
          <a:xfrm>
            <a:off x="3352680" y="4572000"/>
            <a:ext cx="4572000" cy="1066680"/>
            <a:chOff x="3352680" y="4572000"/>
            <a:chExt cx="4572000" cy="1066680"/>
          </a:xfrm>
        </p:grpSpPr>
        <p:grpSp>
          <p:nvGrpSpPr>
            <p:cNvPr id="308" name="Group 20"/>
            <p:cNvGrpSpPr/>
            <p:nvPr/>
          </p:nvGrpSpPr>
          <p:grpSpPr>
            <a:xfrm>
              <a:off x="3352680" y="4648320"/>
              <a:ext cx="4572000" cy="916920"/>
              <a:chOff x="3352680" y="4648320"/>
              <a:chExt cx="4572000" cy="916920"/>
            </a:xfrm>
          </p:grpSpPr>
          <p:sp>
            <p:nvSpPr>
              <p:cNvPr id="309" name="Rectangle 17"/>
              <p:cNvSpPr/>
              <p:nvPr/>
            </p:nvSpPr>
            <p:spPr>
              <a:xfrm>
                <a:off x="3352680" y="4648320"/>
                <a:ext cx="4572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                  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 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Х =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+ 3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9"/>
              <p:cNvSpPr/>
              <p:nvPr/>
            </p:nvSpPr>
            <p:spPr>
              <a:xfrm>
                <a:off x="4419360" y="510552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AutoShape 22"/>
            <p:cNvSpPr/>
            <p:nvPr/>
          </p:nvSpPr>
          <p:spPr>
            <a:xfrm>
              <a:off x="3733920" y="4572000"/>
              <a:ext cx="2361960" cy="10666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Line 24"/>
          <p:cNvSpPr/>
          <p:nvPr/>
        </p:nvSpPr>
        <p:spPr>
          <a:xfrm flipV="1">
            <a:off x="6172200" y="3657600"/>
            <a:ext cx="1600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5"/>
          <p:cNvSpPr/>
          <p:nvPr/>
        </p:nvSpPr>
        <p:spPr>
          <a:xfrm flipV="1">
            <a:off x="533412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6"/>
          <p:cNvSpPr/>
          <p:nvPr/>
        </p:nvSpPr>
        <p:spPr>
          <a:xfrm flipH="1" flipV="1">
            <a:off x="342900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7"/>
          <p:cNvSpPr/>
          <p:nvPr/>
        </p:nvSpPr>
        <p:spPr>
          <a:xfrm flipH="1" flipV="1">
            <a:off x="1371600" y="3657600"/>
            <a:ext cx="22860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лгоритм решения линейных уравнений с параметром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йти ДЗП ( допустимые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начения параметра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ДЗП привести уравнение к стандартному вид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йти КЗП и решить частные уравн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ить общие уравн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ести все решения на ось параметр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писать ответ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4" descr="Книга"/>
          <p:cNvPicPr/>
          <p:nvPr/>
        </p:nvPicPr>
        <p:blipFill>
          <a:blip r:embed="rId1"/>
          <a:stretch/>
        </p:blipFill>
        <p:spPr>
          <a:xfrm rot="1118400">
            <a:off x="6286680" y="1218960"/>
            <a:ext cx="2857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шить уравнения для всех значений параметра 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ах – 4 = 6а – 3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(а-4) (а+7) х = ( а+3) (а – 4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(с+2)</a:t>
            </a:r>
            <a:r>
              <a:rPr b="1" lang="ru-RU" sz="29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х– 2(с+6)(с+2) х=8-8( с+5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Picture 4" descr="Рисунок1"/>
          <p:cNvPicPr/>
          <p:nvPr/>
        </p:nvPicPr>
        <p:blipFill>
          <a:blip r:embed="rId1"/>
          <a:stretch/>
        </p:blipFill>
        <p:spPr>
          <a:xfrm>
            <a:off x="304920" y="-30492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6-11-27T08:22:2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