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5EA-AB88-47A3-BE3F-881B8B2B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16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87480" y="4270320"/>
            <a:ext cx="76816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02F-3CF8-4CF0-8F1B-EACA430C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8748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2372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9AB-E46B-4855-85F4-6F3EE712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84880" y="201744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81920" y="201744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87480" y="427032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84880" y="427032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81920" y="427032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C85-A2EB-45F3-B62B-E363DCE3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8495-E01C-4929-85E6-0283362F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87480" y="2017440"/>
            <a:ext cx="76816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2271-ACF2-4ECB-9D39-6592F1CF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16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385F-2A59-4FAF-933D-CC17CFF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5F6B-7644-4575-A84B-E3158EE0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D5B2-FE2C-4BCC-99B8-3F4AD46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120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DBC1-A030-4F73-878E-F8C3B2A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748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08A4-DBA9-4556-976E-B7B43A86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87480" y="2017440"/>
            <a:ext cx="76816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2C3-7274-4082-A0E1-038DDC18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2372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DAD1-AD2F-4628-BDF6-9E3084BC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87480" y="4270320"/>
            <a:ext cx="76816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72F2-2571-42A7-933C-3190465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16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87480" y="4270320"/>
            <a:ext cx="76816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4A24-2488-473D-A816-22AE27AA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8748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2372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8546-C278-4721-BF10-B2579785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84880" y="201744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81920" y="201744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87480" y="427032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84880" y="427032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81920" y="427032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E39B-6A71-4203-82F7-2880E6F4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87480" y="2017440"/>
            <a:ext cx="76816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16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16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959-273C-405B-9807-F79D7391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120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8748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2372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87480" y="4270320"/>
            <a:ext cx="76816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76816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87480" y="4270320"/>
            <a:ext cx="76816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8748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2372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84880" y="201744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81920" y="201744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87480" y="427032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84880" y="427032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81920" y="4270320"/>
            <a:ext cx="247320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FD1-2394-4ED9-851F-F3DAFAF5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FE3-8AF9-4440-AA06-3229C090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120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AC0-D3EA-4F63-80A4-C08C0932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748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AC1-8541-4CD8-94D0-7C82A5A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23720" y="427032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5E2-EDA1-4DD1-9708-37552588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748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3720" y="2017440"/>
            <a:ext cx="37483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87480" y="4270320"/>
            <a:ext cx="76816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E21-688E-4771-B362-07D466D3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15200" cy="2565360"/>
            <a:chOff x="3240" y="4267080"/>
            <a:chExt cx="9115200" cy="256536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15200" cy="256536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080" y="5896080"/>
              <a:ext cx="1231920" cy="799920"/>
              <a:chOff x="5599080" y="5896080"/>
              <a:chExt cx="1231920" cy="79992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920"/>
                <a:ext cx="819360" cy="492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5160" y="6094440"/>
                <a:ext cx="6919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4080" y="6145200"/>
                <a:ext cx="520560" cy="303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440" y="6183360"/>
                <a:ext cx="392040" cy="225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1440" y="6224760"/>
                <a:ext cx="280800" cy="1458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080"/>
                <a:ext cx="582480" cy="23004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840" y="6615000"/>
                <a:ext cx="679320" cy="810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080" y="6199200"/>
                <a:ext cx="117360" cy="31752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5680" y="5943600"/>
                <a:ext cx="1165320" cy="703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280" y="5905440"/>
                <a:ext cx="128520" cy="237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7120" y="6265800"/>
                <a:ext cx="109440" cy="604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2520"/>
              <a:ext cx="2554200" cy="1057320"/>
              <a:chOff x="2819520" y="5762520"/>
              <a:chExt cx="2554200" cy="105732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920" y="6242040"/>
                <a:ext cx="987480" cy="571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2000" y="6280200"/>
                <a:ext cx="836640" cy="500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840" y="6311880"/>
                <a:ext cx="769680" cy="4492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680" y="6340320"/>
                <a:ext cx="681120" cy="38448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680" y="6353280"/>
                <a:ext cx="630000" cy="35532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7120" y="6386400"/>
                <a:ext cx="461880" cy="2793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9040" y="6434280"/>
                <a:ext cx="336600" cy="1886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800" y="6499080"/>
                <a:ext cx="119160" cy="716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2200" y="6066000"/>
                <a:ext cx="689040" cy="268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8760" y="6113520"/>
                <a:ext cx="1390680" cy="706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5360"/>
                <a:ext cx="622080" cy="744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8680" y="6415200"/>
                <a:ext cx="147600" cy="37440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200"/>
                <a:ext cx="1299960" cy="2127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440" y="6113520"/>
                <a:ext cx="247320" cy="704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440" y="5952960"/>
                <a:ext cx="547920" cy="866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2520"/>
                <a:ext cx="1685880" cy="647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2080"/>
                <a:ext cx="131760" cy="346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29480"/>
                <a:ext cx="738000" cy="988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1640" y="5334120"/>
              <a:ext cx="2119320" cy="1276200"/>
              <a:chOff x="6551640" y="5334120"/>
              <a:chExt cx="2119320" cy="1276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5760" y="5398920"/>
                <a:ext cx="1881360" cy="1133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1640" y="5342040"/>
                <a:ext cx="838080" cy="1143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720" y="5334120"/>
                <a:ext cx="941400" cy="37440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7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094040" cy="1476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9240"/>
                <a:ext cx="203400" cy="51588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240" y="5751360"/>
                <a:ext cx="108000" cy="1191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920" y="5637240"/>
                <a:ext cx="1112760" cy="6588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280" y="5570640"/>
                <a:ext cx="1417680" cy="82080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920" y="5541840"/>
                <a:ext cx="555480" cy="810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6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6160"/>
                <a:ext cx="797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1080"/>
                <a:ext cx="682560" cy="40464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640" y="5792760"/>
                <a:ext cx="588960" cy="34596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480" y="5837400"/>
                <a:ext cx="449280" cy="2556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720" y="5869080"/>
                <a:ext cx="328680" cy="196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0040" y="5916600"/>
                <a:ext cx="176040" cy="1047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600"/>
              <a:ext cx="649440" cy="382680"/>
              <a:chOff x="8380440" y="4800600"/>
              <a:chExt cx="649440" cy="382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6200"/>
                <a:ext cx="582480" cy="1270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600"/>
                <a:ext cx="384120" cy="619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5760"/>
                <a:ext cx="71640" cy="2221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1280" y="5149800"/>
                <a:ext cx="279360" cy="46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600" y="4827600"/>
                <a:ext cx="231840" cy="2700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0560" y="4827600"/>
                <a:ext cx="270000" cy="3078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760" y="4854600"/>
                <a:ext cx="449280" cy="2700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640" y="4896000"/>
                <a:ext cx="333360" cy="182520"/>
                <a:chOff x="8540640" y="4896000"/>
                <a:chExt cx="333360" cy="182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640" y="4896000"/>
                  <a:ext cx="333360" cy="18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120" y="4917960"/>
                  <a:ext cx="262080" cy="13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400" y="4933800"/>
                  <a:ext cx="173160" cy="10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9360"/>
                  <a:ext cx="90720" cy="4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04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702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91AC2-71D6-4BF4-B7C6-9EBEC0A1ECF6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15200" cy="2565360"/>
            <a:chOff x="3240" y="4267080"/>
            <a:chExt cx="9115200" cy="256536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15200" cy="256536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080" y="5896080"/>
              <a:ext cx="1231920" cy="799920"/>
              <a:chOff x="5599080" y="5896080"/>
              <a:chExt cx="1231920" cy="79992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920"/>
                <a:ext cx="819360" cy="492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5160" y="6094440"/>
                <a:ext cx="6919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4080" y="6145200"/>
                <a:ext cx="520560" cy="303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440" y="6183360"/>
                <a:ext cx="392040" cy="225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440" y="6224760"/>
                <a:ext cx="280800" cy="1458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080"/>
                <a:ext cx="582480" cy="23004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840" y="6615000"/>
                <a:ext cx="679320" cy="810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080" y="6199200"/>
                <a:ext cx="117360" cy="31752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5680" y="5943600"/>
                <a:ext cx="1165320" cy="703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280" y="5905440"/>
                <a:ext cx="128520" cy="237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7120" y="6265800"/>
                <a:ext cx="109440" cy="604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2520"/>
              <a:ext cx="2554200" cy="1057320"/>
              <a:chOff x="2819520" y="5762520"/>
              <a:chExt cx="2554200" cy="1057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920" y="6242040"/>
                <a:ext cx="987480" cy="571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2000" y="6280200"/>
                <a:ext cx="836640" cy="500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840" y="6311880"/>
                <a:ext cx="769680" cy="4492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680" y="6340320"/>
                <a:ext cx="681120" cy="38448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680" y="6353280"/>
                <a:ext cx="630000" cy="35532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7120" y="6386400"/>
                <a:ext cx="461880" cy="2793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9040" y="6434280"/>
                <a:ext cx="336600" cy="1886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800" y="6499080"/>
                <a:ext cx="119160" cy="716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2200" y="6066000"/>
                <a:ext cx="689040" cy="268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8760" y="6113520"/>
                <a:ext cx="1390680" cy="706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5360"/>
                <a:ext cx="622080" cy="744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8680" y="6415200"/>
                <a:ext cx="147600" cy="37440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200"/>
                <a:ext cx="1299960" cy="2127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440" y="6113520"/>
                <a:ext cx="247320" cy="704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440" y="5952960"/>
                <a:ext cx="547920" cy="866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2520"/>
                <a:ext cx="1685880" cy="647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2080"/>
                <a:ext cx="131760" cy="346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29480"/>
                <a:ext cx="738000" cy="988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1640" y="5334120"/>
              <a:ext cx="2119320" cy="1276200"/>
              <a:chOff x="6551640" y="5334120"/>
              <a:chExt cx="2119320" cy="1276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5760" y="5398920"/>
                <a:ext cx="1881360" cy="1133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1640" y="5342040"/>
                <a:ext cx="838080" cy="1143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720" y="5334120"/>
                <a:ext cx="941400" cy="37440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7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094040" cy="1476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9240"/>
                <a:ext cx="203400" cy="51588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240" y="5751360"/>
                <a:ext cx="108000" cy="1191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920" y="5637240"/>
                <a:ext cx="1112760" cy="6588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280" y="5570640"/>
                <a:ext cx="1417680" cy="82080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920" y="5541840"/>
                <a:ext cx="555480" cy="810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6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6160"/>
                <a:ext cx="797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1080"/>
                <a:ext cx="682560" cy="40464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640" y="5792760"/>
                <a:ext cx="588960" cy="34596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480" y="5837400"/>
                <a:ext cx="449280" cy="2556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720" y="5869080"/>
                <a:ext cx="328680" cy="196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0040" y="5916600"/>
                <a:ext cx="176040" cy="1047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600"/>
              <a:ext cx="649440" cy="382680"/>
              <a:chOff x="8380440" y="4800600"/>
              <a:chExt cx="649440" cy="382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6200"/>
                <a:ext cx="582480" cy="1270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600"/>
                <a:ext cx="384120" cy="619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5760"/>
                <a:ext cx="71640" cy="2221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5149800"/>
                <a:ext cx="279360" cy="46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600" y="4827600"/>
                <a:ext cx="231840" cy="2700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0560" y="4827600"/>
                <a:ext cx="270000" cy="3078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760" y="4854600"/>
                <a:ext cx="449280" cy="2700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640" y="4896000"/>
                <a:ext cx="333360" cy="182520"/>
                <a:chOff x="8540640" y="4896000"/>
                <a:chExt cx="333360" cy="182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640" y="4896000"/>
                  <a:ext cx="333360" cy="18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120" y="4917960"/>
                  <a:ext cx="262080" cy="13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400" y="4933800"/>
                  <a:ext cx="173160" cy="10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9360"/>
                  <a:ext cx="90720" cy="4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4684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8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0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8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71A942-B017-4402-B815-A96E9976ADEC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120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480" y="2017440"/>
            <a:ext cx="76816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199280" y="5670720"/>
            <a:ext cx="1785960" cy="95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9640" y="360360"/>
            <a:ext cx="8217000" cy="59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When you look at your life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the greatest happiness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are family happinesses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57280" y="1219320"/>
            <a:ext cx="6659640" cy="55306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0000" y="-539640"/>
            <a:ext cx="77630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e6e6e6"/>
                </a:solidFill>
                <a:latin typeface="Arial"/>
              </a:rPr>
              <a:t>Family tree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79640" y="1618920"/>
            <a:ext cx="40114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00080" y="3165480"/>
            <a:ext cx="89647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17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66ffff"/>
                </a:solidFill>
                <a:latin typeface="Monotype Corsiva"/>
              </a:rPr>
              <a:t>Various people-various ways</a:t>
            </a:r>
            <a:endParaRPr b="1" i="1" lang="en-US" sz="5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57240" y="1600200"/>
            <a:ext cx="3008160" cy="2152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19560" y="1600200"/>
            <a:ext cx="3103560" cy="2152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667400" y="4091040"/>
            <a:ext cx="4010040" cy="1884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47800" y="3957480"/>
            <a:ext cx="3228840" cy="21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840360" y="4500720"/>
            <a:ext cx="2173320" cy="2152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580000" y="1619280"/>
            <a:ext cx="311148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8920" y="522360"/>
            <a:ext cx="882036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e6e6e6"/>
                </a:solidFill>
                <a:latin typeface="Franklin Gothic Demi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A. The speaker is close to all the members of the family and they support each other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B. The speaker has parents which both want to bring up their children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C. The speaker is from a large family and they have some family traditions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D. The speaker has family problems and misunderstanding with parents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Franklin Gothic Demi"/>
                <a:ea typeface="Times New Roman"/>
              </a:rPr>
              <a:t> </a:t>
            </a:r>
            <a:endParaRPr b="1" i="1" lang="en-US" sz="28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46120"/>
                <a:tab algn="l" pos="1460520"/>
                <a:tab algn="l" pos="2374920"/>
                <a:tab algn="l" pos="3289320"/>
                <a:tab algn="l" pos="4203720"/>
                <a:tab algn="l" pos="5118120"/>
                <a:tab algn="l" pos="6032520"/>
                <a:tab algn="l" pos="6946920"/>
                <a:tab algn="l" pos="7861320"/>
                <a:tab algn="l" pos="8775720"/>
                <a:tab algn="l" pos="9690120"/>
                <a:tab algn="l" pos="9968040"/>
                <a:tab algn="l" pos="10418760"/>
                <a:tab algn="l" pos="10420200"/>
                <a:tab algn="l" pos="10422000"/>
                <a:tab algn="l" pos="10423440"/>
                <a:tab algn="l" pos="10425240"/>
                <a:tab algn="l" pos="10426680"/>
                <a:tab algn="l" pos="1042812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e6e6e6"/>
                </a:solidFill>
                <a:latin typeface="Monotype Corsiva"/>
              </a:rPr>
              <a:t>	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47840" y="4724280"/>
          <a:ext cx="5074920" cy="731520"/>
        </p:xfrm>
        <a:graphic>
          <a:graphicData uri="http://schemas.openxmlformats.org/drawingml/2006/table">
            <a:tbl>
              <a:tblPr/>
              <a:tblGrid>
                <a:gridCol w="1350720"/>
                <a:gridCol w="868320"/>
                <a:gridCol w="908280"/>
                <a:gridCol w="934920"/>
                <a:gridCol w="1012680"/>
              </a:tblGrid>
              <a:tr h="635760"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P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805680"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TAT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18680" bIns="46800" anchor="t">
                      <a:noAutofit/>
                    </a:bodyPr>
                    <a:p>
                      <a:pPr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580000" y="3780000"/>
            <a:ext cx="3287880" cy="2984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" y="130320"/>
            <a:ext cx="8217000" cy="59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546120"/>
                <a:tab algn="l" pos="1460520"/>
                <a:tab algn="l" pos="2374920"/>
                <a:tab algn="l" pos="3289320"/>
                <a:tab algn="l" pos="4203720"/>
                <a:tab algn="l" pos="5118120"/>
                <a:tab algn="l" pos="6032520"/>
                <a:tab algn="l" pos="6946920"/>
                <a:tab algn="l" pos="7861320"/>
                <a:tab algn="l" pos="8775720"/>
                <a:tab algn="l" pos="9690120"/>
                <a:tab algn="l" pos="9968040"/>
                <a:tab algn="l" pos="10418760"/>
                <a:tab algn="l" pos="10420200"/>
                <a:tab algn="l" pos="10422000"/>
                <a:tab algn="l" pos="10423440"/>
                <a:tab algn="l" pos="10425240"/>
                <a:tab algn="l" pos="10426680"/>
                <a:tab algn="l" pos="10428120"/>
                <a:tab algn="l" pos="10779120"/>
                <a:tab algn="l" pos="1078056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C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hildren and adults in harmonious families are happy and sincere. Each family could be a happy one if  its members  find the way of spending  pastime togeth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09-02-18T19:29:06Z</dcterms:modified>
  <cp:revision>6</cp:revision>
  <dc:subject/>
  <dc:title>Исследовательская работа по правоведению:</dc:title>
</cp:coreProperties>
</file>