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6C7-13C6-4DCF-88A7-F1C8F7DF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01C-8CCD-4FCD-8C2C-4990C44A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45F-5D03-4FD7-AEE1-D02AEA6D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B67-A2BB-4D9B-9AD7-D4353254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F5D-3761-45EA-AE02-2B9F3772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5B1-B013-44F6-A195-78A4659F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1BF-C697-4899-AE13-5F1A57A2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80D-59FC-477A-9081-875347C3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26A-447A-4859-9592-0DB92DE4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849-0C31-41DF-BDF6-BC1601E8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F52-C90A-40A8-9E5B-B12587E8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965-024C-4F5E-83E3-DD65E6DB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BDFF-00B5-4F1A-9A7C-CB66899E81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00000"/>
                </a:solidFill>
                <a:latin typeface="Times New Roman"/>
              </a:rPr>
              <a:t>Урок-обобщ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076280"/>
            <a:ext cx="481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Автор Цыбикова Сэндэма Дуга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учитель СОСОШ№2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С.Сосново-Озёр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19280" y="647640"/>
          <a:ext cx="7956360" cy="6153120"/>
        </p:xfrm>
        <a:graphic>
          <a:graphicData uri="http://schemas.openxmlformats.org/drawingml/2006/table">
            <a:tbl>
              <a:tblPr/>
              <a:tblGrid>
                <a:gridCol w="3051000"/>
                <a:gridCol w="4905360"/>
              </a:tblGrid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Отв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.Что называется числовым выражением? 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Запись, которая состоит из 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чисел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, знаков арифметических действий   и скобок,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называется числовым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ыражением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. Следует понимать, что одно 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число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тоже будет являться 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числовым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ыраж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2.Что называется значением числового выражени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Результат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 выполнения действий над числами в числовом выражении называется значением числового выра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3.Что называется выражением с переменной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OpenSans"/>
                          <a:ea typeface="Calibri"/>
                        </a:rPr>
                        <a:t>Выражением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OpenSans"/>
                          <a:ea typeface="Calibri"/>
                        </a:rPr>
                        <a:t> называется запись, состоящая из чисел, букв, знаков арифметических действий и скобок, указывающих на порядок выполнения действ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4.Что называется уравнение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Равенство с перемен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5.Что называется корнем уравнени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Значение переменной, при котором 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уравнение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обращается в верное равен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6.Что называется математической моделью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Перевод условия задачи на математиче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468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7.Какая связь существует между понятиями: «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Числовые выражения.» «Выражения с переменной.» «Уравнения.» «Математическая модель.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8.Что значить упростить числовое  и буквенное  выражени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3" name="Rectangle 2"/>
          <p:cNvSpPr/>
          <p:nvPr/>
        </p:nvSpPr>
        <p:spPr>
          <a:xfrm>
            <a:off x="719280" y="260640"/>
            <a:ext cx="84247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Calibri"/>
              </a:rPr>
              <a:t>Опросный лист. Числовые выражения. Выражения с переменной. Уравнения. Математическая модель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68360" y="11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Числовые выражения. Выражения с переменной. Уравнения. Математическая мод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формируем понятийный аппарат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роанализируй, установи  связь между этими понятиям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окаж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68000" y="0"/>
            <a:ext cx="844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652:28+410)∙7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57120:102∙10-55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36108:354+80∙137             Установите свя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3х+5х+6х +3, при х=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)(715-х)∙83=49 8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)19 698: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+6)=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)При испытании авиамоделей одна из них летела со скоростью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 м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/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продержалась в воздухе 40 секунд.Скорость второй была на 2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/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о продержалась в воздух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кунд.На сколько метров первая модель пролетела больше,чем вторая?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=4, в=2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68000" y="0"/>
            <a:ext cx="844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652:28+410)∙7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57120:102∙10-55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36108:354+80∙137             Установите свя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3х+5х+6х +3, при х=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)(715-х)∙83=49 8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)19 698: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+6)=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)При испытании авиамоделей одна из них летела со скоростью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 м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/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продержалась в воздухе 40 секунд.Скорость второй была на 2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/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о продержалась в воздух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кунд.На сколько метров первая модель пролетела больше,чем вторая?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=4, в=2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19280" y="647640"/>
          <a:ext cx="7956360" cy="6229440"/>
        </p:xfrm>
        <a:graphic>
          <a:graphicData uri="http://schemas.openxmlformats.org/drawingml/2006/table">
            <a:tbl>
              <a:tblPr/>
              <a:tblGrid>
                <a:gridCol w="3051000"/>
                <a:gridCol w="4905360"/>
              </a:tblGrid>
              <a:tr h="3906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Отв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.Что называется числовым выражением? 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Запись, которая состоит из 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чисел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, знаков арифметических действий   и скобок,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называется числовым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ыражением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. Следует понимать, что одно 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число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тоже будет являться 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числовым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ыраж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2.Что называется значением числового выражени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Результат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 выполнения действий над числами в числовом выражении называется значением числового выра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3.Что называется выражением с переменной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OpenSans"/>
                          <a:ea typeface="Calibri"/>
                        </a:rPr>
                        <a:t>Выражением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OpenSans"/>
                          <a:ea typeface="Calibri"/>
                        </a:rPr>
                        <a:t> называется запись, состоящая из чисел, букв, знаков арифметических действий и скобок, указывающих на порядок выполнения действ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4.Что называется уравнение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Равенство с перемен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5.Что называется корнем уравнени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Значение переменной, при котором 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уравнение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обращается в верное равен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6.Что называется математической моделью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Перевод условия задачи на математиче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244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7.Какая связь существует между понятиями: «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Числовые выражения.» «Выражения с переменной.» «Уравнения.» «Математическая модель.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Если вместо переменной подставить число, то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выражение с переменной 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обращается в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числовое выражение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Выражение с переменной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 может представлять правую или левую часть уравн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Значение числового выражения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 может представлять правую или левую часть уравн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Проверка уравнения приводит к нахождению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значения  числового выра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Математическая модель представляет собой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выражение с перемен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8.Что значить упростить числовое  и буквенное  выражени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Применить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переместительные свойства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 сложения и умножения,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сочетательные свойства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 сложения и умножения,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Calibri"/>
                        </a:rPr>
                        <a:t>распределительное св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3" name="Rectangle 2"/>
          <p:cNvSpPr/>
          <p:nvPr/>
        </p:nvSpPr>
        <p:spPr>
          <a:xfrm>
            <a:off x="719280" y="260640"/>
            <a:ext cx="84247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Calibri"/>
              </a:rPr>
              <a:t>Опросный лист. Числовые выражения. Выражения с переменной. Уравнения. Математическая модель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41080" y="3330720"/>
            <a:ext cx="15694200" cy="935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Физкультминут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https://sites.google.com/site/tch5464/_/rsrc/1472876854835/materialy-s-uroka/fizkultminutka/%D0%BC%D0%B8%D1%82.jpg?height=300&amp;width=400"/>
          <p:cNvPicPr/>
          <p:nvPr/>
        </p:nvPicPr>
        <p:blipFill>
          <a:blip r:embed="rId2"/>
          <a:stretch/>
        </p:blipFill>
        <p:spPr>
          <a:xfrm>
            <a:off x="457200" y="474840"/>
            <a:ext cx="787572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роверь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2" name="TextBox 2"/>
          <p:cNvSpPr/>
          <p:nvPr/>
        </p:nvSpPr>
        <p:spPr>
          <a:xfrm>
            <a:off x="2268360" y="1197000"/>
            <a:ext cx="56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Comic Sans MS"/>
              </a:rPr>
              <a:t>Определи своё на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4140360" y="4219560"/>
            <a:ext cx="129528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718320" y="2365200"/>
            <a:ext cx="129528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435640" y="3284640"/>
            <a:ext cx="129528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2832120" y="5084640"/>
            <a:ext cx="1308240" cy="2376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6718320" y="2365200"/>
            <a:ext cx="0" cy="9144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5435640" y="3284640"/>
            <a:ext cx="0" cy="9349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4140360" y="4219560"/>
            <a:ext cx="12600" cy="890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2843280" y="5084640"/>
            <a:ext cx="0" cy="9144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6794640" y="251784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отлич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5475960" y="3691080"/>
            <a:ext cx="347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я был(а) уверен(а) в себ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4203720" y="450864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мне было труд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3105000" y="5229360"/>
            <a:ext cx="14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я устал(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smile18"/>
          <p:cNvPicPr/>
          <p:nvPr/>
        </p:nvPicPr>
        <p:blipFill>
          <a:blip r:embed="rId2"/>
          <a:stretch/>
        </p:blipFill>
        <p:spPr>
          <a:xfrm>
            <a:off x="1547640" y="4365720"/>
            <a:ext cx="789120" cy="7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5255 C 0.00208 -0.07986 0.00746 -0.10301 0.01458 -0.12847 C 0.0177 -0.13935 0.01875 -0.15139 0.02395 -0.16111 C 0.02569 -0.16875 0.02795 -0.17732 0.03211 -0.18287 C 0.03316 -0.18588 0.03489 -0.19097 0.03663 -0.19375 C 0.03836 -0.19653 0.04097 -0.19838 0.04253 -0.20139 C 0.04878 -0.21435 0.0592 -0.22847 0.07048 -0.23241 C 0.08177 -0.24213 0.10017 -0.23611 0.11111 -0.23542 C 0.11614 -0.23334 0.12152 -0.22662 0.125 -0.22153 C 0.12847 -0.20834 0.13437 -0.19676 0.13663 -0.18287 C 0.13593 -0.16412 0.13802 -0.15718 0.13316 -0.14398 E">
                                      <p:cBhvr>
                                        <p:cTn id="1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16 -0.14398 C 0.13351 -0.14884 0.13421 -0.15347 0.13438 -0.1581 C 0.1349 -0.17338 0.13473 -0.18843 0.13542 -0.20347 C 0.13577 -0.21204 0.13889 -0.22176 0.14011 -0.23033 C 0.14115 -0.2382 0.1415 -0.24514 0.14619 -0.2507 C 0.14827 -0.26019 0.15139 -0.2706 0.15556 -0.27894 C 0.15955 -0.29676 0.16945 -0.32523 0.17917 -0.33843 C 0.18542 -0.34699 0.1941 -0.35046 0.20174 -0.35579 C 0.22014 -0.35509 0.25712 -0.3625 0.27414 -0.33843 C 0.27709 -0.32732 0.28403 -0.32037 0.28716 -0.3088 C 0.29028 -0.29746 0.28716 -0.28472 0.28716 -0.27269 E">
                                      <p:cBhvr>
                                        <p:cTn id="15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437 -0.27269 C 0.28541 -0.31135 0.28402 -0.30903 0.29253 -0.33611 C 0.29444 -0.35047 0.30121 -0.36366 0.30642 -0.37639 C 0.30764 -0.38264 0.30833 -0.38658 0.31111 -0.3919 C 0.31354 -0.40347 0.31614 -0.40857 0.32031 -0.41991 C 0.32152 -0.42315 0.32482 -0.42454 0.32621 -0.42755 C 0.32934 -0.43426 0.33437 -0.44074 0.3401 -0.44306 C 0.34809 -0.45047 0.35781 -0.45023 0.36684 -0.45394 C 0.37829 -0.45347 0.39965 -0.4551 0.41215 -0.44931 C 0.41788 -0.44213 0.41076 -0.45023 0.41805 -0.44468 C 0.42916 -0.43635 0.421 -0.44005 0.42847 -0.43704 C 0.4375 -0.425 0.43663 -0.41875 0.43663 -0.40139 E">
                                      <p:cBhvr>
                                        <p:cTn id="1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663 -0.40139 C 0.43628 -0.40648 0.43541 -0.41181 0.43541 -0.4169 C 0.43541 -0.44815 0.43489 -0.46088 0.4401 -0.48519 C 0.44166 -0.49213 0.44201 -0.50162 0.446 -0.50695 C 0.44739 -0.5169 0.45347 -0.53218 0.45764 -0.54097 C 0.46284 -0.55208 0.46788 -0.56875 0.475 -0.57824 C 0.47864 -0.5831 0.48298 -0.58727 0.48663 -0.59213 C 0.49045 -0.59722 0.49288 -0.60301 0.49826 -0.60602 C 0.50399 -0.60926 0.51909 -0.61435 0.525 -0.61528 C 0.52725 -0.61505 0.54427 -0.6132 0.54704 -0.61227 C 0.55191 -0.61088 0.55121 -0.60857 0.5552 -0.60602 C 0.56527 -0.59931 0.55208 -0.60996 0.56215 -0.60301 C 0.56718 -0.59954 0.57066 -0.59607 0.57621 -0.59375 C 0.57864 -0.58866 0.58055 -0.58611 0.58437 -0.58287 C 0.58576 -0.54815 0.58541 -0.56644 0.58541 -0.52847 E">
                                      <p:cBhvr>
                                        <p:cTn id="2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Спасибо за урок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8240" y="2133720"/>
            <a:ext cx="8280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«Умение мыслить математически – одна из благороднейших способностей человека.»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                </a:t>
            </a: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Бернард Шо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" name="Picture 7" descr="фото Бернард Шоу"/>
          <p:cNvPicPr/>
          <p:nvPr/>
        </p:nvPicPr>
        <p:blipFill>
          <a:blip r:embed="rId2"/>
          <a:stretch/>
        </p:blipFill>
        <p:spPr>
          <a:xfrm>
            <a:off x="4943520" y="4176720"/>
            <a:ext cx="2076480" cy="155592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1042920" y="4176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Ирландский драматург, философ и проза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305880" y="-115200"/>
            <a:ext cx="25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ирландский</a:t>
            </a:r>
            <a:r>
              <a:rPr b="0" lang="ru-RU" sz="9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0" lang="ru-RU" sz="900" spc="-1" strike="noStrike">
                <a:solidFill>
                  <a:srgbClr val="333333"/>
                </a:solidFill>
                <a:latin typeface="Arial"/>
              </a:rPr>
              <a:t>драматург, философ и прозаик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963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« Вычислительная культура находит повсеместное применение, является фундаментом изучения математики    </a:t>
            </a:r>
            <a:r>
              <a:rPr b="0" lang="ru-RU" sz="3600" spc="-1" strike="noStrike">
                <a:solidFill>
                  <a:srgbClr val="002060"/>
                </a:solidFill>
                <a:latin typeface="Georgia"/>
              </a:rPr>
              <a:t>Характеризуется правильностью,    осознанностью, рациональностью, обобщенностью, автоматизмом, прочностью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Прямоугольник 3"/>
          <p:cNvSpPr/>
          <p:nvPr/>
        </p:nvSpPr>
        <p:spPr>
          <a:xfrm>
            <a:off x="4719600" y="4594320"/>
            <a:ext cx="251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йтман П.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468360" y="46620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Умение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ешать  задач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    есть искусство,  приобретающееся  практикой, подобно, скажем,   плаванию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Джордж  Пой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403280" y="25797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Теория без практики (упражнения) и практика без теории есть  ничто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8" name="Picture 2" descr="Протагор"/>
          <p:cNvPicPr/>
          <p:nvPr/>
        </p:nvPicPr>
        <p:blipFill>
          <a:blip r:embed="rId2"/>
          <a:stretch/>
        </p:blipFill>
        <p:spPr>
          <a:xfrm>
            <a:off x="6012000" y="3195720"/>
            <a:ext cx="2190600" cy="28321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954000" y="35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таго́р (др.-греч. Πρωταγόρας, ок. 490 до н. э. — ок. 420 до н. э.) из Абдер — древнегреческий философ, виднейший представи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Сформулируйте  цель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сить вычислительную культу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ь способность решать задачи, составлять математическую мод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ть  теоретическое мыш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Устные упражн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1\AppData\Local\Temp\Rar$DI00.544\6-1.jpg"/>
          <p:cNvPicPr/>
          <p:nvPr/>
        </p:nvPicPr>
        <p:blipFill>
          <a:blip r:embed="rId2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64600"/>
            <a:ext cx="828036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Проверка домашнего зад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3668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143 5) 6)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) (60а -30 ):5=18     6)9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56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(14 -в)=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7) (с:9)∙15-47=28       Проверка   Вопросы  Оце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07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Для столовой закупают на неделю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атонов хлеба .Сколько батонов хлеба надо закупить на 4 дня при постоянном расходе хлеба в день?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=280) Вопрос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це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C:\Users\1\AppData\Local\Temp\Rar$DI00.544\6-1.jpg"/>
          <p:cNvPicPr/>
          <p:nvPr/>
        </p:nvPicPr>
        <p:blipFill>
          <a:blip r:embed="rId1"/>
          <a:srcRect l="0" t="0" r="93208" b="0"/>
          <a:stretch/>
        </p:blipFill>
        <p:spPr>
          <a:xfrm>
            <a:off x="-165240" y="0"/>
            <a:ext cx="6336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Windows User</cp:lastModifiedBy>
  <dcterms:modified xsi:type="dcterms:W3CDTF">2016-11-23T15:21:28Z</dcterms:modified>
  <cp:revision>64</cp:revision>
  <dc:subject/>
  <dc:title>Слайд 1</dc:title>
</cp:coreProperties>
</file>