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A2BA9-0959-4CE0-BA92-051C9852C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7FC97-A0F8-4B86-BC66-0F2D5B61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94057-B886-4C31-9C88-AD01293C0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99250-EB34-49EF-AAC0-94A8DA0C2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520B-B040-4995-95BB-C927736FD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99FA4-A6D4-47E1-9D8A-DF6CDD6E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B6B7-54AB-471D-9D4F-0A6894A7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4878-55D0-4EAD-A9C2-FA6D4039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7296-5538-406A-AD4F-94DBF0D8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A3E4-8BD6-440D-A4EB-CABCC879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4F73-E91B-4402-8453-3EB262DD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60738-4DDA-46CE-AA4C-9C1CFBCA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B2EE-CCD7-45E5-B410-454AA787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5C1B1-7A58-4BDE-A393-2CD5EF25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346D-80A8-4315-8AAF-AC528A8C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516E-A6BC-47EE-9E33-C95298054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6D68F-ED73-4B02-901D-21D2714FA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66FF9-F699-44DA-B852-A9D87249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A5E20-B99A-4CC6-A2C4-FFC8BE4C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54B78-45D3-4ECE-AAD8-23E860B9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B01AF-284D-421B-82DD-D84B6D6A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9DE48-9103-4C45-B15F-2C32B4AD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1AAE1-523C-4F3A-8232-FD3E06BE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A1013-2CCD-4011-BD43-02D8DEC3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B833-03C2-4773-9478-530AC022C7C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33E6-E7D5-483A-8F6C-501C1B135B5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орис Леонидович Пастернак (1890-1960)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езентация к уроку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9 класс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ГБОУ  СОШ №20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Фрунзенского района  СП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Учитель-Стрельцова Э.Н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3044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енные г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00720" y="1988640"/>
            <a:ext cx="4327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943 г. Пастернак создает цикл «Стихи о войне», включённый в книгу «На ранних поезда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ле войны опубликовал ещё две книги стихов: «Земной простор» (1945) и  «Избранные стихи и поэмы» (194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"/>
          <p:cNvPicPr/>
          <p:nvPr/>
        </p:nvPicPr>
        <p:blipFill>
          <a:blip r:embed="rId1"/>
          <a:stretch/>
        </p:blipFill>
        <p:spPr>
          <a:xfrm>
            <a:off x="352440" y="549360"/>
            <a:ext cx="3776760" cy="51130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8"/>
          <p:cNvSpPr/>
          <p:nvPr/>
        </p:nvSpPr>
        <p:spPr>
          <a:xfrm>
            <a:off x="755280" y="5927760"/>
            <a:ext cx="315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43 г. Во время поездки на фрон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составе группы писате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95640" y="333360"/>
            <a:ext cx="5256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Доктор Живаго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635280" y="1483920"/>
            <a:ext cx="518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1930-1940 Пастернак мечтает о настоящей большой прозе, о книге, которая «есть кубический кусок горячей, дымящейся совести». И вот с 1945 по 1955 в муках рождается роман Доктор Живаго, во многом автобиографическое повествование о судьбе русской интеллигенции в первой половине 20 в., особенно в годы Гражданской вой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лавный персонаж, Юрий Живаго, - лирический герой поэта Бориса Пастернака; он врач, но после его смерти остается тонкая книжка стихов, составившая заключительную часть ром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Рисунок"/>
          <p:cNvPicPr/>
          <p:nvPr/>
        </p:nvPicPr>
        <p:blipFill>
          <a:blip r:embed="rId1"/>
          <a:stretch/>
        </p:blipFill>
        <p:spPr>
          <a:xfrm>
            <a:off x="755640" y="1700280"/>
            <a:ext cx="27147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амятники Борису Пастерна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067280" y="1916280"/>
            <a:ext cx="4541760" cy="40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мер Пастернак 30 мая 1960 от рака легких в Переделки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рис Пастернак был похоронен на Переделкинском кладбищ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(в то время это было небольшое скромное сельское кладбище)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тор памятника на его могиле - скульптор Сарра Лебеде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9"/>
          <p:cNvSpPr/>
          <p:nvPr/>
        </p:nvSpPr>
        <p:spPr>
          <a:xfrm>
            <a:off x="395280" y="6021360"/>
            <a:ext cx="36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амятник поэту Борису Пастернаку в Перми. Скульптор Елена Мун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295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4500720" y="1628640"/>
            <a:ext cx="345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орис Леонидович    Пастерна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(1890 – 196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18248-0"/>
          <p:cNvPicPr/>
          <p:nvPr/>
        </p:nvPicPr>
        <p:blipFill>
          <a:blip r:embed="rId1"/>
          <a:stretch/>
        </p:blipFill>
        <p:spPr>
          <a:xfrm>
            <a:off x="1258920" y="260280"/>
            <a:ext cx="267660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397044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ет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284360" y="620280"/>
            <a:ext cx="46083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Русский поэт и прозаик Борис Леонидович Пастернак родился 29 января (10 февраля) 1890 года  в известной в Москве еврейской семье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тец поэта, Леонид Пастернак, был академиком живописи, преподавателем Училища живописи, ваяния и зодчества, специализировался на портретной живописи, писал портреты многих известных людей, в том числе и Толстого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Мать поэта, урожденная Роза Кауфман, известная пианистка, отказалась от карьеры музыканта, чтобы воспитывать детей: Бориса, его брата и двух сестёр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0" descr="200px-Pasternak_self_wife"/>
          <p:cNvPicPr/>
          <p:nvPr/>
        </p:nvPicPr>
        <p:blipFill>
          <a:blip r:embed="rId1"/>
          <a:stretch/>
        </p:blipFill>
        <p:spPr>
          <a:xfrm>
            <a:off x="826920" y="1557360"/>
            <a:ext cx="32403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gz1s"/>
          <p:cNvPicPr/>
          <p:nvPr/>
        </p:nvPicPr>
        <p:blipFill>
          <a:blip r:embed="rId1"/>
          <a:stretch/>
        </p:blipFill>
        <p:spPr>
          <a:xfrm>
            <a:off x="3206880" y="404640"/>
            <a:ext cx="5937120" cy="6453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95280" y="549000"/>
            <a:ext cx="424836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браз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2746440" cy="43214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3276720" y="1273320"/>
            <a:ext cx="58672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ле окончания московской гимназии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909 поступает на историко-филологический факультет Московского университета, серьёзно увлекается философи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ля усовершенствования философских знаний в 1912 едет в Германию, где семестр учится в Марбургском университете. Тогда же им была предпринята поездка в Швейцарию и Итал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возвращении в Москву заканчивает университет в 1913. Охладев к философии, Пастернак полностью отдается поэтическому искусству, которое становится делом его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56520" y="5734080"/>
            <a:ext cx="322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908 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пускник Пятой Московской гимназ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42920" y="476280"/>
            <a:ext cx="39704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ОБЕЛЕВСКАЯ ПРЕМ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446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00007d"/>
                </a:solidFill>
                <a:latin typeface="Arial"/>
              </a:rPr>
              <a:t>Я пропал, как зверь в загоне.</a:t>
            </a:r>
            <a:br>
              <a:rPr sz="2000"/>
            </a:br>
            <a:r>
              <a:rPr b="0" i="1" lang="ru-RU" sz="2000" spc="-1" strike="noStrike">
                <a:solidFill>
                  <a:srgbClr val="00007d"/>
                </a:solidFill>
                <a:latin typeface="Arial"/>
              </a:rPr>
              <a:t>Где-то люди, воля, свет,</a:t>
            </a:r>
            <a:br>
              <a:rPr sz="2000"/>
            </a:br>
            <a:r>
              <a:rPr b="0" i="1" lang="ru-RU" sz="2000" spc="-1" strike="noStrike">
                <a:solidFill>
                  <a:srgbClr val="00007d"/>
                </a:solidFill>
                <a:latin typeface="Arial"/>
              </a:rPr>
              <a:t>А за мною шум погони,</a:t>
            </a:r>
            <a:br>
              <a:rPr sz="2000"/>
            </a:br>
            <a:r>
              <a:rPr b="0" i="1" lang="ru-RU" sz="2000" spc="-1" strike="noStrike">
                <a:solidFill>
                  <a:srgbClr val="00007d"/>
                </a:solidFill>
                <a:latin typeface="Arial"/>
              </a:rPr>
              <a:t>Мне наружу ходу нет.</a:t>
            </a: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00007d"/>
                </a:solidFill>
                <a:latin typeface="Arial"/>
              </a:rPr>
              <a:t>Темный лес и берег пруда,</a:t>
            </a:r>
            <a:br>
              <a:rPr sz="2000"/>
            </a:br>
            <a:r>
              <a:rPr b="0" i="1" lang="ru-RU" sz="2000" spc="-1" strike="noStrike">
                <a:solidFill>
                  <a:srgbClr val="00007d"/>
                </a:solidFill>
                <a:latin typeface="Arial"/>
              </a:rPr>
              <a:t>Ели сваленной бревно.</a:t>
            </a:r>
            <a:br>
              <a:rPr sz="2000"/>
            </a:br>
            <a:r>
              <a:rPr b="0" i="1" lang="ru-RU" sz="2000" spc="-1" strike="noStrike">
                <a:solidFill>
                  <a:srgbClr val="00007d"/>
                </a:solidFill>
                <a:latin typeface="Arial"/>
              </a:rPr>
              <a:t>Путь отрезан отовсюду.</a:t>
            </a:r>
            <a:br>
              <a:rPr sz="2000"/>
            </a:br>
            <a:r>
              <a:rPr b="0" i="1" lang="ru-RU" sz="2000" spc="-1" strike="noStrike">
                <a:solidFill>
                  <a:srgbClr val="00007d"/>
                </a:solidFill>
                <a:latin typeface="Arial"/>
              </a:rPr>
              <a:t>Будь что будет, все равно.</a:t>
            </a: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00007d"/>
                </a:solidFill>
                <a:latin typeface="Arial"/>
              </a:rPr>
              <a:t>Что же сделал я за пакость,</a:t>
            </a:r>
            <a:br>
              <a:rPr sz="2000"/>
            </a:br>
            <a:r>
              <a:rPr b="0" i="1" lang="ru-RU" sz="2000" spc="-1" strike="noStrike">
                <a:solidFill>
                  <a:srgbClr val="00007d"/>
                </a:solidFill>
                <a:latin typeface="Arial"/>
              </a:rPr>
              <a:t>Я убийца и злодей?</a:t>
            </a:r>
            <a:br>
              <a:rPr sz="2000"/>
            </a:br>
            <a:r>
              <a:rPr b="0" i="1" lang="ru-RU" sz="2000" spc="-1" strike="noStrike">
                <a:solidFill>
                  <a:srgbClr val="00007d"/>
                </a:solidFill>
                <a:latin typeface="Arial"/>
              </a:rPr>
              <a:t>Я весь мир заставил плакать</a:t>
            </a:r>
            <a:br>
              <a:rPr sz="2000"/>
            </a:br>
            <a:r>
              <a:rPr b="0" i="1" lang="ru-RU" sz="2000" spc="-1" strike="noStrike">
                <a:solidFill>
                  <a:srgbClr val="00007d"/>
                </a:solidFill>
                <a:latin typeface="Arial"/>
              </a:rPr>
              <a:t>Над красой земли моей.</a:t>
            </a: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00007d"/>
                </a:solidFill>
                <a:latin typeface="Arial"/>
              </a:rPr>
              <a:t>Но и так, почти у гроба,</a:t>
            </a:r>
            <a:br>
              <a:rPr sz="2000"/>
            </a:br>
            <a:r>
              <a:rPr b="0" i="1" lang="ru-RU" sz="2000" spc="-1" strike="noStrike">
                <a:solidFill>
                  <a:srgbClr val="00007d"/>
                </a:solidFill>
                <a:latin typeface="Arial"/>
              </a:rPr>
              <a:t>Верю я, придет пора -</a:t>
            </a:r>
            <a:br>
              <a:rPr sz="2000"/>
            </a:br>
            <a:r>
              <a:rPr b="0" i="1" lang="ru-RU" sz="2000" spc="-1" strike="noStrike">
                <a:solidFill>
                  <a:srgbClr val="00007d"/>
                </a:solidFill>
                <a:latin typeface="Arial"/>
              </a:rPr>
              <a:t>Силу подлости и злобы</a:t>
            </a:r>
            <a:br>
              <a:rPr sz="2000"/>
            </a:br>
            <a:r>
              <a:rPr b="0" i="1" lang="ru-RU" sz="2000" spc="-1" strike="noStrike">
                <a:solidFill>
                  <a:srgbClr val="00007d"/>
                </a:solidFill>
                <a:latin typeface="Arial"/>
              </a:rPr>
              <a:t>Одолеет дух доб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88000" y="4869000"/>
            <a:ext cx="3960720" cy="129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ихотворени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Нобелевская премия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«Я пропал, как зверь в загоне...»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астернак написал после вынужденного отказа от присужденной ему Нобелевской премии в 1958 году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"/>
          <p:cNvPicPr/>
          <p:nvPr/>
        </p:nvPicPr>
        <p:blipFill>
          <a:blip r:embed="rId1"/>
          <a:stretch/>
        </p:blipFill>
        <p:spPr>
          <a:xfrm>
            <a:off x="5508720" y="1916280"/>
            <a:ext cx="243828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00720" y="691920"/>
            <a:ext cx="425448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Шведская академи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судила Пастернаку  Нобелевскую премию по литературе «за значительные достижения в современной лирической поэзии, а также за продолжение традиций великого русского эпического роман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ентральные советские газеты «Правда» и «Литературная газета» обрушились на поэта, называя его «изменником», «злобным обывателем», «клеветником», «Иудой», «вражеским наймитом» и т.д. Пастернака  исключили из Союза писателей и вынудили отказаться от прем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4" descr="Р"/>
          <p:cNvPicPr/>
          <p:nvPr/>
        </p:nvPicPr>
        <p:blipFill>
          <a:blip r:embed="rId1"/>
          <a:stretch/>
        </p:blipFill>
        <p:spPr>
          <a:xfrm>
            <a:off x="539640" y="1413000"/>
            <a:ext cx="3916440" cy="48862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476000" y="404640"/>
            <a:ext cx="18716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958 г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08000" y="475920"/>
            <a:ext cx="51134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ворчеств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42560" y="4652640"/>
            <a:ext cx="74898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возвращении в Москву он входит в литературные круги. В альманахе «Лирика» впервые печатаются несколько не переиздававшихся им впоследствии стихотворений. Вместе с Н.Асеевым и С.Бобровым он организовывает группу новых или «умеренных» футуристов - «Центрифуг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971640" y="422100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.Боб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6516720" y="422100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.Асее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1" descr=""/>
          <p:cNvPicPr/>
          <p:nvPr/>
        </p:nvPicPr>
        <p:blipFill>
          <a:blip r:embed="rId1"/>
          <a:stretch/>
        </p:blipFill>
        <p:spPr>
          <a:xfrm>
            <a:off x="3708360" y="1341360"/>
            <a:ext cx="2044800" cy="3167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"/>
          <p:cNvPicPr/>
          <p:nvPr/>
        </p:nvPicPr>
        <p:blipFill>
          <a:blip r:embed="rId2"/>
          <a:stretch/>
        </p:blipFill>
        <p:spPr>
          <a:xfrm>
            <a:off x="725400" y="1413000"/>
            <a:ext cx="1917720" cy="2738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"/>
          <p:cNvPicPr/>
          <p:nvPr/>
        </p:nvPicPr>
        <p:blipFill>
          <a:blip r:embed="rId3"/>
          <a:stretch/>
        </p:blipFill>
        <p:spPr>
          <a:xfrm>
            <a:off x="6575400" y="1341360"/>
            <a:ext cx="16556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5280" y="457200"/>
            <a:ext cx="720108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астернак - переводч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859280" y="1484280"/>
            <a:ext cx="40370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1930-е Пастернака почти не печатают. Поселившись в 1936 на даче в Переделкине, он вынужден заниматься перевод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агедии Шекспира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аус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ете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рия Стюар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Шиллера, стихи Верлена, Байрона, Китса, Рильке, грузинские поэ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и работы вошли в литературу на равных с его оригинальным творчест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0XNTCA82LIF3CAN7O2RFCAGYSVV6CALKP5GCCA3YH7H7CA1005ZXCA900YSOCAREICEPCAGX60IZCAM6PTSJCAIEN15DCANZUUBECATDJG3UCAE4TGH1CABVFJQDCAAISG5ECA70BQT6CAO20OXMCAACKZQOCAMDSGJNCAMEFDDO"/>
          <p:cNvPicPr/>
          <p:nvPr/>
        </p:nvPicPr>
        <p:blipFill>
          <a:blip r:embed="rId1"/>
          <a:stretch/>
        </p:blipFill>
        <p:spPr>
          <a:xfrm>
            <a:off x="539640" y="1628640"/>
            <a:ext cx="1295640" cy="1729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G"/>
          <p:cNvPicPr/>
          <p:nvPr/>
        </p:nvPicPr>
        <p:blipFill>
          <a:blip r:embed="rId2"/>
          <a:stretch/>
        </p:blipFill>
        <p:spPr>
          <a:xfrm>
            <a:off x="1116000" y="4149720"/>
            <a:ext cx="1295280" cy="1943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250px-Anton_Graff_-_Friedrich_Schiller"/>
          <p:cNvPicPr/>
          <p:nvPr/>
        </p:nvPicPr>
        <p:blipFill>
          <a:blip r:embed="rId3"/>
          <a:stretch/>
        </p:blipFill>
        <p:spPr>
          <a:xfrm>
            <a:off x="3564000" y="1628640"/>
            <a:ext cx="1152360" cy="1729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200px-Goethe_%28Stieler_1828%29"/>
          <p:cNvPicPr/>
          <p:nvPr/>
        </p:nvPicPr>
        <p:blipFill>
          <a:blip r:embed="rId4"/>
          <a:stretch/>
        </p:blipFill>
        <p:spPr>
          <a:xfrm>
            <a:off x="2050920" y="1628640"/>
            <a:ext cx="1295640" cy="1729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200px-John_Keats_by_William_Hilton"/>
          <p:cNvPicPr/>
          <p:nvPr/>
        </p:nvPicPr>
        <p:blipFill>
          <a:blip r:embed="rId5"/>
          <a:stretch/>
        </p:blipFill>
        <p:spPr>
          <a:xfrm>
            <a:off x="3059280" y="4076640"/>
            <a:ext cx="1368360" cy="19447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1"/>
          <p:cNvSpPr/>
          <p:nvPr/>
        </p:nvSpPr>
        <p:spPr>
          <a:xfrm>
            <a:off x="611280" y="3429000"/>
            <a:ext cx="12240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ИЛЬЯМ ШЕКСПИР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2124000" y="3284640"/>
            <a:ext cx="136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оганн Вольфганг фон Гё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3708360" y="3429000"/>
            <a:ext cx="93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РИДРИХ ШИЛЛЕ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1116000" y="6165720"/>
            <a:ext cx="15112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ЖОРДЖ ГОРДОН БАЙРО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3203640" y="602136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ЖОН КИТС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8000" y="333360"/>
            <a:ext cx="50421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астернак - поэ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50920" y="1341360"/>
            <a:ext cx="4908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914 вышла первая книга стихов «Близнец в тучах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начале 1930-х его поэзия переживает «второе рождение». Книга с таким названием вышла в 1932. Пастернак вновь воспевает простые и земные вещи: «огромность квартиры, наводящей грусть», «зимний день в сквозном проеме незадёрнутых гардин», «пронзительных иволог крик», «вседневное наше бессмерть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2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3259080" cy="40338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3"/>
          <p:cNvSpPr/>
          <p:nvPr/>
        </p:nvSpPr>
        <p:spPr>
          <a:xfrm>
            <a:off x="539640" y="5516640"/>
            <a:ext cx="32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36 г. Переделки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тография Льва Горнун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7:54:43Z</dcterms:created>
  <dc:creator>Customer</dc:creator>
  <dc:description/>
  <dc:language>en-US</dc:language>
  <cp:lastModifiedBy>XP</cp:lastModifiedBy>
  <dcterms:modified xsi:type="dcterms:W3CDTF">2016-11-27T21:32:29Z</dcterms:modified>
  <cp:revision>31</cp:revision>
  <dc:subject/>
  <dc:title>Борис Леонидович Пастернак </dc:title>
</cp:coreProperties>
</file>