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195-CD40-4770-A740-424758FF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1E4-84E8-476E-B80D-BACBE264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BECD-3E26-40F9-BADB-2822DC16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BEE-8A06-4470-B4D5-1A30FB54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69F-D603-4445-87D5-13212BB2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E1A-6655-4ADB-9D55-666F2460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8B3-96F0-4BEA-9F56-2206DBA5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90E-B171-445E-9273-89392F37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F22-8EB6-44E0-8560-DAA1D94F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8F3-760A-4653-9DA2-722C5275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1E5-200B-4935-B96F-D638FFCB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1A5-5B96-4979-97EE-E6D99E37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6817-41A6-4EF7-BF24-E76EC09D8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75;&#1091;&#1088;&#1085;&#1086;&#1077;_&#1082;&#1072;&#1090;&#1072;&#1085;&#1080;&#1077;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773360"/>
            <a:ext cx="820548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6600"/>
                </a:solidFill>
                <a:latin typeface="Arial"/>
              </a:rPr>
              <a:t>Правописание -тся и –ться в глаголах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0000" y="4868640"/>
            <a:ext cx="51847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Учитель: МБОУ «СОШ №5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авельева Т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Готов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Забот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Беспоко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пражн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Трениров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ы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л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оревнов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остяз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Закал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тарать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оставить 3 – 4 предложения или связный текст на тему «Если хочешь стать футболистом, теннисистом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(глаголы, которые можно использовать: готовиться, заботиться, беспокоиться, упражняться, тренироваться, бегать, прыгать, плавать, соревноваться, состязаться, закаляться, старатьс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ритерии отмет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6994800" cy="26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5» - 0 оши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4» - 1-2 оши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3» - 3-4 оши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2» - 5 ошибок и бол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Самооцен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5» - Я всё понял(а) и могу объяснить друг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4» -  Я понял(а), но не могу объяснить друг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«3» - Я не понял(а) ниче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110. Упр.6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110. Составить памятку на тему «Утренняя зарядка», используя глаголы, соответствующие теме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3*. Исследовательская работа (на неделю). Собрать и записать информацию о тренере нашей школы (на выбор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8084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Arial"/>
              </a:rPr>
              <a:t>И сиреневый запах струится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Arial"/>
              </a:rPr>
              <a:t>В темноте нежно грозди белеют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Arial"/>
              </a:rPr>
              <a:t>Летней ночи спешат поклонитьс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Arial"/>
              </a:rPr>
              <a:t>Вековые усталые ел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Arial"/>
              </a:rPr>
              <a:t>Новый день наступает на радост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Arial"/>
              </a:rPr>
              <a:t>Всем, кто жизнь собирает по каплям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Arial"/>
              </a:rPr>
              <a:t>Кто умеет ценить даже малость –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Arial"/>
              </a:rPr>
              <a:t>Все рассветы хранит, все закаты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Arial"/>
              </a:rPr>
              <a:t>Н. Шемятников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Алгоритм правописания       -тся и -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Неопределенная форма глаг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(Что сделать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клон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Форма 3-го лица ед.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(Что делает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тру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1979640" y="2637000"/>
            <a:ext cx="433440" cy="863280"/>
          </a:xfrm>
          <a:prstGeom prst="downArrow">
            <a:avLst>
              <a:gd name="adj1" fmla="val 50000"/>
              <a:gd name="adj2" fmla="val 497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2050920" y="414972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6227640" y="2421000"/>
            <a:ext cx="432000" cy="1079280"/>
          </a:xfrm>
          <a:prstGeom prst="downArrow">
            <a:avLst>
              <a:gd name="adj1" fmla="val 50000"/>
              <a:gd name="adj2" fmla="val 624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227640" y="4149720"/>
            <a:ext cx="289080" cy="574560"/>
          </a:xfrm>
          <a:prstGeom prst="downArrow">
            <a:avLst>
              <a:gd name="adj1" fmla="val 50000"/>
              <a:gd name="adj2" fmla="val 4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6" descr="слуцкий 2"/>
          <p:cNvPicPr/>
          <p:nvPr/>
        </p:nvPicPr>
        <p:blipFill>
          <a:blip r:embed="rId1"/>
          <a:stretch/>
        </p:blipFill>
        <p:spPr>
          <a:xfrm rot="885600">
            <a:off x="5763960" y="333360"/>
            <a:ext cx="2624040" cy="360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Zinetula_Bilyaletdinov_2012"/>
          <p:cNvPicPr/>
          <p:nvPr/>
        </p:nvPicPr>
        <p:blipFill>
          <a:blip r:embed="rId2"/>
          <a:stretch/>
        </p:blipFill>
        <p:spPr>
          <a:xfrm rot="20715000">
            <a:off x="755280" y="476280"/>
            <a:ext cx="3137040" cy="381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Tatiana_Tarasova"/>
          <p:cNvPicPr/>
          <p:nvPr/>
        </p:nvPicPr>
        <p:blipFill>
          <a:blip r:embed="rId3"/>
          <a:stretch/>
        </p:blipFill>
        <p:spPr>
          <a:xfrm>
            <a:off x="3635280" y="2997360"/>
            <a:ext cx="2692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Слуцкий Леонид Виктор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95640" y="2781000"/>
            <a:ext cx="48974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оветский футбольный вратарь и российский футбольный тренер Ц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слуцкий 2"/>
          <p:cNvPicPr/>
          <p:nvPr/>
        </p:nvPicPr>
        <p:blipFill>
          <a:blip r:embed="rId1"/>
          <a:stretch/>
        </p:blipFill>
        <p:spPr>
          <a:xfrm>
            <a:off x="1285920" y="2076480"/>
            <a:ext cx="2381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Билялетдинов Зинэтула Хайдар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446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оветский хоккеист, защитник, советский и российский хоккейный тренер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главный тренер сборной России по хоккею  в 2004 и 2011—2014 год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Zinetula_Bilyaletdinov_2012"/>
          <p:cNvPicPr/>
          <p:nvPr/>
        </p:nvPicPr>
        <p:blipFill>
          <a:blip r:embed="rId1"/>
          <a:stretch/>
        </p:blipFill>
        <p:spPr>
          <a:xfrm>
            <a:off x="4788000" y="1484280"/>
            <a:ext cx="3833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Тарасова Татьяна Анатоль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48592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оветский  и российский  тренер по фигурному катанию.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Tatiana_Tarasova"/>
          <p:cNvPicPr/>
          <p:nvPr/>
        </p:nvPicPr>
        <p:blipFill>
          <a:blip r:embed="rId2"/>
          <a:stretch/>
        </p:blipFill>
        <p:spPr>
          <a:xfrm>
            <a:off x="5076720" y="1989000"/>
            <a:ext cx="3649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Тренеры школы №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едышев С.В. – заслуженный главный тренер по футболу Ульяновской «Волг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ельникова М.А. – тренер по плаванию «Торпед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Долгов Э.А. – председатель Областной Федерации по гимнас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оронцов А.А. – тренер по хоккею с шайбой, директор спорткомплекса «Лидер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ланов С.С. – судья международной категории по баскетб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отяну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осме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окруж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окач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Распря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Трудить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5:52:31Z</dcterms:created>
  <dc:creator>Mastya</dc:creator>
  <dc:description/>
  <dc:language>en-US</dc:language>
  <cp:lastModifiedBy>galina</cp:lastModifiedBy>
  <dcterms:modified xsi:type="dcterms:W3CDTF">2014-03-27T07:51:12Z</dcterms:modified>
  <cp:revision>6</cp:revision>
  <dc:subject/>
  <dc:title>Правописание -тся и –ться в глаголах.</dc:title>
</cp:coreProperties>
</file>