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2E0-04C1-4C82-BA8C-34C9194A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07D-45EC-4C15-B5F3-9AAFB6F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36A-1BDB-4FBE-BFB9-0A7C106E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052-2C17-49CB-BF92-5A21F2D8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044-2753-4536-BEFE-1FCF624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9B5-72E9-4BFE-A4A6-3C2CE3C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056-9A9C-4AFD-A895-495CD14C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F23-68B0-4156-976A-3CCC151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906-A88A-4624-BF2A-BEE8ACB7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BB0-B674-415B-BABA-D69F51A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E1C-E73F-4679-92F5-D4541E1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D2F-EC24-4DC3-B34D-1691C90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AD7-FABC-4F4D-BBDF-8A6A33B462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Акробатика – спорт сильных, смелых, лов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ушнаренко Леонид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ГБОУ школа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имеет свои достоинства: многообразие упражнений, разносторонность и гармоничность их влияния на формирование физических способностей занимающихся, воспитание социально приемлемых форм межличностных отношений, построенных на стратегии партнерства и сотрудничества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2065-002"/>
          <p:cNvPicPr/>
          <p:nvPr/>
        </p:nvPicPr>
        <p:blipFill>
          <a:blip r:embed="rId1"/>
          <a:stretch/>
        </p:blipFill>
        <p:spPr>
          <a:xfrm>
            <a:off x="3851280" y="2924280"/>
            <a:ext cx="4548240" cy="3457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термин «гимнастика» появился у древних греков (эллинов)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 э. Занятия физическими упражнениями они проводили в специальных заведениях - гимнасиях.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br>
              <a:rPr sz="24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2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48178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гимнастика включает в себя основную гимнастику, которой занимаются во всех учебных заведениях и в армии; спортивные виды гимнастики — спортивная гимнастика, художественная гимнастика, аэробика, акроба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Екатерина\Desktop\3.jpg"/>
          <p:cNvPicPr/>
          <p:nvPr/>
        </p:nvPicPr>
        <p:blipFill>
          <a:blip r:embed="rId1"/>
          <a:stretch/>
        </p:blipFill>
        <p:spPr>
          <a:xfrm>
            <a:off x="1908000" y="3141720"/>
            <a:ext cx="6097680" cy="273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0000" y="692280"/>
            <a:ext cx="448452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Основная гимнаст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строевые и общеразвивающие упражнения, упражнения на снарядах, прыжки и акробатические упражнения.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портивная гимнаст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женское многоборье (опорный прыжок, брусья разновысокие, бревно, вольные упражнений) и мужское многоборье (конь с ручками, кольца, перекладина, вольные упражнения, брусья параллельные, опорный прыжок)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625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Художественная гимнаст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женский олимпийский вид спорта. В нее входят упражнения танцевального характера с предметами (мячом, обручем, булавами, скакалкой, лентой)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портивная акробат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четыре группы упражнений: акробатические прыжки, парные (мужские и смешанные) и группов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1214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катерина Рубашко</cp:lastModifiedBy>
  <dcterms:modified xsi:type="dcterms:W3CDTF">2016-11-27T17:48:40Z</dcterms:modified>
  <cp:revision>264</cp:revision>
  <dc:subject/>
  <dc:title>Diapositiva 1</dc:title>
</cp:coreProperties>
</file>