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4EA-329F-4FE0-AC19-E3335EC1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DA4-B240-45C5-8005-4C0933B1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F4D-1317-401D-BFA7-AC7D48B1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010-CFA3-46E2-B103-18604D91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1F5D-C2BA-420A-93A9-8E2028A9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EF25-1F18-4D85-AC15-DA07A751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B736-649A-4953-814C-EABE95F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A317-457F-4DB2-9C6E-C362EC5A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6835-1C22-4E01-BF78-9D21DDC3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9350-B5F0-4B52-B9B6-E6DDF676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F902-58CA-4982-AB76-2E68797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DB4-70E6-402B-858B-6A03246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330A-9C87-4998-9629-37F5B3C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AACB-6BD9-4EE7-A637-09537E6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3D54-0EE5-4237-99B9-3BA90859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534E-106C-42C4-A2A1-543DA9BD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56F5-749B-4FDB-859A-E4ECF78A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78ED-713E-4874-A853-1E7ACB1B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AD05-8A1F-4F96-A228-6061B20B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5A8C-0A94-4D31-A7BF-2CC44A2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8D3F-32E9-4AFA-A333-65AC1A69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CE53-B195-4A47-BD2E-5D550610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B3C-19CF-46E0-8990-96FB970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3F06-2E05-4197-B422-4C7FAA54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7CA6-A3AB-4C9C-9B8F-8548B855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841D-7A66-4CED-8680-82AECE4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8B7A-E29C-4383-ACC2-D2A98C6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A9F9-4477-4D3B-9854-94C0EB27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AE0F-B87F-4687-85A1-C4F06786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092A-3C3E-4D05-A77C-0D67507A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F09E-E236-46FD-9B48-C252DA1C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3EC3-B85E-4CA3-A1C7-AC3420A7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5E0C-B522-4FE6-963C-B7DB650D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FF8-FD23-41EC-B68A-7684C20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BBA9-BF97-43BE-98F7-9DFCF949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A63F4-9877-4003-B415-2BF10962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2D16-4FAA-402A-8DD0-68EAB965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C28F-D7DE-4925-9603-D1FCA67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0EE8-BAF8-4981-919C-9C64A65A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1CDB-D5E6-4EFB-865C-6960C02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0E40-70C9-4575-B310-15A053BA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4634-3FFC-46E2-A120-C96E44F7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A8677-A233-4770-864A-54A64519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5D700-282F-48B0-94C4-DC83FBC0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8E0-B4F6-42B1-AAD1-ACE7EC4A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9F51-92D7-4E75-A691-8FA4D62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2984-0C7E-4F45-BB23-908A1D9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7526-7F6C-45C7-B590-7C9ECAE6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CFAD9-17F7-43F1-8D3F-AFF771FD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0B5E-4CC8-4409-A9FA-3A779BA5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BCDF8-89A2-4640-AFE9-BE1BAD0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4CF9-63ED-411C-AF0C-074CF0F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21A8-AA64-455C-A52C-8E5EA28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1A0A7-8B61-408D-8ABA-FCB2B307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3BEF6-F3F3-484F-A3CD-B9EC9A85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CCA-7BBD-43D7-8B60-AAC234B6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D59E-4900-4D60-A84C-5678DC77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E85-D25D-4145-B032-FDE917A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AD3-7319-4296-9396-CFB33B1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828-CA19-4CF5-AA84-E500596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A81C-D221-441E-8214-97C3749EF45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65C8-16FE-41BF-A5F5-C5BA1A9C7B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D42-BB4E-4F93-8FF6-49B9E31372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7A0-2476-4D2E-849A-D9FE75878F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D72D-CD1D-419E-9170-418FB7AAFA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6" descr="mol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словия развития плесени и ее роль в жизни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Рисунок 61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3409920" cy="30765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"/>
          <p:cNvSpPr/>
          <p:nvPr/>
        </p:nvSpPr>
        <p:spPr>
          <a:xfrm>
            <a:off x="2442960" y="5486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Рисунок 73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70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276720" cy="28670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838080" y="53341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ис.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Рисунок 69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000240" cy="2600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2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2943000" cy="26002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762120" y="54864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ис.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Рисунок 76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029040" cy="27432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4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028680" cy="27432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1143000" y="52578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ис.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Рисунок 75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029040" cy="2686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71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000600" cy="26863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1066680" y="5029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ис.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Рисунок 79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171960" cy="2772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83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2857680" cy="2772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1143000" y="5257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0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Рисунок 77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171600" cy="28573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84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1018440" y="525780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Рисунок 25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143520" cy="27432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7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2943360" cy="27432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941400" y="5029200"/>
            <a:ext cx="54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5" name="Рисунок 7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114720" cy="28573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9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800080" cy="29145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1017000" y="518148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Рисунок 31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4720" cy="28576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5410080" y="2057400"/>
            <a:ext cx="2886120" cy="2857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941400" y="5181480"/>
            <a:ext cx="54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5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Актуальность темы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есмотря на множество научных исследований, активное развитие микробиологии, плесень остается одной из загадок нашего мира, до конца не изучена. Мне стало интересно, где она обитает, при каких условиях и температурах развивается, и используется ли плесень в благих целях в жизни человека. Вот  в чем предстоит разобраться мне в свое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Рисунок 32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114720" cy="28004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828880" cy="27147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1093680" y="5029200"/>
            <a:ext cx="546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7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Рисунок 1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143520" cy="28576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34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5"/>
          <p:cNvSpPr/>
          <p:nvPr/>
        </p:nvSpPr>
        <p:spPr>
          <a:xfrm>
            <a:off x="865800" y="510552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9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 № 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Рисунок 51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057480" cy="2857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865800" y="5029200"/>
            <a:ext cx="55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447560"/>
            <a:ext cx="8183520" cy="449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так, проведя научные опыты, мы подтвердили нашу гипотезу о том, что плесень растет при повышенной температуре и влажности воздуха. При низких температурах и пониженной влажности развитие плесени замедляется или вообще не проис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 нашей первой гипотезой о том, что плесень приносит больше вреда, чем пользы,  не совсем согласен.  Ведь если бы не плесень то в нашей жизни не было бы вкусного дрожжевого хлеба, кваса, вкусных сыров, вин. А открытие антибиотика пенициллина было спасением для человече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результатам проделанной работы можно дать следующие рекомендаци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деальные условия для распространения плесневого грибка – температура +20 С, влажность, отсутствие вентиляции воздуха. Не следует хранить хлеб в полиэтиленовых пакетах. За счет испарения воды из хлеба в них создается повышенная влажность, способствующая развитию плесени. Лучше всего хлеб и хлебобулочные изделия хранить в деревянной или эмалированной посуде, или в специальном контейнере. Не реже одного раза в неделю емкости для хранения хлеба надо мыть горячей водой с мылом или пищевой содой и хорошо просушивать. Плесневые грибы опасны для здоровья чело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есень на продуктах питания и в воздух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едме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условия развития плесени и значение ее в жизни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Цель и задачи работы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Целью моей работы  состояла в том, чтобы выявить роль  и значение плесени в жизни человека, а также изучить условия развития плесневых гриб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вязи с этим были поставлены следующие задач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найти как можно больше информации о плесе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выявить положительную и отрицательную роль в жизни челове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определить практическим путем в домашних условиях появление и развитие плес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30456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актическая значимость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ть условия хранения продуктов, забота о своем здоровь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ипотез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 считаю, чт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лесень приносит больше вреда, чем польз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лесень развивается только при положительной температуре и повышенной влажности воздух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учение литературы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проведение опыта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наблюдение за опытом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анализ эксперимен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880" y="685800"/>
            <a:ext cx="5029200" cy="5440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есень – пушистые и бархатистые налеты на предметах растительного и животного происхождения, образованные спороношениями плесневых грибов. Попадая на пищевые продукты (муку, хлеб, консервы, фруктовые соки, мясо, молочные продукты, пиво, квас и др.), плесень вызывает порч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Рисунок 61" descr=""/>
          <p:cNvPicPr/>
          <p:nvPr/>
        </p:nvPicPr>
        <p:blipFill>
          <a:blip r:embed="rId1"/>
          <a:stretch/>
        </p:blipFill>
        <p:spPr>
          <a:xfrm>
            <a:off x="5334120" y="609480"/>
            <a:ext cx="3200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8" descr="clip_image00233.jpg"/>
          <p:cNvPicPr/>
          <p:nvPr/>
        </p:nvPicPr>
        <p:blipFill>
          <a:blip r:embed="rId1"/>
          <a:stretch/>
        </p:blipFill>
        <p:spPr>
          <a:xfrm>
            <a:off x="4789440" y="2438280"/>
            <a:ext cx="435456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4c3d3eb63f1a5c58782e869b39f2d12e.jpg"/>
          <p:cNvPicPr/>
          <p:nvPr/>
        </p:nvPicPr>
        <p:blipFill>
          <a:blip r:embed="rId2"/>
          <a:stretch/>
        </p:blipFill>
        <p:spPr>
          <a:xfrm>
            <a:off x="457200" y="457200"/>
            <a:ext cx="5562720" cy="24368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904195.jpg"/>
          <p:cNvPicPr/>
          <p:nvPr/>
        </p:nvPicPr>
        <p:blipFill>
          <a:blip r:embed="rId3"/>
          <a:stretch/>
        </p:blipFill>
        <p:spPr>
          <a:xfrm>
            <a:off x="380880" y="2971800"/>
            <a:ext cx="50101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Содержимое 3" descr="кирилл.jpg"/>
          <p:cNvPicPr/>
          <p:nvPr/>
        </p:nvPicPr>
        <p:blipFill>
          <a:blip r:embed="rId1"/>
          <a:stretch/>
        </p:blipFill>
        <p:spPr>
          <a:xfrm>
            <a:off x="2362320" y="457200"/>
            <a:ext cx="41878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11-20T14:34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