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132-35EB-49C1-8A6A-D641D406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778-02D0-4B65-9D50-32E01D90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F064-B2AD-49A9-858A-D3CE7FA6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4FA4-7B49-4D11-9B73-4F45A76A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61FD-CCA2-48AD-891E-BF4699BE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2503-D487-4554-93D6-7DEB5EF1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F363-BABA-45B1-8152-12C250FF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DF0F-A58E-4BC5-B0D8-6BA7D2FA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E696-C147-4DCF-937A-732FFFB0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B3BF-212D-4CD9-BEDD-0EC1CA16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8D1D-F04F-4506-9F7B-A422415E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D10-D388-49F1-9306-9BFED5BB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248A-3F5D-4BE7-8B18-5E5AAAEF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FDDB-5A2E-44A3-AC49-0069311F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53A9-FEFE-4800-8AF9-CC609A76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F938-A2A4-4A0B-A797-819CC57D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5C9F-DC10-485F-9DF0-DB91C537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BB88-73AF-4438-8889-EFE2159F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561-F2F6-473A-94DC-FDA453AB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CEE9-7D57-4511-8470-3EB84B31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46B-5736-4A41-9EF0-620BF40A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63E-86FB-4EE2-B1B6-B76801CF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F5B-BA6B-4CA9-B41E-60FF81DA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60DB-A257-4068-9556-F538A341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F51B-7BC2-4831-8B87-16A139AC037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11CA-B6CA-4C6A-8952-27F74A928A90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7732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Презентация</a:t>
            </a: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en-US" sz="5400" spc="-1" strike="noStrike">
                <a:solidFill>
                  <a:srgbClr val="ff3399"/>
                </a:solidFill>
                <a:latin typeface="Monotype Corsiva"/>
              </a:rPr>
              <a:t>«Мамы разные нужны, мамы всякие важны!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962520" y="3885840"/>
            <a:ext cx="4876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Monotype Corsiva"/>
              </a:rPr>
              <a:t>Подготовила воспита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Monotype Corsiva"/>
              </a:rPr>
              <a:t>МБДОУ Новоталицк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Monotype Corsiva"/>
              </a:rPr>
              <a:t>детский сад №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Monotype Corsiva"/>
              </a:rPr>
              <a:t>Семененкова Н.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343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Если у собаки жар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Нужен ей ветеринар.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Он поможет излечиться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Даже тигру и волчице.</a:t>
            </a: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        Мама – ветеринар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6400800" cy="4259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213840"/>
            <a:ext cx="7877160" cy="19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Письма, телеграммы и газеты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Она разносит в срок по адресам.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Новости со всех концов планеты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Почтальон всегда доставит вам. </a:t>
            </a: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Мама – почтальон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5257800" cy="4376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81120" y="53316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В магазине, на базаре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И в буфете, наконец,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Всюду, где бы ни бывали,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Вас встречает продавец.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Мама – продавец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105520" y="3581280"/>
            <a:ext cx="4038480" cy="2886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715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Наша мама отправляется в полет, потому что наша</a:t>
            </a: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 мама называется пилот!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705360" cy="445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onotype Corsiva"/>
              </a:rPr>
              <a:t>Лётчик водит самолёты – это очень хорошо. Повар делает компоты - это тоже хорошо. Доктор лечит нас от кори, есть учительница в школе. </a:t>
            </a:r>
            <a:br>
              <a:rPr sz="3600"/>
            </a:br>
            <a:r>
              <a:rPr b="1" i="1" lang="en-US" sz="4800" spc="-1" strike="noStrike">
                <a:solidFill>
                  <a:srgbClr val="ff3399"/>
                </a:solidFill>
                <a:latin typeface="Monotype Corsiva"/>
              </a:rPr>
              <a:t>Мамы разные нужны, мамы всякие важны . 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4320" y="762120"/>
            <a:ext cx="4459320" cy="5790960"/>
          </a:xfrm>
          <a:prstGeom prst="rect">
            <a:avLst/>
          </a:prstGeom>
          <a:solidFill>
            <a:srgbClr val="91e004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Monotype Corsiva"/>
              </a:rPr>
              <a:t>Обойди весь мир вокруг, только знай заранее: Не найдешь теплее рук и нежнее маминых. Не найдешь на свете глаз ласковей и строже. Мама каждому из нас всех людей дороже. Сто путей, дорог вокруг обойди по свету: Мама - самый лучший друг, лучше мамы - нету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4648320" cy="354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18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Теплые вещи быстро и тихо шьет для детишек</a:t>
            </a: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 мама-портниха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3880" y="1733400"/>
            <a:ext cx="6629400" cy="4629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48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В детском саду очень много занятий</a:t>
            </a: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. Мама там няня и воспитатель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934320" cy="4937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48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В школе не меньше занятий, смотрите: ставит оценки</a:t>
            </a: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 мама-учитель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848720" cy="4905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Плюшки и булочки кушать спешите, их испекла нам</a:t>
            </a: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 мама - повар-кондитер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191120" y="3200400"/>
            <a:ext cx="4762440" cy="3400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4343400" cy="3129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Пишет в газеты статьи и рассказы</a:t>
            </a: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 мама – писатель и журналист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Из корешка растить не устанет чудо-растение</a:t>
            </a: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 мама-ботаник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943680" cy="4505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2160" y="213840"/>
            <a:ext cx="498132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Врачи помогают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И взрослым, и детям,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Как самые добрые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Люди на свете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Мама – доктор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5709960" cy="4667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6-11-24T06:08:3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