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8E2-2BF0-4626-A274-CCEB7B32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E2A-F35F-4B77-9A32-0D7DE6B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8ED-F978-48AC-9249-66544E13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AD9-E20B-4EED-9B81-5C19471C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512E-A478-4312-8B25-EBD259A7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E557-83D0-41CA-A78A-9F6A7661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8979-B254-467D-8BE0-550A6308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78F6-7EB4-49C4-8D59-C930D4E6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4509-6A48-4ACF-9E6B-5DB77D83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9D06-A0D8-4DFF-8867-91A112D5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390B-BFBC-4EAD-B01F-26564065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160-E437-4848-9F2F-E5D0D69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AF85-A113-4889-9E3B-B90F089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F1C7-1AE0-4B82-94A8-7494F93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3AEF-A127-4B2D-AE8D-450A47B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9CEE-2CA2-4D4A-BCD4-BF2005EF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7C31-201C-463B-92B8-99EF4BBE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2A95-16B9-4502-A80A-95B0E978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2089-B345-4E24-B9A3-CD4B8E18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69AA-691A-478D-8874-4A2C5C9F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29C3-1144-4917-B8C8-9149DFF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4C49-5410-41AC-B9BD-8E03E84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3F6-ADF2-4B8F-9148-3BEF725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5E32-887E-4A92-BB54-4343F2A2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21C5-74D8-4A02-9F73-3691789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593A-0655-47DB-96A3-C5075FA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083CF-CBA3-4B1A-A72A-D774E16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1C59-7D94-49E6-95EE-339D2051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8499-5BB3-438F-B88E-E1A24319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CCDEB-E00C-45D2-ACC8-0B4D955F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AE1A-7946-4BA9-B00D-A98ABEBF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1853-2752-47DD-927B-D44D3E0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4A2F-D910-471D-BAF3-FE40459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E0C-FCD7-46B0-8C62-78228E13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1589-0AB6-4C4C-BDCC-36048DB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6EA1-2FD1-458A-AD6E-BB4C86D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81D4-A9E4-494A-B3D5-E6DE959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AA3A-F9F0-4D66-9143-E7932E30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9221-4715-43A0-B585-8B6576B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43FD-3944-4373-8EB2-61378CB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9AB5-B4C4-4A24-81FC-EBE2D943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9DFE-E401-4660-BDBE-32EF3DF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8B30-65B0-474A-B5E0-9AC2C1CA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86C5-4958-43E7-84B0-07A634EC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7CF-9EB6-4EB7-B92B-551F101E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D939-C715-4A5A-92D2-B65486A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B4AB-B890-4C98-8500-1A6390F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E526B-0977-44CC-A117-A2B457F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081D-DF0D-420F-BDA6-E1044868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40538-801D-41C2-9848-6A7D0CC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D824-5FCA-4A8D-BEDA-38959C1B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08FC-B2C3-4F9C-ADEA-B0DBCC9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71CC-A2E2-45B6-B64C-F41035A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310EA-5F8E-426F-A931-AF6B125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09C1-1246-4856-B65E-2C087076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4EE-1893-43AC-B033-D43BF0F7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6E35-EB9F-45C2-A3DD-A9AA5724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B9841-83A9-41B4-990F-7E9A8B05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029F7-4A48-4A28-B470-086D6D98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4504E-C36B-4DEF-B9FF-5B90E95E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3A7C-B548-44EA-AC6C-40E64467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C06C-CB7D-4303-B0FF-4E37CF8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D9C8-1F01-452B-BE7D-E56766E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6CFC-52A0-4D97-995E-ACA7E78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1E9D-E7AD-4FA6-8864-DAD79E6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B42E-FF40-41E0-8CFB-0092A38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085-5FB9-4DC7-928C-1D5A7EB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9DB90-2270-43DE-BCC2-14480677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E9A4-8A36-494F-9029-04DACC8E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7A08-FC76-49CB-930E-0AB526B8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DC35-A8C6-4B05-BBCE-6E652098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6412-64AD-4751-B83F-8EA1712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450BB-76B6-40BC-8285-4A47083C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4ADE-C305-4ABC-B6FE-55C7811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2022-2AA6-4B7F-B902-D8466D1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0382-11D7-41CF-A1FF-855E7BA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1D1BF-14DF-4EEB-BC62-710723E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D60-3B4A-4ECA-BB86-B6E2A0B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1E7A-5E8A-434C-800C-FF0BE35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EE77-EE83-4D39-8E2B-4FAA10F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0B09B-8493-4E25-AE73-F78D4F4D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3328-F85B-4DA5-9D17-7A012DB0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3AAB-4788-4F9E-8406-4F3FBBB0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88E-B74F-4A62-B2F9-6A90AAC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537-A5FD-4CA1-88EA-B7056DD4EF05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A6A7-D3BF-4FBB-965D-0F7AE7BB8E0F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E39-E86B-4F0D-8C31-30A0D9775568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BFEE-9F48-44BA-9824-19D127AD1FF9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4378-028C-421E-B32C-06780FFF21E7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9B6A-6AAC-4DFC-A96F-61FCF322C94A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DD47-7D61-4A7F-AD45-D4AE766D886A}" type="slidenum">
              <a:rPr b="0" lang="uk-U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4280" y="285840"/>
            <a:ext cx="7102800" cy="5929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uk-UA" sz="3600" spc="-1" strike="noStrike">
                <a:solidFill>
                  <a:srgbClr val="320e04"/>
                </a:solidFill>
                <a:latin typeface="Corbel"/>
              </a:rPr>
              <a:t>Проектная  работ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20e04"/>
                </a:solidFill>
                <a:latin typeface="Corbel"/>
              </a:rPr>
              <a:t>на уроках английского язы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26560" y="692280"/>
            <a:ext cx="77835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 количеству участников пректы 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. лич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2. пар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3. группо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692280"/>
            <a:ext cx="74660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 продолжительности проведения проекты разли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. кратковременные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2. средней продолжи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3. долгосроч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66680" y="620280"/>
            <a:ext cx="73216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од проектов –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о-первых, помогает интегрировать иностранный язык в собственную сеть коммуникативной компетенции того, кто изучает язык. Это поощряет  применять широкий диапазон коммуникативных навыков, даёт возможность ученикам использовать другие сферы знаний и даёт возможность описать то, что является важным в их жизн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о-вторых, проект делает язык более связанным с потребностями того, кто учится, т.к. они учатся общению о собственном внутреннем мире,  мыслях,о своей стран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-третьих, проект настраивает на более тесную связь между языком и культур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066320" y="765000"/>
            <a:ext cx="71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Проектная  работа</a:t>
            </a: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дает ученикам возмож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по-новому раскрыть  себя независимо от уровня владения языком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Учит их приёмам сотрудничества и взаимодействия в работе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Помогает раскрывать творческие особенности и навыки исллед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66320" y="404280"/>
            <a:ext cx="69613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аким образо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уть проектной технологии— стимулировать интерес учников к определенным проблемам, которые подразумавают владение определенным багажом знаний, и, при помощи проектной деятельности, которая предусматривает решение обной или целого ряда проблем, показать практическое применение полученных зна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т теории к практике, гармонично объединяя академические знания с прагматическими, придерживаясь их определенного баланса на каждом этапе обуч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116000" y="333360"/>
            <a:ext cx="7632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rbel"/>
              </a:rPr>
              <a:t>Методические рекомендации</a:t>
            </a:r>
            <a:r>
              <a:rPr b="1" lang="uk-UA" sz="2000" spc="-1" strike="noStrike">
                <a:solidFill>
                  <a:srgbClr val="ff0000"/>
                </a:solidFill>
                <a:latin typeface="Corbel"/>
              </a:rPr>
              <a:t> :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С целью внедрения метода проектной работы на уроках иностранного языка и повышения интереса к предмету, рекомендуется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Способствовать развитию творческого потенциала учени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Учитывать возрастные и индивидуальные особенности учеников, их уровень владения английским языко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широко применять разнообразные виды и формы самостоятельной рабо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Использовать интерактивные формы (групповая и парная работа, ролевая игра и т.д.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буждать учеников использовать специальные умения самостоятельной работы (индивидуальной, коллективной, парной, групповой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Создать атмосфкру заинтересованности каждого учени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развивать логиское мышление, произвольное внимание, память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активизировать наличие у учеников знаний, умений и навыков по другим предметам школной программы в процессе работы над проект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66680" y="765000"/>
            <a:ext cx="7250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Обучающее проектирование не является принципиально новой технологие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Метод проектов  появился в 20-е годы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X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века в США. Сначала его называли "методом проблем"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71360" y="404640"/>
            <a:ext cx="74610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роектная работа – одна из самых интересных методик, которыми может воспользоваться учите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ff"/>
                </a:solidFill>
                <a:latin typeface="Corbe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Она позволяет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эффективно реализовать комуникативный подход  в учебном процессе по иностранному язы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беспечить эффективную практику для каждого ученика группы с целью формирования у учеников необходимых умений и навыков языковой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накомить учеников с краеведческой темамтикой и искать способ включения их в активный диалог культур, чтобы они воспринимали язык как средство межкультурного взаимдейств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71640" y="259920"/>
            <a:ext cx="7488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од проектов – это комплексный обйчающий метод, который позволяет индивидуализировать учебный процесс, дает возможность ученику проявить самостоятельность в планировании, оргпнизации и контроле своей деятельност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Ученик сам выбирает объект исследования, сам для себя решает: или ограничиться учебником по английскому языку или прочитать другие учебники, предусмотренные школьной программ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Хотя часто дети обращаются к дополнительным источникам информации, анализируют, сравнивают, оставляя самое важное и интересн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26920" y="1125360"/>
            <a:ext cx="7832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роектная работа – это обучение посредством действ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В основе каждого проекта лежит проблема, цель выполнения проекта – поиск пуетй решения этой пробле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66320" y="476280"/>
            <a:ext cx="74660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Выполнение проекта включает следующие этап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. Погружение в те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2. Организация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3. Виполнение прое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4. Презентация результа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99640" y="549360"/>
            <a:ext cx="7417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римерами окончательных продуктов могут бы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альбом с сочинениями и иллюстрац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исьменный отч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тенгазет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адио або или видеопрограмм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классний уголок; WеЬ-сайт; видеофильм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ыставк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журнал; костю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ультимедийная презент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убликац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ерия  иллюстрац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ловарь английского молодёжного слэнг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5640" y="549360"/>
            <a:ext cx="756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Существует несколько видов пректо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 виду деятельности разли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i="1" lang="uk-UA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исследовательск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творческ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1" lang="uk-UA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рол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4.</a:t>
            </a:r>
            <a:r>
              <a:rPr b="0" i="1" lang="uk-UA" sz="3200" spc="-1" strike="noStrike">
                <a:solidFill>
                  <a:srgbClr val="000000"/>
                </a:solidFill>
                <a:latin typeface="Corbel"/>
              </a:rPr>
              <a:t> информацио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0000" y="836280"/>
            <a:ext cx="7710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о характеру контактов проек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делятся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. внутрен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2. региона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3. международ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8:21:31Z</dcterms:created>
  <dc:creator>Анна Шевченко</dc:creator>
  <dc:description/>
  <cp:keywords>Проектная деятельность</cp:keywords>
  <dc:language>en-US</dc:language>
  <cp:lastModifiedBy>Ноут</cp:lastModifiedBy>
  <dcterms:modified xsi:type="dcterms:W3CDTF">2016-11-26T21:29:27Z</dcterms:modified>
  <cp:revision>18</cp:revision>
  <dc:subject/>
  <dc:title>Слайд 1</dc:title>
</cp:coreProperties>
</file>