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A27-534F-4EA6-96C7-36D4996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2AD-1CF3-4F9B-8BF8-91FAA0EC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2FF-CCFC-4C0F-87A8-9F6CB925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1EE-92E0-446C-B93B-8D5BA3EF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E61C-E083-4027-9DBD-15479CCB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2474-BFCE-4DD2-8FD1-11BCC69A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0E1B-EE8E-4BDA-A1F0-9BA8D684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47A9-6D68-4255-94CA-8BECB0C7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9AC1-2BC3-42EF-B07D-9654080F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3AA6-9235-4468-AC38-E97CE3B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CEEA-4CBF-47EC-9276-BFE0338D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894-B41C-4BC1-9137-49B0F34A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E9B9-F020-4ECB-85C9-0E46E2B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D577-C755-4B3E-9DEC-3B50C48C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4780-C638-4913-8BC8-DCCA1F06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ADF3-B7A7-412F-BE15-1C3E89F7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09A7-1461-43F4-9F72-58819DDD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765-80D7-4130-82C6-00BF18E8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993-7289-4230-8C82-7A56A8D2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8D7-1288-40D9-994E-E1507D61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8B0-1F8A-4B88-A0C3-D32AA93E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BC2-2368-4267-B5D1-8734B5D0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DCD-2C09-45F7-BED6-C835F8D6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93A-04CA-447A-B429-67AF292B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94E9-628A-425B-B0E8-AC952D8158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37E4-896F-48BF-A970-3AA901598F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8057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Самоопределение подростка через трудовую деятельность 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" descr="35 кило надежды"/>
          <p:cNvPicPr/>
          <p:nvPr/>
        </p:nvPicPr>
        <p:blipFill>
          <a:blip r:embed="rId1"/>
          <a:stretch/>
        </p:blipFill>
        <p:spPr>
          <a:xfrm>
            <a:off x="3348000" y="3716280"/>
            <a:ext cx="21430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4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445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450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455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460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465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9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4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5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7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8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0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81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3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484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6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487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9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490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2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3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5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6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8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9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1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02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4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05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08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0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11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3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14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6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17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9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520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523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5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26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8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29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1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32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4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35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7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38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41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44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6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47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9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0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2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3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5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6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8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9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1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62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4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5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8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1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3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4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6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7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9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0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2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3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5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6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8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9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1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2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4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5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7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8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0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1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4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6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7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9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0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2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3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5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6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8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9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1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2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4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25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7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28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0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1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3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4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7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9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0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2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3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5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6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8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9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1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2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4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5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7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8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0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1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3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4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6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7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0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2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3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5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6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8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9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1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2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4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5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8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91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3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9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700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703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5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706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707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708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0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1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712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713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5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6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717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718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0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1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722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723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5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6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8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fill="hold">
                      <p:stCondLst>
                        <p:cond delay="0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0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3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6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0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3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6" dur="5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8" dur="5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2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84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8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0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4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6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0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2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6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8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2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4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8" dur="500"/>
                                        <p:tgtEl>
                                          <p:spTgt spid="2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0" dur="500"/>
                                        <p:tgtEl>
                                          <p:spTgt spid="2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4" dur="5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6" dur="5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0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3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5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8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2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4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8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0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4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6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0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2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6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8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2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4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8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0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4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6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0" dur="500"/>
                                        <p:tgtEl>
                                          <p:spTgt spid="2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2" dur="500"/>
                                        <p:tgtEl>
                                          <p:spTgt spid="2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6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1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5" dur="5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8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0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4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6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0" dur="500"/>
                                        <p:tgtEl>
                                          <p:spTgt spid="2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2" dur="500"/>
                                        <p:tgtEl>
                                          <p:spTgt spid="2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6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8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2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4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8" dur="500"/>
                                        <p:tgtEl>
                                          <p:spTgt spid="2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0" dur="500"/>
                                        <p:tgtEl>
                                          <p:spTgt spid="2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4" dur="5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6" dur="5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0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2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6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8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2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4" dur="5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8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0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4" dur="5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6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0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2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6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2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4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8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0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4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6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0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2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6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8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2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4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8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0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4" dur="5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6" dur="5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0" dur="5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2" dur="5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6" dur="5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8" dur="5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2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4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8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0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4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6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0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2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6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8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2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4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8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0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4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6" dur="5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0" dur="5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2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6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8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2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4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8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0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4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6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0" dur="5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2" dur="5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6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8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2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4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8" dur="5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0" dur="5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4" dur="5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6" dur="5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0" dur="5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6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737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1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742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6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747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1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752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6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757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1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6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7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9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0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2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73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5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776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8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779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1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782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4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85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7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88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0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91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3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94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6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97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9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00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2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03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5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06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8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09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1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12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4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815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7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18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0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21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3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4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6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7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9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30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2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33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5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36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8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39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1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42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4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45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7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48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0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1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3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54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6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7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9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60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2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63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5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66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8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69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1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2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4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5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7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8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0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1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4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6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7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9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0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2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3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6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8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9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1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2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4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5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7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8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0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1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3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4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6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17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20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3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6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8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9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1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2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5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7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8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0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1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3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4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6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7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9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0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2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3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5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6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8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9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1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2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4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5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8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1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3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4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6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7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9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0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2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83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5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1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992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4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995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7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998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999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000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2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004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005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7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8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009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010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2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3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014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015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7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8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0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1" dur="indefinite" restart="never" nodeType="tmRoot">
          <p:childTnLst>
            <p:seq>
              <p:cTn id="3662" dur="indefinite" nodeType="mainSeq">
                <p:childTnLst>
                  <p:par>
                    <p:cTn id="3663" fill="hold">
                      <p:stCondLst>
                        <p:cond delay="0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6" dur="5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9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2" dur="500"/>
                                        <p:tgtEl>
                                          <p:spTgt spid="2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6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9" dur="5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2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4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8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0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4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6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0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2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6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8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2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8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0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4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6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0" dur="5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2" dur="5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6" dur="5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9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1" dur="5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4" dur="5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8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0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4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6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0" dur="5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2" dur="5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6" dur="5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8" dur="5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2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4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8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0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4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6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0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2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6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8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2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4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7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1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4" dur="5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6" dur="5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0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2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6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8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2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4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8" dur="5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0" dur="5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4" dur="5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6" dur="5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0" dur="5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2" dur="5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6" dur="500"/>
                                        <p:tgtEl>
                                          <p:spTgt spid="2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8" dur="500"/>
                                        <p:tgtEl>
                                          <p:spTgt spid="2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2" dur="5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4" dur="5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8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0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4" dur="5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0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2" dur="5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6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8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2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8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0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4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6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0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2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6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8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2" dur="5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4" dur="5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8" dur="5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0" dur="5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4" dur="500"/>
                                        <p:tgtEl>
                                          <p:spTgt spid="2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6" dur="500"/>
                                        <p:tgtEl>
                                          <p:spTgt spid="2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0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2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6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8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2" dur="5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4" dur="5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8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0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4" dur="5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6" dur="5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0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2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6" dur="5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8" dur="5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2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4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8" dur="5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0" dur="5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4" dur="5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6" dur="5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0" dur="5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2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6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8" dur="5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2" dur="5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4" dur="5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8" dur="500"/>
                                        <p:tgtEl>
                                          <p:spTgt spid="2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0" dur="500"/>
                                        <p:tgtEl>
                                          <p:spTgt spid="2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4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6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0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2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6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8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2" dur="5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4" dur="5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8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0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4" dur="500"/>
                                        <p:tgtEl>
                                          <p:spTgt spid="2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6" dur="500"/>
                                        <p:tgtEl>
                                          <p:spTgt spid="2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0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62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6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1.Как зовут главного героя, сколько ему лет и в чем его проблема?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22" name="" descr="35 кило надежды"/>
          <p:cNvPicPr/>
          <p:nvPr/>
        </p:nvPicPr>
        <p:blipFill>
          <a:blip r:embed="rId1"/>
          <a:stretch/>
        </p:blipFill>
        <p:spPr>
          <a:xfrm>
            <a:off x="3276720" y="3141720"/>
            <a:ext cx="23875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2.Почему герой ненавидит школу?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24" name="" descr="35 кило надежды"/>
          <p:cNvPicPr/>
          <p:nvPr/>
        </p:nvPicPr>
        <p:blipFill>
          <a:blip r:embed="rId1"/>
          <a:stretch/>
        </p:blipFill>
        <p:spPr>
          <a:xfrm>
            <a:off x="3564000" y="2708280"/>
            <a:ext cx="14349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3. Кого и почему любит главный герой?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26" name="" descr="35 кило надежды"/>
          <p:cNvPicPr/>
          <p:nvPr/>
        </p:nvPicPr>
        <p:blipFill>
          <a:blip r:embed="rId1"/>
          <a:stretch/>
        </p:blipFill>
        <p:spPr>
          <a:xfrm>
            <a:off x="5580000" y="2637000"/>
            <a:ext cx="1198800" cy="3816360"/>
          </a:xfrm>
          <a:prstGeom prst="rect">
            <a:avLst/>
          </a:prstGeom>
          <a:ln w="0">
            <a:noFill/>
          </a:ln>
        </p:spPr>
      </p:pic>
      <p:pic>
        <p:nvPicPr>
          <p:cNvPr id="3027" name="" descr="35 кило надежды"/>
          <p:cNvPicPr/>
          <p:nvPr/>
        </p:nvPicPr>
        <p:blipFill>
          <a:blip r:embed="rId2"/>
          <a:stretch/>
        </p:blipFill>
        <p:spPr>
          <a:xfrm>
            <a:off x="1979640" y="2637000"/>
            <a:ext cx="11494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4.Почему главному герою хотелось учиться именно в колледже Граншан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29" name="" descr="35 кило надежды"/>
          <p:cNvPicPr/>
          <p:nvPr/>
        </p:nvPicPr>
        <p:blipFill>
          <a:blip r:embed="rId1"/>
          <a:stretch/>
        </p:blipFill>
        <p:spPr>
          <a:xfrm>
            <a:off x="6300720" y="3645000"/>
            <a:ext cx="1962360" cy="2076480"/>
          </a:xfrm>
          <a:prstGeom prst="rect">
            <a:avLst/>
          </a:prstGeom>
          <a:ln w="0">
            <a:noFill/>
          </a:ln>
        </p:spPr>
      </p:pic>
      <p:pic>
        <p:nvPicPr>
          <p:cNvPr id="3030" name="" descr="35 кило надежды"/>
          <p:cNvPicPr/>
          <p:nvPr/>
        </p:nvPicPr>
        <p:blipFill>
          <a:blip r:embed="rId2"/>
          <a:stretch/>
        </p:blipFill>
        <p:spPr>
          <a:xfrm>
            <a:off x="684360" y="3213000"/>
            <a:ext cx="1123920" cy="3029040"/>
          </a:xfrm>
          <a:prstGeom prst="rect">
            <a:avLst/>
          </a:prstGeom>
          <a:ln w="0">
            <a:noFill/>
          </a:ln>
        </p:spPr>
      </p:pic>
      <p:pic>
        <p:nvPicPr>
          <p:cNvPr id="3031" name="" descr="35 кило надежды"/>
          <p:cNvPicPr/>
          <p:nvPr/>
        </p:nvPicPr>
        <p:blipFill>
          <a:blip r:embed="rId3"/>
          <a:stretch/>
        </p:blipFill>
        <p:spPr>
          <a:xfrm>
            <a:off x="3564000" y="3284640"/>
            <a:ext cx="15526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5.Где главному герою нравилось находиться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33" name="" descr="35 кило надежды"/>
          <p:cNvPicPr/>
          <p:nvPr/>
        </p:nvPicPr>
        <p:blipFill>
          <a:blip r:embed="rId1"/>
          <a:stretch/>
        </p:blipFill>
        <p:spPr>
          <a:xfrm>
            <a:off x="2970360" y="3213000"/>
            <a:ext cx="2057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6. Почему повествование ведется от имени подростка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35" name="" descr="35 кило надежды"/>
          <p:cNvPicPr/>
          <p:nvPr/>
        </p:nvPicPr>
        <p:blipFill>
          <a:blip r:embed="rId1"/>
          <a:stretch/>
        </p:blipFill>
        <p:spPr>
          <a:xfrm>
            <a:off x="4788000" y="2492280"/>
            <a:ext cx="1278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7. Принято выделять следующие виды деятельности: игра, труд, учение и общение. А какой из видов, на ваш взгляд, важнее именно для подростка?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37" name="" descr="35 кило надежды"/>
          <p:cNvPicPr/>
          <p:nvPr/>
        </p:nvPicPr>
        <p:blipFill>
          <a:blip r:embed="rId1"/>
          <a:stretch/>
        </p:blipFill>
        <p:spPr>
          <a:xfrm>
            <a:off x="179280" y="4581360"/>
            <a:ext cx="2160720" cy="1760760"/>
          </a:xfrm>
          <a:prstGeom prst="rect">
            <a:avLst/>
          </a:prstGeom>
          <a:ln w="0">
            <a:noFill/>
          </a:ln>
        </p:spPr>
      </p:pic>
      <p:pic>
        <p:nvPicPr>
          <p:cNvPr id="3038" name="" descr="35 кило надежды"/>
          <p:cNvPicPr/>
          <p:nvPr/>
        </p:nvPicPr>
        <p:blipFill>
          <a:blip r:embed="rId2"/>
          <a:stretch/>
        </p:blipFill>
        <p:spPr>
          <a:xfrm>
            <a:off x="2340000" y="4076640"/>
            <a:ext cx="2143080" cy="2247840"/>
          </a:xfrm>
          <a:prstGeom prst="rect">
            <a:avLst/>
          </a:prstGeom>
          <a:ln w="0">
            <a:noFill/>
          </a:ln>
        </p:spPr>
      </p:pic>
      <p:pic>
        <p:nvPicPr>
          <p:cNvPr id="3039" name="" descr="35 кило надежды"/>
          <p:cNvPicPr/>
          <p:nvPr/>
        </p:nvPicPr>
        <p:blipFill>
          <a:blip r:embed="rId3"/>
          <a:stretch/>
        </p:blipFill>
        <p:spPr>
          <a:xfrm>
            <a:off x="7380360" y="3357720"/>
            <a:ext cx="1400040" cy="3028680"/>
          </a:xfrm>
          <a:prstGeom prst="rect">
            <a:avLst/>
          </a:prstGeom>
          <a:ln w="0">
            <a:noFill/>
          </a:ln>
        </p:spPr>
      </p:pic>
      <p:pic>
        <p:nvPicPr>
          <p:cNvPr id="3040" name="" descr="35 кило надежды"/>
          <p:cNvPicPr/>
          <p:nvPr/>
        </p:nvPicPr>
        <p:blipFill>
          <a:blip r:embed="rId4"/>
          <a:stretch/>
        </p:blipFill>
        <p:spPr>
          <a:xfrm>
            <a:off x="7885080" y="549360"/>
            <a:ext cx="1081080" cy="2160360"/>
          </a:xfrm>
          <a:prstGeom prst="rect">
            <a:avLst/>
          </a:prstGeom>
          <a:ln w="0">
            <a:noFill/>
          </a:ln>
        </p:spPr>
      </p:pic>
      <p:pic>
        <p:nvPicPr>
          <p:cNvPr id="3041" name="" descr="35 кило надежды"/>
          <p:cNvPicPr/>
          <p:nvPr/>
        </p:nvPicPr>
        <p:blipFill>
          <a:blip r:embed="rId5"/>
          <a:stretch/>
        </p:blipFill>
        <p:spPr>
          <a:xfrm>
            <a:off x="4643280" y="4076640"/>
            <a:ext cx="22482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43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06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11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16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21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26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6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2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45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48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51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5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54" name="Rectangle 5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3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6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9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8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" name="Rectangle 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4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1" name="Rectangle 8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87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84" name="Rectangle 88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9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0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87" name="Rectangle 91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2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9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0" name="Rectangle 9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9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3" name="Rectangle 9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9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6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0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2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3" name="Rectangle 1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2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2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6" name="Rectangle 13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3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0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3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1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0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3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8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6" name="Rectangle 19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9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9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2" name="Rectangle 19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9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7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0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3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9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7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0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3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5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" name="Rectangle 25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2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58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5" name="Rectangle 259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6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261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62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3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64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65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66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67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64" name="Rectangle 268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69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270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67" name="Rectangle 271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72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73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70" name="Group 274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71" name="Group 275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72" name="Freeform 276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277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Freeform 278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79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76" name="Group 280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77" name="Freeform 281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282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Freeform 283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84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81" name="Group 285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82" name="Freeform 286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287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Freeform 288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89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86" name="Group 290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87" name="Freeform 291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292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Freeform 293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Rectangle 294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95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296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Спасибо за урок!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45" name="" descr="35 кило надежды"/>
          <p:cNvPicPr/>
          <p:nvPr/>
        </p:nvPicPr>
        <p:blipFill>
          <a:blip r:embed="rId1"/>
          <a:stretch/>
        </p:blipFill>
        <p:spPr>
          <a:xfrm>
            <a:off x="2484360" y="3068640"/>
            <a:ext cx="35290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01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06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11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16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21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7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40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43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46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5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8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1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3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76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79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2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85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8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1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4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2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5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8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2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5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3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2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5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8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1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4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9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2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5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8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1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4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7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0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3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6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9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2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5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8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1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4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47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656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659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662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663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664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668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669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673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674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678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679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693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698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703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708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713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3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6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29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732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735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738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41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44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47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50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53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56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59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62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65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768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771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74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77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80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83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86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89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92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95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98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1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4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7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10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3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6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9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2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5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8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1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4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7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0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3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6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9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52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55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58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1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4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7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0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73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76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9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2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5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8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1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4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7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0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3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6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9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2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5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8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1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4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7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0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3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6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39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948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951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954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955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956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960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961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3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965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966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8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970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971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3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4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985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990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995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000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005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5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8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21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024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027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030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33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36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39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42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45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48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51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54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57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060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063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66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69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72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75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78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81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84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87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90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93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96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99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02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5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8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1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4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7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0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3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6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9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2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5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8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1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4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7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0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3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6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9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2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65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68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1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4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7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0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3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6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9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2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5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8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1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4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7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0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3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6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9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2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5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8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31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240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243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246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247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248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0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252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253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257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258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1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262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263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5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6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6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8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4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0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4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8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2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8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0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4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0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4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8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0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2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277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282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287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292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297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7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0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13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316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319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322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25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28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31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34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37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40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43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46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49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352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355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58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61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64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67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70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73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76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79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82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4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85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88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1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3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94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7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9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00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03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06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09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2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5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8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1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4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7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0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3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5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6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9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2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5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8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0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1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4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57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60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3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6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9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1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2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4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5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7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8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1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4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6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7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9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0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2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3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5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6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9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1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2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4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5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8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1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4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7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0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23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532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535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538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539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540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2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544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545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7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8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549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550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554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555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7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8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0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2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6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4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8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0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6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0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2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9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1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8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0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4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6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0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2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6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8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2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8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0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6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0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6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8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2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4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7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1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4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6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2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6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2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4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8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4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0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6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2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8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0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4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6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0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6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2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4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0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4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6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0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6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8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4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8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4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6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0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2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6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8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2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8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0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4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6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0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2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2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4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0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6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0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2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6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8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2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4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6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6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8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2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4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0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569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574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579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584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589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9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2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05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608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611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614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17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20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23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5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26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29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32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4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35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7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38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0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41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644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647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50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2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53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5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56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8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59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1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62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65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7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68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0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71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74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77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9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0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2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3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5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86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8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9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92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95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98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1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4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7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9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0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3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6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9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2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5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8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1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4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7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9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0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2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3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6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8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49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1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52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5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7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8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1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4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6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7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9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0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3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6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9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2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5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8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1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4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7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0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3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6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9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2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15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824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827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9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830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831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832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4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5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836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837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9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841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842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4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5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846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847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9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0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2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0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2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5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8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2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0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4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6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2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6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8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2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4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8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0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0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2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2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5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7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0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4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2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8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2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4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8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0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4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6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0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2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8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4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8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0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3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2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8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8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0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0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2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6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2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4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8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0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4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0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2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6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8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2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8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0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4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0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2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6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8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2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4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8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0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4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6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0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2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6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8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2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4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0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4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6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0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2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6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8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2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4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8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0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4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6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0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2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6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8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2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4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8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4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6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0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2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8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2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4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8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0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4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6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2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6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8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2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861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5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866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871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876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0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881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5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1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4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6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97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9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900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2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903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5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06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09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12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15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18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21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3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24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6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27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9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30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2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33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5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36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939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1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42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4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45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48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0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51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3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54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57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9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60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2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63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5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66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8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69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2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5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7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78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0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1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3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4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6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7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9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0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2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3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5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6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8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9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2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5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8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0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1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4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7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0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3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6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9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1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2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5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7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8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0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41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3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44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6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7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0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2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3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5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6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9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2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4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5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8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0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1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3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4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6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7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9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0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2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3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5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6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8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9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1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2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4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5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7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8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0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1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4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6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07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9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5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116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8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119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1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122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123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124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6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128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129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1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2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133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134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6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7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138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139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1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2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0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8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1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8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1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4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6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0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72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6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78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2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4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8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0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4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6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0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2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6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8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2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8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1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3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6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0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2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6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8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2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4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8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0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4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6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0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2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6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8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4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8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0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4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6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9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3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8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2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8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0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4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6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0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2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6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8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4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8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0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4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6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0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2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6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8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2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4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8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0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4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6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2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8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2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4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8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0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4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6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0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2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6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8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2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4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8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0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4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6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0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2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6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2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4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8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0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4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6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0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2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6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8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2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4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8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0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4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6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0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2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6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8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2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4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8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0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4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6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0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2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6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8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2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4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3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Rectangle 4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3e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Rectangle 5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660000">
                  <a:alpha val="91372"/>
                </a:srgbClr>
              </a:gs>
              <a:gs pos="100000">
                <a:srgbClr val="6e6d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Freeform 6"/>
          <p:cNvSpPr/>
          <p:nvPr/>
        </p:nvSpPr>
        <p:spPr>
          <a:xfrm>
            <a:off x="506520" y="1595520"/>
            <a:ext cx="8132760" cy="533160"/>
          </a:xfrm>
          <a:prstGeom prst="pie">
            <a:avLst/>
          </a:pr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Rectangle 7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9595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2" name="Group 9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153" name="AutoShape 10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AutoShape 11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AutoShape 12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AutoShape 13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7" name="Group 14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158" name="AutoShape 15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AutoShape 16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AutoShape 17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AutoShape 18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Group 19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163" name="AutoShape 20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AutoShape 21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AutoShape 22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AutoShape 23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24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168" name="AutoShape 25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AutoShape 26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AutoShape 27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AutoShape 28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2" name="Group 29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173" name="AutoShape 30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AutoShape 31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AutoShape 32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AutoShape 33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AutoShape 34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AutoShape 35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AutoShape 36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AutoShape 37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AutoShape 38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5a799f">
                  <a:alpha val="0"/>
                </a:srgbClr>
              </a:gs>
              <a:gs pos="100000">
                <a:srgbClr val="420000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Group 3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3" name="Rectangle 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Text Box 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5" name="Group 4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6" name="Rectangle 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 Box 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8" name="Group 4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89" name="Rectangle 4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4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1" name="Group 48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192" name="Rectangle 49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Text Box 50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4" name="Group 51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195" name="Rectangle 52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53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7" name="Group 5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198" name="Rectangle 5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Text Box 5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0" name="Group 5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01" name="Rectangle 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Text Box 5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3" name="Group 6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04" name="Rectangle 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Text Box 6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6" name="Group 6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07" name="Rectangle 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Text Box 6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9" name="Group 6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10" name="Rectangle 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Text Box 6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2" name="Group 6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13" name="Rectangle 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Text Box 7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5" name="Group 7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16" name="Rectangle 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Text Box 7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8" name="Group 7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19" name="Rectangle 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Text Box 7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1" name="Group 7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22" name="Rectangle 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Text Box 8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4" name="Group 81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25" name="Rectangle 82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Text Box 8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84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228" name="Rectangle 85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Text Box 86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0" name="Group 87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231" name="Rectangle 88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Text Box 89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Group 9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34" name="Rectangle 9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Text Box 9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Group 93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37" name="Rectangle 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Text Box 95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9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40" name="Rectangle 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Text Box 9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Group 9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43" name="Rectangle 1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Text Box 10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Group 10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46" name="Rectangle 1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Text Box 10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Group 10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49" name="Rectangle 1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Text Box 10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Group 10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2" name="Rectangle 1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Text Box 11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Group 11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5" name="Rectangle 1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Text Box 11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7" name="Group 11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8" name="Rectangle 1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Text Box 11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0" name="Group 11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1" name="Rectangle 1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Text Box 11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Group 12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4" name="Rectangle 1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Text Box 12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6" name="Group 12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7" name="Rectangle 1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Text Box 12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9" name="Group 126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70" name="Rectangle 12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Text Box 128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2" name="Group 12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3" name="Rectangle 1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13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Group 13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6" name="Rectangle 1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Text Box 13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8" name="Group 13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9" name="Rectangle 1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Text Box 13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1" name="Group 13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2" name="Rectangle 1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Text Box 14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4" name="Group 14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5" name="Rectangle 1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Text Box 14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7" name="Group 14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8" name="Rectangle 1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Text Box 14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0" name="Group 14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1" name="Rectangle 1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4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3" name="Group 15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4" name="Rectangle 1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Text Box 15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15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7" name="Rectangle 1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15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9" name="Group 15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0" name="Rectangle 15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15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15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3" name="Rectangle 16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16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5" name="Group 16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6" name="Rectangle 16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Text Box 16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8" name="Group 16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9" name="Rectangle 16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Text Box 16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Group 16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12" name="Rectangle 16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Text Box 17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4" name="Group 17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15" name="Rectangle 17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Text Box 17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7" name="Group 17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18" name="Rectangle 17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Text Box 17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0" name="Group 17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1" name="Rectangle 17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Text Box 17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3" name="Group 18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4" name="Rectangle 18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Text Box 18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6" name="Group 18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7" name="Rectangle 18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Text Box 18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9" name="Group 18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0" name="Rectangle 18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Text Box 18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2" name="Group 189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33" name="Rectangle 190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Text Box 191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5" name="Group 192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36" name="Rectangle 193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Text Box 194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8" name="Group 19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9" name="Rectangle 19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Text Box 19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1" name="Group 19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2" name="Rectangle 19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Text Box 20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4" name="Group 20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5" name="Rectangle 20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Text Box 20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7" name="Group 20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8" name="Rectangle 20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Text Box 20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Group 20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1" name="Rectangle 20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Text Box 20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3" name="Group 21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4" name="Rectangle 21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Text Box 21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21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7" name="Rectangle 21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Text Box 21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21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0" name="Rectangle 21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Text Box 21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Group 21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3" name="Rectangle 22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Text Box 22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Group 22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6" name="Rectangle 22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Text Box 22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8" name="Group 225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9" name="Rectangle 22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Text Box 22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1" name="Group 228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2" name="Rectangle 22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Text Box 23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4" name="Group 231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5" name="Rectangle 23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Text Box 23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7" name="Group 234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8" name="Rectangle 23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Text Box 236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0" name="Group 237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1" name="Rectangle 23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Text Box 239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3" name="Group 240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4" name="Rectangle 24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Text Box 242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6" name="Group 243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7" name="Rectangle 24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Text Box 245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9" name="Group 246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0" name="Rectangle 247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Text Box 248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249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3" name="Rectangle 250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Text Box 251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5" name="Group 252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6" name="Rectangle 253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Text Box 254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8" name="Group 255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99" name="Rectangle 256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Text Box 257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1" name="Freeform 258"/>
          <p:cNvSpPr/>
          <p:nvPr/>
        </p:nvSpPr>
        <p:spPr>
          <a:xfrm>
            <a:off x="447840" y="2050920"/>
            <a:ext cx="8248320" cy="3205440"/>
          </a:xfrm>
          <a:prstGeom prst="pie">
            <a:avLst/>
          </a:prstGeom>
          <a:gradFill rotWithShape="0">
            <a:gsLst>
              <a:gs pos="0">
                <a:srgbClr val="5a799f"/>
              </a:gs>
              <a:gs pos="100000">
                <a:srgbClr val="42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Text Box 259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Text Box 260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Text Box 261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AutoShape 262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AutoShape 263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Group 264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408" name="Rectangle 265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266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0" name="Group 267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411" name="Rectangle 268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269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aca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3" name="Group 270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414" name="Group 271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415" name="Group 272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416" name="Freeform 273"/>
                <p:cNvSpPr/>
                <p:nvPr/>
              </p:nvSpPr>
              <p:spPr>
                <a:xfrm>
                  <a:off x="7156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Freeform 274"/>
                <p:cNvSpPr/>
                <p:nvPr/>
              </p:nvSpPr>
              <p:spPr>
                <a:xfrm>
                  <a:off x="7221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8" name="Freeform 275"/>
              <p:cNvSpPr/>
              <p:nvPr/>
            </p:nvSpPr>
            <p:spPr>
              <a:xfrm>
                <a:off x="7063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9" name="Group 276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420" name="Group 277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421" name="Freeform 278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Freeform 279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3" name="Freeform 280"/>
              <p:cNvSpPr/>
              <p:nvPr/>
            </p:nvSpPr>
            <p:spPr>
              <a:xfrm>
                <a:off x="194472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4" name="Group 281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425" name="Group 282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426" name="Freeform 283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Freeform 284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8" name="Freeform 285"/>
              <p:cNvSpPr/>
              <p:nvPr/>
            </p:nvSpPr>
            <p:spPr>
              <a:xfrm flipH="1">
                <a:off x="7272360" y="2768760"/>
                <a:ext cx="116496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9" name="Group 286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430" name="Group 287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431" name="Freeform 288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212121"/>
                    </a:gs>
                    <a:gs pos="100000">
                      <a:srgbClr val="32323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Freeform 289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prstGeom prst="pie">
                  <a:avLst/>
                </a:prstGeom>
                <a:gradFill rotWithShape="0">
                  <a:gsLst>
                    <a:gs pos="0">
                      <a:srgbClr val="515151"/>
                    </a:gs>
                    <a:gs pos="100000">
                      <a:srgbClr val="3e3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3" name="Freeform 290"/>
              <p:cNvSpPr/>
              <p:nvPr/>
            </p:nvSpPr>
            <p:spPr>
              <a:xfrm flipH="1">
                <a:off x="6031080" y="2768760"/>
                <a:ext cx="1164600" cy="190440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4" name="Rectangle 291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292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6" name="Text Box 293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9" dur="indefinite" restart="never" nodeType="tmRoot">
          <p:childTnLst>
            <p:seq>
              <p:cTn id="2850" dur="indefinite" nodeType="mainSeq">
                <p:childTnLst>
                  <p:par>
                    <p:cTn id="2851" fill="hold">
                      <p:stCondLst>
                        <p:cond delay="0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4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60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4" dur="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7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0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2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8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2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8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0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4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6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0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2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6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8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2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4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8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0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4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7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9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2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6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8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2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4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8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0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4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6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0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2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6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8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2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4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8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0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6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0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2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5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4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8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0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4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6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0" dur="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2" dur="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6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8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2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4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8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0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4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6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0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2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6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8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2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4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8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0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4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6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0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2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6" dur="5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8" dur="5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2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4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8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0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4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6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0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2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6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8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2" dur="5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4" dur="5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8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0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4" dur="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6" dur="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0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2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6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8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2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4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8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0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4" dur="5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6" dur="5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0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2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6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8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2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4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8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0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4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6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0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2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6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8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2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4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8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0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4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6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0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2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6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8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2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4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8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0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4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5:12:24Z</dcterms:created>
  <dc:creator>Admin</dc:creator>
  <dc:description/>
  <dc:language>en-US</dc:language>
  <cp:lastModifiedBy>Admin</cp:lastModifiedBy>
  <dcterms:modified xsi:type="dcterms:W3CDTF">2016-11-26T17:29:27Z</dcterms:modified>
  <cp:revision>6</cp:revision>
  <dc:subject/>
  <dc:title>Самоопределение подростка через трудовую деятельность </dc:title>
</cp:coreProperties>
</file>