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7C9-917E-4C3E-9DC9-544481D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8A5-837E-4976-9226-6E8FEF63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110-27E9-449C-9C51-FB9DBA4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3AB-CA58-4423-90A5-6761EF40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94C-48AB-4841-AEFC-7B1FA3A7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68EF-C1ED-4B1E-AC34-414312B6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BFA-6F60-4436-ACBC-C559AA55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F57F-87C3-4D21-B511-7F2AAD0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B0F0-E39A-48B7-BB61-000E4770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78D5-DE96-46DF-91B0-16D8F00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65FD-782D-439F-961F-52687E1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8EB-B59D-48B3-A8D1-A296B32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541-1AC2-460E-B784-17A2678E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E161-EE70-480F-AA69-E0683E0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F3F8-E7F7-420C-8411-F2EAD5C4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B763-3FA3-4693-8D10-A25DE3E7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92B3-79F6-44BE-9CE6-1B5712B8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169-F10C-4080-8DBC-3AA2F26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23B-BA68-4D26-9660-F44D8FFE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FD8-8D7B-4C3D-BD44-4789F4B7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FC1-6D38-4F80-A1E0-2BF60BB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733-BF6D-4541-B5E1-DAEFCA2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1A1-22F7-459D-82AE-CE56D14C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8F6-E27C-4E65-B997-AF55229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7F5-7DA1-440F-BFBB-6D160148B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606-DC59-4CEF-9B5C-0408325A91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8057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Самоопределение подростка через трудовую деятельность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35 кило надежды"/>
          <p:cNvPicPr/>
          <p:nvPr/>
        </p:nvPicPr>
        <p:blipFill>
          <a:blip r:embed="rId1"/>
          <a:stretch/>
        </p:blipFill>
        <p:spPr>
          <a:xfrm>
            <a:off x="3348000" y="3716280"/>
            <a:ext cx="2143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4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445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450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455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460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465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9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4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5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8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1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3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484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487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490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2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3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6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9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2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5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8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0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11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3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14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6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17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20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523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5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6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8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29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1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2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4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5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7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8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1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4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7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0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2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3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5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6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8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9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1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2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4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5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8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1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3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4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7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9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0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3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6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8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9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2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4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5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8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1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4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7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0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2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3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5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6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8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9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2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4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25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28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0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1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4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7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0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2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3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6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8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9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1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2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5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7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8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1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4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6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7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0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3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6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8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9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1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2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4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5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8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91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9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00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03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5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06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07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08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0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1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12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13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5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6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717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718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0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1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722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723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5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6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8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0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0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3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6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0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3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6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8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2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4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8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0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4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6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0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2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6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8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2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4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8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0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4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6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0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3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5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8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2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8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0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4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6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0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6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2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4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8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0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4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6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0" dur="5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2" dur="5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6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1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5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8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0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4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6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0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2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6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8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2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4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8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0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4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6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0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2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6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8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2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4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8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0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4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6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0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2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6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2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4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8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0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4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6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0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6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8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2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4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0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4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6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0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2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6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8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2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4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8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0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4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6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0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2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6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8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2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4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8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0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4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0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2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6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8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2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4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8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0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4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6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0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2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8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2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4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8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0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4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6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6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737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742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747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1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752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757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1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6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7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0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2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3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5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776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779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1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82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4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85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7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88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0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1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3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4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6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7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0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2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3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5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6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8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09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1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12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4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815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18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0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21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3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4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6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7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9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0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3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6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8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9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1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2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5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7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8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0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1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4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6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7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9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0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2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3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6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8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9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2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5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7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8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1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4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6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7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0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3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6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9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2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5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8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1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3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4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6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17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20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3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6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8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9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1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2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5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7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8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0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1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3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4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6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7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0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3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5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6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9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1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2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4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5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8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1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3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4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6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7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9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0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2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83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5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1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992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4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995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998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999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00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2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04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05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7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09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10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2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3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014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015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7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8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0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6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9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2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6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9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2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4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8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0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4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6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0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6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8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2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8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0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4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6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0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2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6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9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1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4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8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0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4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6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0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2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6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8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2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4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8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0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4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6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0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2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6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8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2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4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7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1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4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6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0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2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6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8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2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4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8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0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4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6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0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6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8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2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4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8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0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4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0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2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6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8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2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8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0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4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6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0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2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6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8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2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4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8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0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4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6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8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2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4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8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0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4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6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0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2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6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8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2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4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8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0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4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6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0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2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6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8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2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4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8" dur="5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0" dur="5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4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6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0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2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6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8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2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4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8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0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4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6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0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2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6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1.Как зовут главного героя, сколько ему лет и в чем его проблема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2" name="" descr="35 кило надежды"/>
          <p:cNvPicPr/>
          <p:nvPr/>
        </p:nvPicPr>
        <p:blipFill>
          <a:blip r:embed="rId1"/>
          <a:stretch/>
        </p:blipFill>
        <p:spPr>
          <a:xfrm>
            <a:off x="3276720" y="3141720"/>
            <a:ext cx="23875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2.Почему герой ненавидит школу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4" name="" descr="35 кило надежды"/>
          <p:cNvPicPr/>
          <p:nvPr/>
        </p:nvPicPr>
        <p:blipFill>
          <a:blip r:embed="rId1"/>
          <a:stretch/>
        </p:blipFill>
        <p:spPr>
          <a:xfrm>
            <a:off x="3564000" y="2708280"/>
            <a:ext cx="14349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3. Кого и почему любит главный герой?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6" name="" descr="35 кило надежды"/>
          <p:cNvPicPr/>
          <p:nvPr/>
        </p:nvPicPr>
        <p:blipFill>
          <a:blip r:embed="rId1"/>
          <a:stretch/>
        </p:blipFill>
        <p:spPr>
          <a:xfrm>
            <a:off x="5580000" y="2637000"/>
            <a:ext cx="1198800" cy="3816360"/>
          </a:xfrm>
          <a:prstGeom prst="rect">
            <a:avLst/>
          </a:prstGeom>
          <a:ln w="0">
            <a:noFill/>
          </a:ln>
        </p:spPr>
      </p:pic>
      <p:pic>
        <p:nvPicPr>
          <p:cNvPr id="3027" name="" descr="35 кило надежды"/>
          <p:cNvPicPr/>
          <p:nvPr/>
        </p:nvPicPr>
        <p:blipFill>
          <a:blip r:embed="rId2"/>
          <a:stretch/>
        </p:blipFill>
        <p:spPr>
          <a:xfrm>
            <a:off x="1979640" y="2637000"/>
            <a:ext cx="1149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4.Почему главному герою хотелось учиться именно в колледже Граншан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9" name="" descr="35 кило надежды"/>
          <p:cNvPicPr/>
          <p:nvPr/>
        </p:nvPicPr>
        <p:blipFill>
          <a:blip r:embed="rId1"/>
          <a:stretch/>
        </p:blipFill>
        <p:spPr>
          <a:xfrm>
            <a:off x="6300720" y="3645000"/>
            <a:ext cx="1962360" cy="2076480"/>
          </a:xfrm>
          <a:prstGeom prst="rect">
            <a:avLst/>
          </a:prstGeom>
          <a:ln w="0">
            <a:noFill/>
          </a:ln>
        </p:spPr>
      </p:pic>
      <p:pic>
        <p:nvPicPr>
          <p:cNvPr id="3030" name="" descr="35 кило надежды"/>
          <p:cNvPicPr/>
          <p:nvPr/>
        </p:nvPicPr>
        <p:blipFill>
          <a:blip r:embed="rId2"/>
          <a:stretch/>
        </p:blipFill>
        <p:spPr>
          <a:xfrm>
            <a:off x="684360" y="3213000"/>
            <a:ext cx="1123920" cy="3029040"/>
          </a:xfrm>
          <a:prstGeom prst="rect">
            <a:avLst/>
          </a:prstGeom>
          <a:ln w="0">
            <a:noFill/>
          </a:ln>
        </p:spPr>
      </p:pic>
      <p:pic>
        <p:nvPicPr>
          <p:cNvPr id="3031" name="" descr="35 кило надежды"/>
          <p:cNvPicPr/>
          <p:nvPr/>
        </p:nvPicPr>
        <p:blipFill>
          <a:blip r:embed="rId3"/>
          <a:stretch/>
        </p:blipFill>
        <p:spPr>
          <a:xfrm>
            <a:off x="3564000" y="3284640"/>
            <a:ext cx="1552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5.Где главному герою нравилось находиться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3" name="" descr="35 кило надежды"/>
          <p:cNvPicPr/>
          <p:nvPr/>
        </p:nvPicPr>
        <p:blipFill>
          <a:blip r:embed="rId1"/>
          <a:stretch/>
        </p:blipFill>
        <p:spPr>
          <a:xfrm>
            <a:off x="2970360" y="3213000"/>
            <a:ext cx="2057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6. Почему повествование ведется от имени подростка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5" name="" descr="35 кило надежды"/>
          <p:cNvPicPr/>
          <p:nvPr/>
        </p:nvPicPr>
        <p:blipFill>
          <a:blip r:embed="rId1"/>
          <a:stretch/>
        </p:blipFill>
        <p:spPr>
          <a:xfrm>
            <a:off x="4788000" y="2492280"/>
            <a:ext cx="127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7. Принято выделять следующие виды деятельности: игра, труд, учение и общение. А какой из видов, на ваш взгляд, важнее именно для подростка?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7" name="" descr="35 кило надежды"/>
          <p:cNvPicPr/>
          <p:nvPr/>
        </p:nvPicPr>
        <p:blipFill>
          <a:blip r:embed="rId1"/>
          <a:stretch/>
        </p:blipFill>
        <p:spPr>
          <a:xfrm>
            <a:off x="179280" y="4581360"/>
            <a:ext cx="2160720" cy="1760760"/>
          </a:xfrm>
          <a:prstGeom prst="rect">
            <a:avLst/>
          </a:prstGeom>
          <a:ln w="0">
            <a:noFill/>
          </a:ln>
        </p:spPr>
      </p:pic>
      <p:pic>
        <p:nvPicPr>
          <p:cNvPr id="3038" name="" descr="35 кило надежды"/>
          <p:cNvPicPr/>
          <p:nvPr/>
        </p:nvPicPr>
        <p:blipFill>
          <a:blip r:embed="rId2"/>
          <a:stretch/>
        </p:blipFill>
        <p:spPr>
          <a:xfrm>
            <a:off x="2340000" y="4076640"/>
            <a:ext cx="2143080" cy="2247840"/>
          </a:xfrm>
          <a:prstGeom prst="rect">
            <a:avLst/>
          </a:prstGeom>
          <a:ln w="0">
            <a:noFill/>
          </a:ln>
        </p:spPr>
      </p:pic>
      <p:pic>
        <p:nvPicPr>
          <p:cNvPr id="3039" name="" descr="35 кило надежды"/>
          <p:cNvPicPr/>
          <p:nvPr/>
        </p:nvPicPr>
        <p:blipFill>
          <a:blip r:embed="rId3"/>
          <a:stretch/>
        </p:blipFill>
        <p:spPr>
          <a:xfrm>
            <a:off x="7380360" y="3357720"/>
            <a:ext cx="1400040" cy="3028680"/>
          </a:xfrm>
          <a:prstGeom prst="rect">
            <a:avLst/>
          </a:prstGeom>
          <a:ln w="0">
            <a:noFill/>
          </a:ln>
        </p:spPr>
      </p:pic>
      <p:pic>
        <p:nvPicPr>
          <p:cNvPr id="3040" name="" descr="35 кило надежды"/>
          <p:cNvPicPr/>
          <p:nvPr/>
        </p:nvPicPr>
        <p:blipFill>
          <a:blip r:embed="rId4"/>
          <a:stretch/>
        </p:blipFill>
        <p:spPr>
          <a:xfrm>
            <a:off x="7885080" y="549360"/>
            <a:ext cx="1081080" cy="2160360"/>
          </a:xfrm>
          <a:prstGeom prst="rect">
            <a:avLst/>
          </a:prstGeom>
          <a:ln w="0">
            <a:noFill/>
          </a:ln>
        </p:spPr>
      </p:pic>
      <p:pic>
        <p:nvPicPr>
          <p:cNvPr id="3041" name="" descr="35 кило надежды"/>
          <p:cNvPicPr/>
          <p:nvPr/>
        </p:nvPicPr>
        <p:blipFill>
          <a:blip r:embed="rId5"/>
          <a:stretch/>
        </p:blipFill>
        <p:spPr>
          <a:xfrm>
            <a:off x="4643280" y="4076640"/>
            <a:ext cx="22482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43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6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11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16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21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26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2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5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8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51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54" name="Rectangle 5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8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" name="Rectangle 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4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1" name="Rectangle 8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7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84" name="Rectangle 88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9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0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87" name="Rectangle 91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2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0" name="Rectangle 9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9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3" name="Rectangle 9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9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2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3" name="Rectangle 1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2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6" name="Rectangle 13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8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" name="Rectangle 19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9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2" name="Rectangle 19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9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7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0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3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7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0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3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5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" name="Rectangle 25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2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58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5" name="Rectangle 259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6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261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62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3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64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5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66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67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4" name="Rectangle 268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9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70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7" name="Rectangle 271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2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73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70" name="Group 274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71" name="Group 275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72" name="Freeform 276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77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Freeform 278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79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76" name="Group 280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77" name="Freeform 281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82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Freeform 283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84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81" name="Group 285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82" name="Freeform 286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87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Freeform 288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89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86" name="Group 290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87" name="Freeform 291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92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293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Rectangle 294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95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296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Спасибо за урок!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45" name="" descr="35 кило надежды"/>
          <p:cNvPicPr/>
          <p:nvPr/>
        </p:nvPicPr>
        <p:blipFill>
          <a:blip r:embed="rId1"/>
          <a:stretch/>
        </p:blipFill>
        <p:spPr>
          <a:xfrm>
            <a:off x="2484360" y="3068640"/>
            <a:ext cx="35290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01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06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11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16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21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40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43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46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5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8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3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76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79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5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8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4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2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5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8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2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5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2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5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8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4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9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2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5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8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1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4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7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0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3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6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9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2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5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8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1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4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47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56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59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62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63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64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68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69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73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74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78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79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693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698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03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08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13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3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6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29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732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735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738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1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4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7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0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3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6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9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62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65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768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771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74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77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0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3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6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9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2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5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8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1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4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7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0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3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6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9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2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5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8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1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4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7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0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3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6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9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2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5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8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1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4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7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0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73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76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9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2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5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8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1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4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7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0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3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6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9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2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5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8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1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4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7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0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3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6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39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948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951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954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955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956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960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961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3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965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966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970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971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4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985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990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995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00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05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5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8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1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024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027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030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3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6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9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2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5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8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51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54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57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060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063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66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69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2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5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8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1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4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7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0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3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6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9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2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5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8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1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4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7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0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3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6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9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2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5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8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1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4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7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0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3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6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9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2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65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68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1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4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7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0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3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6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9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2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5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8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1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4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7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0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3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6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9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2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5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8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31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240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243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246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247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248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0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252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253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257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258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262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263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2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277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282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287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292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297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7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0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3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316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319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322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25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28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1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4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7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0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3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6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49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352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355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58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61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4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7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0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3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6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9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2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5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8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1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4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7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0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3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6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9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2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5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8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1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4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7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0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3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6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9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2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5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8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1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4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57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60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3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6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9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2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5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8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1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4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7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0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3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5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6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9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2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5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8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1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4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7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0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23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532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535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538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539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540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2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544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545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7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549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550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554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555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8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4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9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1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2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8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0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6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0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8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4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1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6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4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0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6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2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0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6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0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8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8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6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2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8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0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6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6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0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2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6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2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4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569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574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579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584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589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9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2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5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08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11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614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17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0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3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6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9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2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5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7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8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41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644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647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0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53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6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9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1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2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5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8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1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4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7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9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0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2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3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86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9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2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5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8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1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4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7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0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3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6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9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2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5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8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1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4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7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0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3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6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49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52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5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8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1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4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7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0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3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6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9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2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5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8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1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4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7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0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3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6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9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2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15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824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827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830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831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832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4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836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837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841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842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4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846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847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9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0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2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0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2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5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2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2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4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0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2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2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5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0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4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8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2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8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6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8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8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8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8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0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2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6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2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8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0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4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2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6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8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2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0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2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6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8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4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0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6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0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2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6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2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4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4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0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2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6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2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4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4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6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0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6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8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2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8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4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6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0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8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4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0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4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6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8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2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861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866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871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876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881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5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1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4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97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9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00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2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03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06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09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2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5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8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1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3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4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7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9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30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2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33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36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939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42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45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48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1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3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4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7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0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3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5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6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8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9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2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5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78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0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1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3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4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7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9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0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3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6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9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2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5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8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1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4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7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0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3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6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9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1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2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5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7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8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0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41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44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7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0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3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6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9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2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4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5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8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0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1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4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6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7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9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0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2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3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5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6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9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1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2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5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8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1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4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6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07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9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116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8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119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1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122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123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124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6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128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129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1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2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133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134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6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7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138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139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1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2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0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8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1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4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6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0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8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4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8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0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4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6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6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8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1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3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0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2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6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8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2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4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8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0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6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0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2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6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8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4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8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6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3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8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2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8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0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4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6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0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2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6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8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4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8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0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4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0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2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6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8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4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8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0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4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6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2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8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2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4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8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0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4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6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0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2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6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2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4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8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0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4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6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0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2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6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0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4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6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0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6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8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2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4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8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0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4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6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0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2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6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8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2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4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8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4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6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6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4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2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153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7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158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163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168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2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73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3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5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6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89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1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192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195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7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198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1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4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7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9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0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3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6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9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2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4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25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28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0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231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34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37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0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3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6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9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2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5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8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0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1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4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6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7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9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0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2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3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6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9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2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4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5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8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1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4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7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9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0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3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6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8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9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2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5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7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8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1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4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6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7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0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33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36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8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9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2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4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5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7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8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1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4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7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0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3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6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9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2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4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5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8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0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1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3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4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6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7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9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0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3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6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8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99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1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08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11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3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414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415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416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8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420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421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3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4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425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426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8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9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430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431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3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4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fill="hold">
                      <p:stCondLst>
                        <p:cond delay="0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4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0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4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7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0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2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8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2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8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0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4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6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2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6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8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2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4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8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0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4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7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9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2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6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8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2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8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0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4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6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0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2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6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8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2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4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8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0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6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0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2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4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8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0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4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6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0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2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6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8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2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4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8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4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6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0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2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6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8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2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4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8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0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4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6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0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2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6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8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2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4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8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0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4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6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0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2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6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8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2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4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8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0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4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6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2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6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8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2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4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8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0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4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6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2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6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8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4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8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0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6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0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2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8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2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4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8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0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4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6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0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6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8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2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4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8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0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5:12:24Z</dcterms:created>
  <dc:creator>Admin</dc:creator>
  <dc:description/>
  <dc:language>en-US</dc:language>
  <cp:lastModifiedBy>Admin</cp:lastModifiedBy>
  <dcterms:modified xsi:type="dcterms:W3CDTF">2016-11-26T17:29:27Z</dcterms:modified>
  <cp:revision>6</cp:revision>
  <dc:subject/>
  <dc:title>Самоопределение подростка через трудовую деятельность </dc:title>
</cp:coreProperties>
</file>