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35F-01A9-49E4-9A5C-561041D3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14D-6C47-4A88-BBF0-4F80C3F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1CE-B42D-40D7-BADC-0C8D12E2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124-7052-4C23-A3B9-CEE3654E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28852-6DC1-46B4-B5E2-40C626D7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39F3A-EAE6-4E5F-B966-47B741A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9D3A-D34A-499C-BB70-85DD2F4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128A5-FC4C-41EF-A550-A18EB33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AF49A-BA38-4F9D-8A34-2BA57F5A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420E3-8BE4-48E1-83E3-89ABFEC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F2DAB-9171-405D-94D2-5E4B51A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6BC-EE90-4F90-B2D6-34D3AF10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E2DE8-F5E4-4093-9B5B-97857C7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8BCA-1DD1-420E-BF76-4A8CE6B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971D6-B3AD-4028-B2A4-1CE9F18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F4072-31B8-405B-A67F-21AF11DA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9405A-3341-4BE8-9CB9-DD7C92BC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96B-AD7F-4348-BECE-4C7BEBD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D9E-3252-402C-A01B-CD01073D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B65-ABF5-486B-A89A-19E9790A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5C2-86DE-4BB3-BCD6-4769BAD4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CC5-2246-4A1C-8DE1-B7B4F015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B85-7713-46B0-AD73-1CEEA26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641-8ED4-4743-B295-1D08612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B4E8-BCE6-4CD9-BAB3-906AF46DC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CC3-349E-4EFB-BD75-39249DAED3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99640" y="260280"/>
            <a:ext cx="755964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ГБОУ Школа №1392 им. Д.В. Рябинкина Дошкольное отделение №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Семинар-практику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для педагогов Д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Приёмы развития связной речи дошкольников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Подготовила учитель-логоп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Григорьева Е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февраль 2016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9"/>
          <p:cNvSpPr/>
          <p:nvPr/>
        </p:nvSpPr>
        <p:spPr>
          <a:xfrm>
            <a:off x="457200" y="260280"/>
            <a:ext cx="8218440" cy="619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ТР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(теория решения изобретательских задач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•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технология обучения детей составлению сравн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•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технология обучения детей составлению загадок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•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технология обучения детей составлению метафор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•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ставление рифмованных текс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•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технология обучения детей творческих рассказов по картине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•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технология обучения составлению текстов сказочного содержания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484000" y="1905120"/>
            <a:ext cx="620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Приемы ТРИЗ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а в детском саду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е требуют специально отведенного времени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- это вопрос мышления и подхода к детям. Например, читая с детьми какую-то сказку, можно проанализировать линию поведения главного геро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Если обратиться к классическому детскому стишку про бычка, у которого "доска кончается, сейчас я упаду", то можно побудить детей поразмышлять над следующими вопросам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как помочь бычку не упасть? Пусть он останови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Но ему нужно идти дальше, что делать? Подложить другую досочку и так дале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Главное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е принимать решения вместо ребенка, а учить его мыслить и анализировать ситуацию с разных сторон и с точки зрения эффектив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гровая ситуация «Маша-Растеряша» </a:t>
            </a:r>
            <a:br>
              <a:rPr sz="1800"/>
            </a:br>
            <a:endParaRPr b="0" lang="en-US" sz="1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62064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 развитие речи, внимания, умения увидеть все необходим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туплени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: рассказать детям о рассеянных и забывчивых людях, которые все путают и забывают (не забыть сделать воспитательный вывод). А затем спросить: кто хочет помочь Машам-растеряшам? Далее игру можно проводить двумя способами по желанию. 1.Ведущий будет Машей. Растерянно оглядываясь по сторонам, он говор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Ой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то случилос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   Я потеряла (называет какой-то предмет, например, ложку). Чем же я теперь буду суп есть (или назвать любое другое действие)? Сочувствующие помощники начинают предлагать свои способы решения проблемы: можно взять чашку и выпить бульон, а потом вилкой съесть все остальное и т. д. 2. Развитие игры происходит так же как и в первом, но роль Маши-Растеряши исполняют разные дети, а не только ведущий. Например, кто предложил лучшую альтернативу потерянному предмету, тот становится Машей. Таким образом, обеспечивается активность всех участников иг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6840" y="47592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гровая ситуация «Сломалась игруш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Элементы ТРИЗ можно использовать и в житейских ситуациях, тем самым  помогая ребенку  не только анализировать ситуацию, но и,  в дальнейшем , достигать самостоятельного поиска выходов из ситуации. Например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  ребенка сломалась игрушка.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спользуя принцип противоречий, можно уточнить, хорошо это или плохо. Скорее всего, что ответ будет «плохо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огда вступает в силу использование всех интеллектуальных ресурсов: а как ее можно сейчас использовать? Как подставку? Или это машинка, которая может ездить на трех колесах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то-кто в теремочке живет? </a:t>
            </a:r>
            <a:endParaRPr b="0" lang="en-US" sz="2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научить ребенка элементам анализа, побудить его замечать общие признаки путем их срав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надобятся: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красочные изображения разных предметов (груша, ручка, дом, рюкзак, кастрюля, цветок и так далее) Можно самим сделать эти заготовки вместе с детьми. Для теремка идеально подойдет большая коробка или шкаф - фантазия детей подскажет им все остально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ступление: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вспомнить вместе с детьми сказку "Теремок" и предложить разыграть ее так, как это делают в стране Перевертышей.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од игр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: каждый ребенок с закрытыми глазами вытягивает свой рисунок и играет за нарисованный предмет. Ведущий выбирает хозяина теремка - короля Перевертышей, который созвал своих друзей на пир. Персонажи по очереди подходят к теремку. Первый приглашенный задает вопрос: - Тук, тук, кто в теремочке жи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cc00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 - ... (называет себя, например, цветок). А ты кто? - А я - ... (называет себя, например, груша). Пустишь меня в теремок? - Пущу, если скажешь, чем ты на меня похож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ость внимательно сравнивает два рисунка и называет найденные общие моменты. Например, он может сказать, что и у цветка, и у груши есть веточка. После этого первый участник заходит в теремок, а к хозяину уже стучится следующий гость. Важно сохранить дружелюбную атмосферу: если кто-то не может ответить, то помогают остальные де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, serif"/>
              </a:rPr>
              <a:t>Дидактическая игра «Кто больш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тие ре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ти сидят вокруг стола. В руках логопеда стопка карточек. Первый игрок вынимает из этой стопки любую карточку, например «шапка», и придумывает какое-нибудь словосочетание, например : «Шапка пушистая». Картинка передается к следующему игроку. «Шапка черная», «Шапка новая», и пр., - поочередно говорят участники игры, передавая картинку по кругу. Игрок, назвавший последнее словосочетание, оставляет картинку у себя и получает право вынуть из стопки следующую картинку. Побеждает тот у кого наибольшее количество картин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187280" y="1635120"/>
            <a:ext cx="657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81f02"/>
                </a:solidFill>
                <a:latin typeface="Tahoma"/>
              </a:rPr>
              <a:t>Организация взаимодействия специалистов ДО в использовании нетрадиционных методов и приемов развития связной речи дошколь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50920" y="333360"/>
          <a:ext cx="8496360" cy="518328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054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Методы и приемы в контексте развития речи де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специалисты Д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Виды деятельности при которой специалист решает речевые зада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ТР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инструктор физ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- придумывание сказок о спортивном инвента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музыкальный руковод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- придумывание рассказов, сказок по музыкальным произвед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765000"/>
          <a:ext cx="8424720" cy="482472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237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Мнемо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инструктор физ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для напоминания определенной рифмовки к физкультурным играм-упражнени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музыкальный руковод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при обучении детей анализу музыкальных произ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4360" y="907920"/>
          <a:ext cx="7991280" cy="370368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  <a:gridCol w="2663640"/>
              </a:tblGrid>
              <a:tr h="20120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Постановка проблемного вопро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инструктор физ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Как можно использовать спортивный снаряд?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Для чего он нужен?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С помощью какого инвентаря развить мышцы рук?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музыкальный руковод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Какую музыку мы слушаем когда нам весело?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81f02"/>
                          </a:solidFill>
                          <a:latin typeface="Times New Roman"/>
                          <a:ea typeface="Times New Roman"/>
                        </a:rPr>
                        <a:t>Как человеку поднять настроение?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47360" y="396360"/>
            <a:ext cx="7516080" cy="116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ОСНОВНЫЕ МЕТОДЫ РАЗВИТИЯ</a:t>
            </a:r>
            <a:br>
              <a:rPr sz="2800"/>
            </a:b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51760" y="1941120"/>
            <a:ext cx="3045240" cy="46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Наглядные</a:t>
            </a: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5580000" y="1916280"/>
            <a:ext cx="2890800" cy="515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Словесные</a:t>
            </a: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84360" y="2637000"/>
            <a:ext cx="3528720" cy="3816360"/>
          </a:xfrm>
          <a:custGeom>
            <a:avLst/>
            <a:gdLst>
              <a:gd name="textAreaLeft" fmla="*/ 172080 w 3528720"/>
              <a:gd name="textAreaRight" fmla="*/ 3356640 w 3528720"/>
              <a:gd name="textAreaTop" fmla="*/ 172080 h 3816360"/>
              <a:gd name="textAreaBottom" fmla="*/ 3644280 h 3816360"/>
            </a:gdLst>
            <a:ahLst/>
            <a:rect l="textAreaLeft" t="textAreaTop" r="textAreaRight" b="textAreaBottom"/>
            <a:pathLst>
              <a:path w="21600" h="23361">
                <a:moveTo>
                  <a:pt x="3600" y="0"/>
                </a:moveTo>
                <a:arcTo wR="3600" hR="3600" stAng="16200000" swAng="-5400000"/>
                <a:lnTo>
                  <a:pt x="0" y="19761"/>
                </a:lnTo>
                <a:arcTo wR="3600" hR="3600" stAng="10800000" swAng="-5400000"/>
                <a:lnTo>
                  <a:pt x="18000" y="23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</a:t>
            </a:r>
            <a:r>
              <a:rPr b="1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наблюдения во время прогулок, экскурс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рассматривание конкретного объекта и наблюдение за ним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знакомство с объектом опосредованным путем, т.е. посредством фотографий, картин, картинок, кинофильмов</a:t>
            </a:r>
            <a:r>
              <a:rPr b="0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364000" y="2708280"/>
            <a:ext cx="3311640" cy="22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</a:t>
            </a:r>
            <a:r>
              <a:rPr b="1" lang="ru-RU" sz="21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заучивание наизусть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пересказ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составление различных видов рассказов;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Monotype Corsiva"/>
              </a:rPr>
              <a:t>- беседы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76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cb75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78240" y="327240"/>
            <a:ext cx="7858440" cy="124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ПРИЕМЫ РАЗВИТИЯ</a:t>
            </a:r>
            <a:br>
              <a:rPr sz="2800"/>
            </a:br>
            <a:r>
              <a:rPr b="0" lang="ru-RU" sz="2800" spc="-1" strike="noStrike">
                <a:solidFill>
                  <a:srgbClr val="881f02"/>
                </a:solidFill>
                <a:latin typeface="Tahoma"/>
              </a:rPr>
              <a:t>СВЯЗНОЙ РЕЧИ ДОШКОЛЬНИКОВ</a:t>
            </a:r>
            <a:endParaRPr b="0" lang="en-US" sz="2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1200" y="4192560"/>
            <a:ext cx="2504880" cy="2144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84000"/>
          </a:bodyPr>
          <a:p>
            <a:pPr marL="288000" indent="-288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Словес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- речевой образ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пов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1f02"/>
                </a:solidFill>
                <a:latin typeface="Monotype Corsiva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611280" y="1844640"/>
            <a:ext cx="4319640" cy="216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Наглядные</a:t>
            </a:r>
            <a:r>
              <a:rPr b="1" lang="ru-RU" sz="2800" spc="-1" strike="noStrike">
                <a:solidFill>
                  <a:srgbClr val="881f0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</a:t>
            </a:r>
            <a:r>
              <a:rPr b="0" lang="ru-RU" sz="2200" spc="-1" strike="noStrike">
                <a:solidFill>
                  <a:srgbClr val="881f02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организация наблюд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 демонстрация иллюстраций, картин, предмета, макета и т.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- просмотр видеофильмов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5796000" y="1773360"/>
            <a:ext cx="3097080" cy="3960720"/>
          </a:xfrm>
          <a:custGeom>
            <a:avLst/>
            <a:gdLst>
              <a:gd name="textAreaLeft" fmla="*/ 151200 w 3097080"/>
              <a:gd name="textAreaRight" fmla="*/ 2945880 w 3097080"/>
              <a:gd name="textAreaTop" fmla="*/ 151200 h 3960720"/>
              <a:gd name="textAreaBottom" fmla="*/ 3809520 h 3960720"/>
            </a:gdLst>
            <a:ahLst/>
            <a:rect l="textAreaLeft" t="textAreaTop" r="textAreaRight" b="textAreaBottom"/>
            <a:pathLst>
              <a:path w="21600" h="27623">
                <a:moveTo>
                  <a:pt x="3600" y="0"/>
                </a:moveTo>
                <a:arcTo wR="3600" hR="3600" stAng="16200000" swAng="-5400000"/>
                <a:lnTo>
                  <a:pt x="0" y="24023"/>
                </a:lnTo>
                <a:arcTo wR="3600" hR="3600" stAng="10800000" swAng="-5400000"/>
                <a:lnTo>
                  <a:pt x="18000" y="27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Игров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дидактические игры-упражн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театрализованные иг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сюжетно-ролевые игр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881f02"/>
                </a:solidFill>
                <a:latin typeface="Monotype Corsiva"/>
              </a:rPr>
              <a:t>и др. виды игр с речевым содержание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76720" y="4292640"/>
            <a:ext cx="2303280" cy="230508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305080"/>
              <a:gd name="textAreaBottom" fmla="*/ 2192760 h 2305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1f02"/>
                </a:solidFill>
                <a:latin typeface="Tahoma"/>
              </a:rPr>
              <a:t>Косв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1f02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подска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сов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испр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реп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buClr>
                <a:srgbClr val="881f02"/>
              </a:buClr>
              <a:buSzPct val="12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81f02"/>
                </a:solidFill>
                <a:latin typeface="Monotype Corsiva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buClr>
                <a:srgbClr val="881f02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81f02"/>
              </a:solidFill>
              <a:latin typeface="Tahoma"/>
            </a:endParaRPr>
          </a:p>
        </p:txBody>
      </p:sp>
      <p:pic>
        <p:nvPicPr>
          <p:cNvPr id="96" name="AutoShape 8" descr=""/>
          <p:cNvPicPr/>
          <p:nvPr/>
        </p:nvPicPr>
        <p:blipFill>
          <a:blip r:embed="rId1"/>
          <a:stretch/>
        </p:blipFill>
        <p:spPr>
          <a:xfrm>
            <a:off x="536400" y="1908000"/>
            <a:ext cx="8071200" cy="4121280"/>
          </a:xfrm>
          <a:prstGeom prst="rect">
            <a:avLst/>
          </a:prstGeom>
          <a:ln w="0">
            <a:noFill/>
          </a:ln>
        </p:spPr>
      </p:pic>
      <p:pic>
        <p:nvPicPr>
          <p:cNvPr id="97" name="Скругленный прямоугольник 1" descr=""/>
          <p:cNvPicPr/>
          <p:nvPr/>
        </p:nvPicPr>
        <p:blipFill>
          <a:blip r:embed="rId2"/>
          <a:stretch/>
        </p:blipFill>
        <p:spPr>
          <a:xfrm>
            <a:off x="890640" y="324000"/>
            <a:ext cx="73627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2880"/>
            <a:ext cx="532764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ahoma"/>
              </a:rPr>
              <a:t>Пересказ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5338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“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Новые сапоги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Мите, мама купила новые зимние сапог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В сапогах он пошёл в детский сад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В детском саду во время прогулке Митя наступил на гвозд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Гвоздь порвал сапог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Сапоги мама с Митей отнесли к сапожник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Он зашил их, и Митя побежал кататься на горк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086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141"/>
                </a:solidFill>
                <a:uFillTx/>
                <a:latin typeface="Tahoma"/>
              </a:rPr>
              <a:t>“</a:t>
            </a:r>
            <a:r>
              <a:rPr b="1" i="1" lang="ru-RU" sz="2400" spc="-1" strike="noStrike" u="sng">
                <a:solidFill>
                  <a:srgbClr val="ff6141"/>
                </a:solidFill>
                <a:uFillTx/>
                <a:latin typeface="Tahoma"/>
              </a:rPr>
              <a:t>Подарки зимы”.</a:t>
            </a:r>
            <a:r>
              <a:rPr b="1" i="1" lang="ru-RU" sz="2400" spc="-1" strike="noStrike">
                <a:solidFill>
                  <a:srgbClr val="ff6141"/>
                </a:solidFill>
                <a:latin typeface="Tahoma"/>
              </a:rPr>
              <a:t> Г.Сапгир.</a:t>
            </a:r>
            <a:endParaRPr b="0" lang="en-US" sz="2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338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К нам пришла зима сам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Принесла во двор зи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Снег пушистый, лёд, снежин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Санки, лыжи и конь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На деревья и кус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Шапочки надел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 толстяка-снегови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Превратила чуч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И на окнах спозаранку –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Звёзды, листья, завитуш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се девчонки взяли сан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се мальчишки взяли клюш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Вот подарки так подарк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Мы играем во двор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Нам не холодно, а жарко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ahoma"/>
              </a:rPr>
              <a:t>Будто лето в декабр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53290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141"/>
                </a:solidFill>
                <a:latin typeface="Tahoma"/>
              </a:rPr>
              <a:t>Загадки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848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Составление предложений 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105440" cy="37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599000" y="4438800"/>
            <a:ext cx="404820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4859280" y="1665360"/>
            <a:ext cx="42292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Рассказ-опис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57200" y="998640"/>
            <a:ext cx="82296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2:28:15Z</dcterms:created>
  <dc:creator>я</dc:creator>
  <dc:description/>
  <dc:language>en-US</dc:language>
  <cp:lastModifiedBy>Елена Григорьева</cp:lastModifiedBy>
  <dcterms:modified xsi:type="dcterms:W3CDTF">2016-11-27T18:06:29Z</dcterms:modified>
  <cp:revision>44</cp:revision>
  <dc:subject/>
  <dc:title>Слайд 1</dc:title>
</cp:coreProperties>
</file>