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5EB-FB4C-4F90-AB8B-36995F8D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F9F-D659-42CC-A142-C8B6A2C0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8F7-72D5-4FF8-A592-276B37B3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FC3-1697-4E76-8725-7431CEE6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FAC-3423-4698-9855-627FC109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9A14-6B65-407D-84C1-2F89F827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8978-EC70-4682-9AA8-093B35E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7EAD-4F65-4401-98BF-9472BF3B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387B-F3C1-43B0-887E-66FE0A94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C5E5-23A3-4E53-BEDF-F611832A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D76E-4291-4FD6-9824-537768F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9FD-2D2F-41C8-A8AA-348D8AE6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BA73-C29D-417A-BAC2-ECC010C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C64E-58DD-4820-9D56-C35F41F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08B9-D196-4918-87B1-E70D726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4C52-8022-4E57-8778-C3FDB8C4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F13B-25EC-419A-8CA0-D2290A98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7BC3-85EB-427D-9FD1-417F2285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8319-9272-4588-A0BD-39662C84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619A-BE5C-4487-86A3-3ADE50AC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E690-5794-4A86-BB96-9A117D80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475A-0396-4264-A85B-D20D2B86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DE1-6A6C-4EB4-94BC-063BF0E4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65087-7B88-4A4A-944C-560AB979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C74A7-DEDA-41B8-A2AF-8AC965A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E0A0-1BEF-4E95-91F5-7EE6721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EECD-B7E2-4DDF-B123-65004CEB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39AC-1F12-4C66-9DB3-B2CCCE4F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5E36-6FAC-4376-B638-3C740A88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0089-F9F4-4A77-9DB9-2F47172D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E422-1B40-441C-99E8-716F39F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6B093-A222-4AED-8991-5C241F2B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1C6C-BC6F-4822-93D0-84F30E7A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92E-55D5-44AC-BEB2-4F810A5A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D3E1-1D1C-4322-BA07-460F312C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C1DE-7952-407C-955A-73945687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3158C-1335-4100-ABDC-30B9D3CD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1409A-972F-45CD-9F0F-4C3683F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4833-C44A-4F0B-8744-4FAAA87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9058-67BE-4279-A31C-D76C946C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B850-FE4C-4865-86FC-1243314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8078B-EA7B-4DEB-8293-F61C1B5C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4354-C290-4ADE-8B65-86C4B572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F327-21D1-4E45-ADA6-232DA5EA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F6F-E160-4E3D-B2E4-B34A0EC6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D586-D742-4DC7-91A9-294838C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15BE-7DE3-47D0-AF2A-B9A7C148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20A6-F944-40AF-92FA-E03DC81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4A04-0127-4566-BADD-B2C9D1E8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B590-A044-4BEB-9952-F294DF8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1FB7-10C3-47E8-BBB7-F1D146C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D0C6-8F72-4A2C-8636-C10F922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57BD-DF61-4BFF-8DA4-BA8833F1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7BD3-3ECA-4664-869A-89E47341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37B62-8970-4B77-8D1C-819A262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C7E-F2ED-475D-8DFD-AD0870A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9DE4-EAEB-429E-91F2-2CD23846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AE6D7-FB69-4650-AD60-8CE7148C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78B35-F4A7-407B-A189-F12C2573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4E82-738C-46FF-8CF2-3559C98B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051F1-2C75-4377-84E7-42244732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CADC-DD0F-4894-B163-F8ABAE53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887BF-31FE-4359-B6F5-A246DD1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691C6-5770-48F6-94D3-52C6963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9B1CD-12AC-4358-B5D5-E35D4678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FF74-C17A-4A4D-9497-F51CE29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207-D8E6-428E-A7FD-DCAC218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CB925-C24A-4D69-8D7F-79352FDC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1C55-0AA1-4E0F-B005-5178439F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FEF6-4625-4FD7-9791-F4D89062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E26-15B8-4C4A-9A56-180ABD31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04E-BA20-465B-917C-2F1ECA1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14A2-6A3E-4555-898B-57CE4F90CB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D625-CF0E-46F9-8A24-8DC7B0641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3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0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D546-AB15-4FC7-B3A5-E3B89CE3D3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4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2FA4-9A9E-4839-8C72-2C1F04FE13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5E6E-EBC9-44F3-B131-F3DA9B7A8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25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grpSp>
          <p:nvGrpSpPr>
            <p:cNvPr id="2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B18C-2CC9-498D-9478-BC36AFC5B5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Oval 4"/>
          <p:cNvSpPr/>
          <p:nvPr/>
        </p:nvSpPr>
        <p:spPr>
          <a:xfrm>
            <a:off x="380880" y="1676520"/>
            <a:ext cx="3048120" cy="2971800"/>
          </a:xfrm>
          <a:prstGeom prst="ellipse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1905120" y="320040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1" name="Group 23"/>
          <p:cNvGrpSpPr/>
          <p:nvPr/>
        </p:nvGrpSpPr>
        <p:grpSpPr>
          <a:xfrm>
            <a:off x="380880" y="2743200"/>
            <a:ext cx="3048120" cy="914400"/>
            <a:chOff x="380880" y="2743200"/>
            <a:chExt cx="3048120" cy="914400"/>
          </a:xfrm>
        </p:grpSpPr>
        <p:sp>
          <p:nvSpPr>
            <p:cNvPr id="302" name="Oval 5"/>
            <p:cNvSpPr/>
            <p:nvPr/>
          </p:nvSpPr>
          <p:spPr>
            <a:xfrm>
              <a:off x="380880" y="2743200"/>
              <a:ext cx="3048120" cy="914400"/>
            </a:xfrm>
            <a:prstGeom prst="ellipse">
              <a:avLst/>
            </a:prstGeom>
            <a:noFill/>
            <a:ln w="38160">
              <a:solidFill>
                <a:srgbClr val="00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57200" y="3352680"/>
              <a:ext cx="152280" cy="763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4" name="Line 12"/>
            <p:cNvSpPr/>
            <p:nvPr/>
          </p:nvSpPr>
          <p:spPr>
            <a:xfrm>
              <a:off x="684360" y="3449520"/>
              <a:ext cx="152280" cy="763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5" name="Line 13"/>
            <p:cNvSpPr/>
            <p:nvPr/>
          </p:nvSpPr>
          <p:spPr>
            <a:xfrm>
              <a:off x="914400" y="3581280"/>
              <a:ext cx="22860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6" name="Line 14"/>
            <p:cNvSpPr/>
            <p:nvPr/>
          </p:nvSpPr>
          <p:spPr>
            <a:xfrm>
              <a:off x="1219320" y="3581280"/>
              <a:ext cx="152280" cy="763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7" name="Line 15"/>
            <p:cNvSpPr/>
            <p:nvPr/>
          </p:nvSpPr>
          <p:spPr>
            <a:xfrm>
              <a:off x="1523880" y="3657600"/>
              <a:ext cx="763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8" name="Line 16"/>
            <p:cNvSpPr/>
            <p:nvPr/>
          </p:nvSpPr>
          <p:spPr>
            <a:xfrm>
              <a:off x="1752480" y="3657600"/>
              <a:ext cx="15264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9" name="Line 17"/>
            <p:cNvSpPr/>
            <p:nvPr/>
          </p:nvSpPr>
          <p:spPr>
            <a:xfrm>
              <a:off x="1981080" y="3657600"/>
              <a:ext cx="15264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0" name="Line 18"/>
            <p:cNvSpPr/>
            <p:nvPr/>
          </p:nvSpPr>
          <p:spPr>
            <a:xfrm>
              <a:off x="2286000" y="3657600"/>
              <a:ext cx="15228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1" name="Line 19"/>
            <p:cNvSpPr/>
            <p:nvPr/>
          </p:nvSpPr>
          <p:spPr>
            <a:xfrm>
              <a:off x="2514600" y="3581280"/>
              <a:ext cx="15228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2" name="Line 20"/>
            <p:cNvSpPr/>
            <p:nvPr/>
          </p:nvSpPr>
          <p:spPr>
            <a:xfrm flipH="1">
              <a:off x="3276360" y="3276720"/>
              <a:ext cx="152280" cy="1522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3" name="Line 21"/>
            <p:cNvSpPr/>
            <p:nvPr/>
          </p:nvSpPr>
          <p:spPr>
            <a:xfrm flipH="1">
              <a:off x="3047760" y="3429000"/>
              <a:ext cx="152280" cy="763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4" name="Line 22"/>
            <p:cNvSpPr/>
            <p:nvPr/>
          </p:nvSpPr>
          <p:spPr>
            <a:xfrm flipH="1">
              <a:off x="2742840" y="3505320"/>
              <a:ext cx="228600" cy="759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5" name="Text Box 25"/>
          <p:cNvSpPr/>
          <p:nvPr/>
        </p:nvSpPr>
        <p:spPr>
          <a:xfrm>
            <a:off x="1981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2590920" y="68580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66"/>
                </a:solidFill>
                <a:latin typeface="Garamond"/>
              </a:rPr>
              <a:t>Сфера и шар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Line 27"/>
          <p:cNvSpPr/>
          <p:nvPr/>
        </p:nvSpPr>
        <p:spPr>
          <a:xfrm flipV="1">
            <a:off x="1981080" y="2057040"/>
            <a:ext cx="914400" cy="1143000"/>
          </a:xfrm>
          <a:prstGeom prst="line">
            <a:avLst/>
          </a:prstGeom>
          <a:ln w="38160">
            <a:solidFill>
              <a:srgbClr val="00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3657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Решение зада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TextBox 21"/>
          <p:cNvSpPr/>
          <p:nvPr/>
        </p:nvSpPr>
        <p:spPr>
          <a:xfrm>
            <a:off x="5334120" y="51814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7b4e"/>
                </a:solidFill>
                <a:latin typeface="Garamond"/>
              </a:rPr>
              <a:t>Работу подготови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7b4e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477b4e"/>
                </a:solidFill>
                <a:latin typeface="Garamond"/>
              </a:rPr>
              <a:t>Коваленко Ирина Анатольевна, учитель математики школы №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77b4e"/>
                </a:solidFill>
                <a:latin typeface="Garamond"/>
              </a:rPr>
              <a:t>города Стародуба Брянской обла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атематический диктан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838080" y="1371600"/>
            <a:ext cx="769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йдите координаты центра и радиус сферы, заданной уравнение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 х- 2)</a:t>
            </a:r>
            <a:r>
              <a:rPr b="1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+ ( у + 3)</a:t>
            </a:r>
            <a:r>
              <a:rPr b="1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=25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 //    ( x + 3 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 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 (z – 1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=1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914400" y="266688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пишите уравнение сферы радиуса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с центром в точке А, есл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(2;0; - 1),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 7                        //      А (-2; 1; 0)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=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762120" y="3886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ьте, лежит ли точка А на сфере, заданной уравнение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х + 2)</a:t>
            </a:r>
            <a:r>
              <a:rPr b="1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+ (у -1)</a:t>
            </a:r>
            <a:r>
              <a:rPr b="1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+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z -3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= 1,            //(x -3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 ( y + 1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+ (z -4)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= 4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 ( -2; 1; 4)                                                  A(5;-1; 4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838080" y="52578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кажите , что заданное уравнение является уравнением сфе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 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 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2x – 2y = 2                        // x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 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+ 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- 2x + 2z = 7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33"/>
                </a:solidFill>
                <a:latin typeface="Times New Roman"/>
              </a:rPr>
              <a:t>Вершины  треугольника АВС лежат на сфере, радиус которой равен 13. Найдите расстояние от центра сферы до плоскости треугольника, если АВ = 6, ВС = 8, АС = 10.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26" name="Picture 6" descr="53AF77C"/>
          <p:cNvPicPr/>
          <p:nvPr/>
        </p:nvPicPr>
        <p:blipFill>
          <a:blip r:embed="rId1"/>
          <a:srcRect l="22727" t="10976" r="60608" b="62692"/>
          <a:stretch/>
        </p:blipFill>
        <p:spPr>
          <a:xfrm>
            <a:off x="762120" y="1676520"/>
            <a:ext cx="3200400" cy="3408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4419720" y="1523880"/>
            <a:ext cx="4343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Demi"/>
              </a:rPr>
              <a:t>Схема реш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. 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=6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+ 8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º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ОК ┴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К – центр круга,  АК =КС=5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. ОК =               =1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0"/>
              <p:cNvSpPr txBox="1"/>
              <p:nvPr/>
            </p:nvSpPr>
            <p:spPr>
              <a:xfrm>
                <a:off x="5486400" y="3505320"/>
                <a:ext cx="1143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30" name="Group 32"/>
          <p:cNvGrpSpPr/>
          <p:nvPr/>
        </p:nvGrpSpPr>
        <p:grpSpPr>
          <a:xfrm>
            <a:off x="5257800" y="4267080"/>
            <a:ext cx="3657600" cy="2197080"/>
            <a:chOff x="5257800" y="4267080"/>
            <a:chExt cx="3657600" cy="2197080"/>
          </a:xfrm>
        </p:grpSpPr>
        <p:grpSp>
          <p:nvGrpSpPr>
            <p:cNvPr id="331" name="Group 26"/>
            <p:cNvGrpSpPr/>
            <p:nvPr/>
          </p:nvGrpSpPr>
          <p:grpSpPr>
            <a:xfrm>
              <a:off x="5715000" y="4571280"/>
              <a:ext cx="2895480" cy="1752840"/>
              <a:chOff x="5715000" y="4571280"/>
              <a:chExt cx="2895480" cy="1752840"/>
            </a:xfrm>
          </p:grpSpPr>
          <p:sp>
            <p:nvSpPr>
              <p:cNvPr id="332" name="Oval 13"/>
              <p:cNvSpPr/>
              <p:nvPr/>
            </p:nvSpPr>
            <p:spPr>
              <a:xfrm>
                <a:off x="5715000" y="4571640"/>
                <a:ext cx="2895480" cy="990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3" name="Line 14"/>
              <p:cNvSpPr/>
              <p:nvPr/>
            </p:nvSpPr>
            <p:spPr>
              <a:xfrm>
                <a:off x="5715000" y="510480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4" name="Line 15"/>
              <p:cNvSpPr/>
              <p:nvPr/>
            </p:nvSpPr>
            <p:spPr>
              <a:xfrm flipV="1">
                <a:off x="5715000" y="4571280"/>
                <a:ext cx="19810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5" name="Line 16"/>
              <p:cNvSpPr/>
              <p:nvPr/>
            </p:nvSpPr>
            <p:spPr>
              <a:xfrm>
                <a:off x="7696080" y="4571640"/>
                <a:ext cx="8380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6" name="Line 17"/>
              <p:cNvSpPr/>
              <p:nvPr/>
            </p:nvSpPr>
            <p:spPr>
              <a:xfrm>
                <a:off x="7238880" y="51048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7" name="Line 18"/>
              <p:cNvSpPr/>
              <p:nvPr/>
            </p:nvSpPr>
            <p:spPr>
              <a:xfrm>
                <a:off x="5715000" y="5104800"/>
                <a:ext cx="15238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8" name="Oval 19"/>
              <p:cNvSpPr/>
              <p:nvPr/>
            </p:nvSpPr>
            <p:spPr>
              <a:xfrm>
                <a:off x="7238880" y="5104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9" name="Oval 20"/>
              <p:cNvSpPr/>
              <p:nvPr/>
            </p:nvSpPr>
            <p:spPr>
              <a:xfrm>
                <a:off x="5715000" y="51048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0" name="Oval 21"/>
              <p:cNvSpPr/>
              <p:nvPr/>
            </p:nvSpPr>
            <p:spPr>
              <a:xfrm>
                <a:off x="7696080" y="457164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1" name="Oval 22"/>
              <p:cNvSpPr/>
              <p:nvPr/>
            </p:nvSpPr>
            <p:spPr>
              <a:xfrm>
                <a:off x="8534160" y="5104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2" name="Oval 23"/>
              <p:cNvSpPr/>
              <p:nvPr/>
            </p:nvSpPr>
            <p:spPr>
              <a:xfrm>
                <a:off x="7238880" y="624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3" name="Line 24"/>
              <p:cNvSpPr/>
              <p:nvPr/>
            </p:nvSpPr>
            <p:spPr>
              <a:xfrm>
                <a:off x="7391160" y="4647600"/>
                <a:ext cx="304920" cy="19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4" name="Line 25"/>
              <p:cNvSpPr/>
              <p:nvPr/>
            </p:nvSpPr>
            <p:spPr>
              <a:xfrm flipV="1">
                <a:off x="7696080" y="479988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45" name="Text Box 27"/>
            <p:cNvSpPr/>
            <p:nvPr/>
          </p:nvSpPr>
          <p:spPr>
            <a:xfrm>
              <a:off x="8534520" y="4952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5257800" y="4952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769644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8" name="Text Box 30"/>
            <p:cNvSpPr/>
            <p:nvPr/>
          </p:nvSpPr>
          <p:spPr>
            <a:xfrm>
              <a:off x="7239240" y="5105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K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9" name="Text Box 31"/>
            <p:cNvSpPr/>
            <p:nvPr/>
          </p:nvSpPr>
          <p:spPr>
            <a:xfrm>
              <a:off x="7239240" y="6095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AF77C"/>
          <p:cNvPicPr/>
          <p:nvPr/>
        </p:nvPicPr>
        <p:blipFill>
          <a:blip r:embed="rId1"/>
          <a:srcRect l="47434" t="61406" r="37470" b="14678"/>
          <a:stretch/>
        </p:blipFill>
        <p:spPr>
          <a:xfrm>
            <a:off x="5791320" y="2133720"/>
            <a:ext cx="2361960" cy="26668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6666"/>
                </a:solidFill>
                <a:latin typeface="Arial Black"/>
              </a:rPr>
              <a:t>Через точку М сферы радиуса </a:t>
            </a:r>
            <a:r>
              <a:rPr b="0" lang="en-US" sz="2100" spc="-1" strike="noStrike">
                <a:solidFill>
                  <a:srgbClr val="336666"/>
                </a:solidFill>
                <a:latin typeface="Arial Black"/>
              </a:rPr>
              <a:t>R</a:t>
            </a:r>
            <a:r>
              <a:rPr b="0" lang="ru-RU" sz="2100" spc="-1" strike="noStrike">
                <a:solidFill>
                  <a:srgbClr val="336666"/>
                </a:solidFill>
                <a:latin typeface="Arial Black"/>
              </a:rPr>
              <a:t> проведены две плоскости, одна из которых является касательной к сфере, а другая наклонена под углом </a:t>
            </a:r>
            <a:r>
              <a:rPr b="0" lang="el-GR" sz="2100" spc="-1" strike="noStrike">
                <a:solidFill>
                  <a:srgbClr val="336666"/>
                </a:solidFill>
                <a:latin typeface="Arial Black"/>
              </a:rPr>
              <a:t>φ</a:t>
            </a:r>
            <a:r>
              <a:rPr b="0" lang="ru-RU" sz="2100" spc="-1" strike="noStrike">
                <a:solidFill>
                  <a:srgbClr val="336666"/>
                </a:solidFill>
                <a:latin typeface="Arial Black"/>
              </a:rPr>
              <a:t> к касательной плоскости.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990720" y="5943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ясните, как построить линейный угол двугранного угла, образованного этими плоскостя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3" name="Picture 8" descr="53AF77C"/>
          <p:cNvPicPr/>
          <p:nvPr/>
        </p:nvPicPr>
        <p:blipFill>
          <a:blip r:embed="rId2"/>
          <a:srcRect l="22931" t="55910" r="52570" b="15777"/>
          <a:stretch/>
        </p:blipFill>
        <p:spPr>
          <a:xfrm>
            <a:off x="685800" y="19810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9"/>
          <p:cNvSpPr/>
          <p:nvPr/>
        </p:nvSpPr>
        <p:spPr>
          <a:xfrm>
            <a:off x="838080" y="59436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Demi"/>
              </a:rPr>
              <a:t>Найдите радиус сечения шара второй плоскост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1828800" y="61722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Garamond"/>
              </a:rPr>
              <a:t>Найдите площадь сеч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6-11-26T19:44:3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