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990-1C36-45E5-9E6E-3B20782D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770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360" y="3977640"/>
            <a:ext cx="7770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2A0D-FECB-4751-97E5-27E4A438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2320" y="18288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360" y="397764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2320" y="397764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A975-C625-457E-BCEF-24D4410D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000" y="18288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5280" y="18288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360" y="397764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000" y="397764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5280" y="397764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383-D87F-4430-B536-C8D37D9E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BFB0-9F25-4CCC-B97B-39FD968E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360" y="1828800"/>
            <a:ext cx="77706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A05A-D6CA-45A8-9079-20E056CA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7706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73C8-9B1B-494F-BA90-BC667F5F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2320" y="182880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FBF1-9258-41CA-8F49-4A6F8E5C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3423-9DB0-454D-BF5F-F288DAAE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7770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FB00-3E34-4D4E-AFE9-283908E5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2320" y="182880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360" y="397764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7449-96D3-4E34-9ED4-278B7F8E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360" y="1828800"/>
            <a:ext cx="77706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EE1-DECB-4EAD-942F-CEDCB2D4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2320" y="18288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2320" y="397764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ADFF-C1D2-44E6-AC27-8D5184EA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2320" y="18288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3977640"/>
            <a:ext cx="7770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0D77-F652-4262-8AA5-BE59BF6B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770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360" y="3977640"/>
            <a:ext cx="7770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3A81-BF0D-4ACB-9421-F57BC602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2320" y="18288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360" y="397764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2320" y="397764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96AF-73EE-45D0-8816-480FFA7A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000" y="18288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5280" y="18288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360" y="397764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000" y="397764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5280" y="397764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A07F-3317-411B-9C71-6C4A5A0D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7706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0AAB-F2DE-4AD5-BB71-9C1AF622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2320" y="182880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B090-9253-4193-9167-0CFBE9B2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AAA3-659A-476B-B208-CC4B016C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7770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7F7-DFB3-47FB-85B9-BB6CDAD1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2320" y="182880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360" y="397764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1E9-8BED-4D21-8698-9CEF6913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2320" y="18288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2320" y="397764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61BE-4AF1-4C32-AAA3-5590D61F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2320" y="18288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3977640"/>
            <a:ext cx="7770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D4E-BFDC-45EC-B005-D9B1C59C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1120" cy="6856560"/>
            <a:chOff x="0" y="0"/>
            <a:chExt cx="8871120" cy="685656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7600" cy="639000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200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5400" cy="0"/>
            </a:xfrm>
            <a:prstGeom prst="line">
              <a:avLst/>
            </a:prstGeom>
            <a:ln cap="sq"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360" y="1828800"/>
            <a:ext cx="77706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7640" y="60958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9C3C9D-36E7-4569-9D1B-AFA5FF37340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1120" cy="6856560"/>
            <a:chOff x="0" y="0"/>
            <a:chExt cx="8871120" cy="685656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7600" cy="6390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2000" cy="685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5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5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5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5AF580B-12F6-48BE-9856-04CBF3C31083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Школьный </a:t>
            </a: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образовательный округ № 3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634176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Профессиональные конкурсы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557360"/>
            <a:ext cx="77724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6640" indent="-296640">
              <a:lnSpc>
                <a:spcPct val="80000"/>
              </a:lnSpc>
              <a:spcBef>
                <a:spcPts val="34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Окружной этап конкурса </a:t>
            </a:r>
            <a:r>
              <a:rPr b="1" lang="ru-RU" sz="1400" spc="-1" strike="noStrike">
                <a:solidFill>
                  <a:srgbClr val="cd3333"/>
                </a:solidFill>
                <a:latin typeface="Times New Roman"/>
              </a:rPr>
              <a:t>методических продуктов</a:t>
            </a: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 u="sng">
                <a:solidFill>
                  <a:srgbClr val="402000"/>
                </a:solidFill>
                <a:uFillTx/>
                <a:latin typeface="Times New Roman"/>
              </a:rPr>
              <a:t>Кипринская СОШ</a:t>
            </a: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 – Гладких О.Г. – 3м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6640" indent="-296640">
              <a:lnSpc>
                <a:spcPct val="80000"/>
              </a:lnSpc>
              <a:spcBef>
                <a:spcPts val="34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                              </a:t>
            </a: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Мерц Н.В. – участие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 u="sng">
                <a:solidFill>
                  <a:srgbClr val="402000"/>
                </a:solidFill>
                <a:uFillTx/>
                <a:latin typeface="Times New Roman"/>
              </a:rPr>
              <a:t>Омутская СОШ</a:t>
            </a: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 –    Литвинова О.А. – 1м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6640" indent="-296640">
              <a:lnSpc>
                <a:spcPct val="80000"/>
              </a:lnSpc>
              <a:spcBef>
                <a:spcPts val="34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                            </a:t>
            </a: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Танькин Ю.И. – участие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6640" indent="-296640">
              <a:lnSpc>
                <a:spcPct val="80000"/>
              </a:lnSpc>
              <a:spcBef>
                <a:spcPts val="34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                             </a:t>
            </a: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Шилова Ю.О. – участие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6640" indent="-296640">
              <a:lnSpc>
                <a:spcPct val="80000"/>
              </a:lnSpc>
              <a:spcBef>
                <a:spcPts val="34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                             </a:t>
            </a: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Марширова А.А. – участие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6640" indent="-296640">
              <a:lnSpc>
                <a:spcPct val="80000"/>
              </a:lnSpc>
              <a:spcBef>
                <a:spcPts val="34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                                   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 u="sng">
                <a:solidFill>
                  <a:srgbClr val="402000"/>
                </a:solidFill>
                <a:uFillTx/>
                <a:latin typeface="Times New Roman"/>
              </a:rPr>
              <a:t>Селезнёвская СОШ</a:t>
            </a: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 – Малькова С.М. – 1м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6640" indent="-296640">
              <a:lnSpc>
                <a:spcPct val="80000"/>
              </a:lnSpc>
              <a:spcBef>
                <a:spcPts val="34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                                 </a:t>
            </a: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Леонова Е.А. – 2м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6640" indent="-296640">
              <a:lnSpc>
                <a:spcPct val="80000"/>
              </a:lnSpc>
              <a:spcBef>
                <a:spcPts val="34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                                 </a:t>
            </a: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Зимароева Л.Н. – 3м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 u="sng">
                <a:solidFill>
                  <a:srgbClr val="402000"/>
                </a:solidFill>
                <a:uFillTx/>
                <a:latin typeface="Times New Roman"/>
              </a:rPr>
              <a:t>Шелаболихинская СОШ № 2</a:t>
            </a: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–   Макеева Т.М.-Микитюк Л.Г. – 1м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6640" indent="-296640">
              <a:lnSpc>
                <a:spcPct val="80000"/>
              </a:lnSpc>
              <a:spcBef>
                <a:spcPts val="34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</a:t>
            </a: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Бадулина Н.Н. – 2м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6640" indent="-296640">
              <a:lnSpc>
                <a:spcPct val="80000"/>
              </a:lnSpc>
              <a:spcBef>
                <a:spcPts val="34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</a:t>
            </a: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Дёмина Е.В. – 3м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6640" indent="-296640">
              <a:lnSpc>
                <a:spcPct val="80000"/>
              </a:lnSpc>
              <a:spcBef>
                <a:spcPts val="34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</a:t>
            </a: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Дёмин А.А. – 3м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По итогам вышли на район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6640" indent="-296640">
              <a:lnSpc>
                <a:spcPct val="80000"/>
              </a:lnSpc>
              <a:spcBef>
                <a:spcPts val="34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Макеева Т.М.-Микитюк Л.Г. – 1м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6640" indent="-296640">
              <a:lnSpc>
                <a:spcPct val="80000"/>
              </a:lnSpc>
              <a:spcBef>
                <a:spcPts val="34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Бадулина Н.Н.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6640" indent="-296640">
              <a:lnSpc>
                <a:spcPct val="80000"/>
              </a:lnSpc>
              <a:spcBef>
                <a:spcPts val="34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Дёмина Е.В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6640" indent="-296640">
              <a:lnSpc>
                <a:spcPct val="80000"/>
              </a:lnSpc>
              <a:spcBef>
                <a:spcPts val="34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Дёмин А.А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6640" indent="-296640">
              <a:lnSpc>
                <a:spcPct val="80000"/>
              </a:lnSpc>
              <a:spcBef>
                <a:spcPts val="34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Леонова Е.А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6640" indent="-296640">
              <a:lnSpc>
                <a:spcPct val="80000"/>
              </a:lnSpc>
              <a:spcBef>
                <a:spcPts val="34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Литвинова О.А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6640" indent="-296640">
              <a:lnSpc>
                <a:spcPct val="80000"/>
              </a:lnSpc>
              <a:spcBef>
                <a:spcPts val="34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Малькова С.М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Учитель года - 2013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Победителем </a:t>
            </a: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окружного этапа</a:t>
            </a: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 признана Бородай Ю.А., лауреатом – Литвинова О.А., отставшая от победителя всего на 0,9 балл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Обе результативные участницы приняли участие в районном этапе конкурса на лучшего по профессии. Бородай Ю.А. стала «Учителем года Шелаболихинского района» и участницей краевого конкурса «Учитель года Алтая»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381024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Районный конкурс «Учитель года Шелаболихинского района»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2852640" cy="2140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508720" y="3933720"/>
            <a:ext cx="2814480" cy="2111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508720" y="1630440"/>
            <a:ext cx="2735280" cy="2050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76360" y="3524400"/>
            <a:ext cx="29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bfae2"/>
                </a:solidFill>
                <a:latin typeface="Times New Roman"/>
              </a:rPr>
              <a:t>Конкурсный урок Бородай Ю.А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19280" y="5829480"/>
            <a:ext cx="34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bfae2"/>
                </a:solidFill>
                <a:latin typeface="Times New Roman"/>
              </a:rPr>
              <a:t>Конкурсный урок Литвиновой О.А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0360" y="3378240"/>
            <a:ext cx="29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bfae2"/>
                </a:solidFill>
                <a:latin typeface="Times New Roman"/>
              </a:rPr>
              <a:t>Компетентное жюр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08720" y="5445000"/>
            <a:ext cx="418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bfae2"/>
                </a:solidFill>
                <a:latin typeface="Times New Roman"/>
              </a:rPr>
              <a:t>Куратор и руководитель округа с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bfae2"/>
                </a:solidFill>
                <a:latin typeface="Times New Roman"/>
              </a:rPr>
              <a:t>конкурсанткам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Конкурс МО округа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В мае месяце прошёл окружной этап конкурса </a:t>
            </a: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методических объединений ОУ.</a:t>
            </a: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 На конкурс было представлено 8 работ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Киприно: МО учителей начальных классов, МО учителей искусства, технологии и физкультуры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Селезнёво: МО учителей области «филология», МО учителей естественно-математического цикла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Омутское: МО учителей начальных классов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Базовая: МО учителей области «филология», МО учителей начальных классов, ТГ учителей области «обществознания»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              </a:t>
            </a: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В районном туре приняли участие: презентации работы МО учителей области «филология» Шелаболихинской СОШ №2, МО учителей естественно-математических наук Селезнёвской СОШ. Работа базовой школы стала победителем районного конкурса методических объединений ОУ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Краевой конкурс на премию Губернатора им.С.П.Титова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84720" y="1828800"/>
            <a:ext cx="4390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Две школы (Шелаболихинская СОШ №2 – Колеватова Н.В. и Кипринская СОШ – Рудомётов П.Н.) обеспечили своё представительство в конкурсе на премию Губернатора Алтайского края им.С.П.Титова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Рудомётов П.Н. на муниципальном уровне, Колеватова Н.В. – на краевом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271152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Взаимодействие с образовательными округами района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2773440" cy="1785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332000" y="4292640"/>
            <a:ext cx="2881080" cy="2143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64200" y="48182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32000" y="3357720"/>
            <a:ext cx="3298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402000"/>
                </a:solidFill>
                <a:latin typeface="Times New Roman"/>
              </a:rPr>
              <a:t>Открытый урок русского языка для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402000"/>
                </a:solidFill>
                <a:latin typeface="Times New Roman"/>
              </a:rPr>
              <a:t>заместителей директоров района в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402000"/>
                </a:solidFill>
                <a:latin typeface="Times New Roman"/>
              </a:rPr>
              <a:t>рамках обмена опытом по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402000"/>
                </a:solidFill>
                <a:latin typeface="Times New Roman"/>
              </a:rPr>
              <a:t>подготовке к ЕГЭ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580000" y="1628640"/>
            <a:ext cx="2641680" cy="1981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455840" y="5589720"/>
            <a:ext cx="292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bfae2"/>
                </a:solidFill>
                <a:latin typeface="Times New Roman"/>
              </a:rPr>
              <a:t>Товарищеская встреча по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bfae2"/>
                </a:solidFill>
                <a:latin typeface="Times New Roman"/>
              </a:rPr>
              <a:t>волейболу среди базовых школ района</a:t>
            </a: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508720" y="4311720"/>
            <a:ext cx="2808360" cy="2106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219640" y="3741840"/>
            <a:ext cx="383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402000"/>
                </a:solidFill>
                <a:latin typeface="Times New Roman"/>
              </a:rPr>
              <a:t>Сотрудничество с д/с «Золотая рыбка» в рамках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402000"/>
                </a:solidFill>
                <a:latin typeface="Times New Roman"/>
              </a:rPr>
              <a:t>реализации программы «Преемственность»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Выводы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Таким образом, за 2013-2014 учебный год школьный округ № 3 прошёл организационный, частично практический и диагностический  этапы своего развития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              </a:t>
            </a: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На сайте базовой школы округа появился раздел, посвященный работе ШОО. В данное время он продолжает периодически обновляться, что делает информацию о работе округа доступной, публичной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             </a:t>
            </a: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Объединение в школьный округ позволило раскрыть потенциал каждой из школ. Стало очевидным, что практически каждая из них способна продемонстрировать свои воспитательные, образовательные, кадровые ресурсы. 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Взаимодействие школ округа было направлено на реализацию задач модернизации современного образования, интересов и затруднений педагогов, содействовало созданию профессиональных контактов, особой рефлексивной среды, способствующей саморазвитию и самообразованию педагогических и руководящих кадров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Проблемы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88920" indent="-531720">
              <a:spcBef>
                <a:spcPts val="451"/>
              </a:spcBef>
              <a:buClr>
                <a:srgbClr val="ce9964"/>
              </a:buClr>
              <a:buFont typeface="Times New Roman"/>
              <a:buChar char="•"/>
              <a:tabLst>
                <a:tab algn="l" pos="1158840"/>
                <a:tab algn="l" pos="2073240"/>
                <a:tab algn="l" pos="2987640"/>
                <a:tab algn="l" pos="3902040"/>
                <a:tab algn="l" pos="4816440"/>
                <a:tab algn="l" pos="5730840"/>
                <a:tab algn="l" pos="6645240"/>
                <a:tab algn="l" pos="7559640"/>
                <a:tab algn="l" pos="8474040"/>
                <a:tab algn="l" pos="9388440"/>
                <a:tab algn="l" pos="1030284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Недостаточная оснащенность учебно-воспитательного процесса современным оборудованием в школах округа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988920" indent="-531720">
              <a:spcBef>
                <a:spcPts val="451"/>
              </a:spcBef>
              <a:buClr>
                <a:srgbClr val="ce9964"/>
              </a:buClr>
              <a:buFont typeface="Times New Roman"/>
              <a:buChar char="•"/>
              <a:tabLst>
                <a:tab algn="l" pos="1158840"/>
                <a:tab algn="l" pos="2073240"/>
                <a:tab algn="l" pos="2987640"/>
                <a:tab algn="l" pos="3902040"/>
                <a:tab algn="l" pos="4816440"/>
                <a:tab algn="l" pos="5730840"/>
                <a:tab algn="l" pos="6645240"/>
                <a:tab algn="l" pos="7559640"/>
                <a:tab algn="l" pos="8474040"/>
                <a:tab algn="l" pos="9388440"/>
                <a:tab algn="l" pos="1030284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Отдаленность образовательных учреждений округа от базовой школы, что влияет на эффективность взаимодействия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988920" indent="-531720">
              <a:spcBef>
                <a:spcPts val="451"/>
              </a:spcBef>
              <a:buClr>
                <a:srgbClr val="ce9964"/>
              </a:buClr>
              <a:buFont typeface="Times New Roman"/>
              <a:buChar char="•"/>
              <a:tabLst>
                <a:tab algn="l" pos="1158840"/>
                <a:tab algn="l" pos="2073240"/>
                <a:tab algn="l" pos="2987640"/>
                <a:tab algn="l" pos="3902040"/>
                <a:tab algn="l" pos="4816440"/>
                <a:tab algn="l" pos="5730840"/>
                <a:tab algn="l" pos="6645240"/>
                <a:tab algn="l" pos="7559640"/>
                <a:tab algn="l" pos="8474040"/>
                <a:tab algn="l" pos="9388440"/>
                <a:tab algn="l" pos="1030284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Недостаточная обеспеченность ОУ высококвалифицированными кадрами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Перспектива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В следующем  учебном году необходимо  доработать пакет нормативных правовых документов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- заключить  договор  с Учредителем о работе Базовой школы в школьном округе  № 3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- заключить  договоры Базовой школы с ОУ, входящими в школьный округ № 3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- построить модель образовательной системы школьного округа № 3, разработать структуру взаимодействия на уровне педагогических коллективов школ и коллективов учащихся, совместную работу детских организаций, интегрированные МО учителей школьного округа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История создания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Школьный образовательный округ № 3 создан в июне 2013 года на основании приказа комитета Администрации Шелаболихинского района по образованию № 177 от 27.06.2013г. с целью повышения эффективности деятельности базовых школ и школьных округов Шелаболихинского район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Состав округа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848720" cy="49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Задачи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2013-2014 учебный год стал организационным этапом в деятельности МБОУ «Шелаболихинская СОШ № 2» в новом статусе «базовая школа».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В первый год своего функционирования перед школьным округом стояли следующие задачи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1. Разработка и внедрение в практику нормативно-правовой базы, регулирующей работу школ округ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2. Распределение функциональных обязанностей между участниками образовательного процесса округ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3. Размещение на сайте базовой школы информации о работе школьного образовательного округа №2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34920" y="456840"/>
            <a:ext cx="35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Управлени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16000" y="4005360"/>
            <a:ext cx="1438200" cy="1511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5589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В ШОО № 3 сформирован Совет директоров, который управляет всей работой в течение учебного года, руководство возложено на директора базовой школы Макееву Т.М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516720" y="4005360"/>
            <a:ext cx="2070000" cy="1552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564000" y="4005360"/>
            <a:ext cx="2062080" cy="1546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708360" y="1628640"/>
            <a:ext cx="2398680" cy="1922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003640" y="3573360"/>
            <a:ext cx="1800" cy="432000"/>
          </a:xfrm>
          <a:prstGeom prst="line">
            <a:avLst/>
          </a:prstGeom>
          <a:ln cap="sq" w="936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53840" y="3573360"/>
            <a:ext cx="1155960" cy="432000"/>
          </a:xfrm>
          <a:prstGeom prst="line">
            <a:avLst/>
          </a:prstGeom>
          <a:ln cap="sq" w="936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4720" y="3573360"/>
            <a:ext cx="935280" cy="432000"/>
          </a:xfrm>
          <a:prstGeom prst="line">
            <a:avLst/>
          </a:prstGeom>
          <a:ln cap="sq" w="936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Формы работы - практически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67280" y="3962520"/>
            <a:ext cx="46958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Серьёзным испытанием для школ округа явилась аккредитация. В целях оказания практической помощи администрация базовой школы организовала </a:t>
            </a: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консультационные выезды</a:t>
            </a: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 на места. Как результат все школы успешно прошли процедуру аккредитации и получили соответствующий документ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16000" y="4076640"/>
            <a:ext cx="2736720" cy="2481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102120" cy="2327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116000" y="1628640"/>
            <a:ext cx="3095640" cy="23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Методическая работа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Основная цель методической работы в округе - непрерывное совершенствование уровня педагогического мастерства учителей; их эрудиции и компетентности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Задачи, которые необходимо решить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оказание помощи в развитии творческого потенциала  педагогических работников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удовлетворение информационных, учебно-методических, образовательных потребностей педагогических работников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Инновационные изменения - в методике обучения – освоение и внедрение ДТО,  интерактивных и проектных методов обучения</a:t>
            </a: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3429000"/>
            <a:ext cx="43354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49"/>
              </a:spcBef>
              <a:buClr>
                <a:srgbClr val="ce9964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На базе школы был проведён </a:t>
            </a:r>
            <a:r>
              <a:rPr b="1" lang="ru-RU" sz="1400" spc="-1" strike="noStrike">
                <a:solidFill>
                  <a:srgbClr val="cd3333"/>
                </a:solidFill>
                <a:latin typeface="Times New Roman"/>
              </a:rPr>
              <a:t>методический день</a:t>
            </a: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 «Организационно-методические основы современного урока в контексте требований ФГОС ООО», в рамках которого педагоги и заместители директоров ШОО №3 могли посетить открытый урок биологии в 6 классе и практикум – конструктор урока в свете требований ФГОС ООО. С целью продуктивной работы заместители директоров имели с собой схему анализа урока в рамках ФГОС, что позволило более активно участвовать в обсуждении проблемы. На мероприятии присутствовала куратор ШОО № 3 Афанасьева</a:t>
            </a:r>
            <a:r>
              <a:rPr b="0" lang="ru-RU" sz="1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402000"/>
                </a:solidFill>
                <a:latin typeface="Times New Roman"/>
              </a:rPr>
              <a:t>Т.И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3168720" cy="2100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16000" y="4005360"/>
            <a:ext cx="3168720" cy="2098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076720" y="1628640"/>
            <a:ext cx="3349800" cy="18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Проектная деятельность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3962520"/>
            <a:ext cx="534348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402000"/>
                </a:solidFill>
                <a:latin typeface="Times New Roman"/>
              </a:rPr>
              <a:t>Проекты учащихся базовой (3 проекта) и Кипринской СОШ (4 проекта) были представлены на </a:t>
            </a: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II</a:t>
            </a:r>
            <a:r>
              <a:rPr b="1" lang="ru-RU" sz="1600" spc="-1" strike="noStrike">
                <a:solidFill>
                  <a:srgbClr val="402000"/>
                </a:solidFill>
                <a:latin typeface="Times New Roman"/>
              </a:rPr>
              <a:t> межрайонной «Детской ярмарке исследовательских работ и проектов». Выступление школ было результативным: из 7-и представленных проектов – 3 стали победителями. Учитель русского языка и литературы базовой школы Микитюк Л.Г. защитила свой проект «Филология на службе ЗОЖ» на краевой НПК «Здоровое поколение 21 века»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2241360" cy="2241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258920" y="170028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187280" y="3933720"/>
            <a:ext cx="2314800" cy="2262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3T05:03:04Z</dcterms:created>
  <dc:creator>User</dc:creator>
  <dc:description/>
  <dc:language>en-US</dc:language>
  <cp:lastModifiedBy>User</cp:lastModifiedBy>
  <dcterms:modified xsi:type="dcterms:W3CDTF">2014-10-01T06:41:36Z</dcterms:modified>
  <cp:revision>8</cp:revision>
  <dc:subject/>
  <dc:title>Школьный образовательный округ №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