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BC6-BA2A-474E-9E73-8A9752A5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C1B-2730-4DBA-98D8-4507B83F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F1B-3E67-4DA5-8F6E-E95893E1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6F3-1354-45CA-B0E4-24E2E2F1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066-4C85-417A-B279-FFDBF916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AFC-B776-4DF2-9ABF-C8BA30B4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E10-0FB5-41EE-BD77-7297000F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99F-07CD-4EE9-B995-4DF767F7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0D8-618F-46E6-840B-9955E9CA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0F2-962F-43BB-A7D1-4F06E40C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ACC-2C8E-46AA-857C-5CEE7B80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B54-A4C3-46F6-9F2F-228D0240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D544-8513-4168-957C-647021D75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tolerantno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img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Organization Chart 11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43" name="_s1028"/>
            <p:cNvCxnSpPr>
              <a:stCxn id="44" idx="0"/>
              <a:endCxn id="45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1029"/>
            <p:cNvCxnSpPr>
              <a:stCxn id="47" idx="0"/>
              <a:endCxn id="45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30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Monotype Corsiva"/>
                </a:rPr>
                <a:t>МЕТ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Monotype Corsiva"/>
                </a:rPr>
                <a:t>формиров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Monotype Corsiva"/>
                </a:rPr>
                <a:t>толерантност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Monotype Corsiva"/>
                </a:rPr>
                <a:t>Метод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Monotype Corsiva"/>
                </a:rPr>
                <a:t>убежд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Monotype Corsiva"/>
                </a:rPr>
                <a:t>Метод внушения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Monotype Corsiva"/>
                </a:rPr>
                <a:t>Метод коррек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Monotype Corsiva"/>
                </a:rPr>
                <a:t>Метод активног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Monotype Corsiva"/>
                </a:rPr>
                <a:t> </a:t>
              </a:r>
              <a:r>
                <a:rPr b="1" lang="en-US" sz="3200" spc="-1" strike="noStrike">
                  <a:solidFill>
                    <a:srgbClr val="333399"/>
                  </a:solidFill>
                  <a:latin typeface="Monotype Corsiva"/>
                </a:rPr>
                <a:t>обучения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&amp;Ocy;&amp;tcy;&amp;kcy;&amp;rcy;&amp;ycy;&amp;tcy;&amp;soft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4419720" cy="388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&amp;Ocy;&amp;tcy;&amp;kcy;&amp;rcy;&amp;ycy;&amp;tcy;&amp;soft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&amp;Ocy;&amp;tcy;&amp;kcy;&amp;rcy;&amp;ycy;&amp;tcy;&amp;soft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2362320" y="3886200"/>
            <a:ext cx="3886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DC10064"/>
          <p:cNvPicPr/>
          <p:nvPr/>
        </p:nvPicPr>
        <p:blipFill>
          <a:blip r:embed="rId1"/>
          <a:stretch/>
        </p:blipFill>
        <p:spPr>
          <a:xfrm>
            <a:off x="0" y="0"/>
            <a:ext cx="502920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SDC10068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SDC10074"/>
          <p:cNvPicPr/>
          <p:nvPr/>
        </p:nvPicPr>
        <p:blipFill>
          <a:blip r:embed="rId3"/>
          <a:stretch/>
        </p:blipFill>
        <p:spPr>
          <a:xfrm>
            <a:off x="4952880" y="3124080"/>
            <a:ext cx="4191120" cy="358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SDC10082"/>
          <p:cNvPicPr/>
          <p:nvPr/>
        </p:nvPicPr>
        <p:blipFill>
          <a:blip r:embed="rId4"/>
          <a:stretch/>
        </p:blipFill>
        <p:spPr>
          <a:xfrm>
            <a:off x="0" y="3809880"/>
            <a:ext cx="4952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DC10421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SDC10438"/>
          <p:cNvPicPr/>
          <p:nvPr/>
        </p:nvPicPr>
        <p:blipFill>
          <a:blip r:embed="rId2"/>
          <a:stretch/>
        </p:blipFill>
        <p:spPr>
          <a:xfrm>
            <a:off x="4648320" y="22860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DC10450"/>
          <p:cNvPicPr/>
          <p:nvPr/>
        </p:nvPicPr>
        <p:blipFill>
          <a:blip r:embed="rId3"/>
          <a:stretch/>
        </p:blipFill>
        <p:spPr>
          <a:xfrm>
            <a:off x="2286000" y="3657600"/>
            <a:ext cx="4876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SDC10495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SDC10501"/>
          <p:cNvPicPr/>
          <p:nvPr/>
        </p:nvPicPr>
        <p:blipFill>
          <a:blip r:embed="rId2"/>
          <a:stretch/>
        </p:blipFill>
        <p:spPr>
          <a:xfrm>
            <a:off x="4495680" y="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DC10502"/>
          <p:cNvPicPr/>
          <p:nvPr/>
        </p:nvPicPr>
        <p:blipFill>
          <a:blip r:embed="rId3"/>
          <a:stretch/>
        </p:blipFill>
        <p:spPr>
          <a:xfrm>
            <a:off x="685800" y="2819520"/>
            <a:ext cx="2895480" cy="403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SDC10503"/>
          <p:cNvPicPr/>
          <p:nvPr/>
        </p:nvPicPr>
        <p:blipFill>
          <a:blip r:embed="rId4"/>
          <a:stretch/>
        </p:blipFill>
        <p:spPr>
          <a:xfrm>
            <a:off x="4114800" y="3352680"/>
            <a:ext cx="4343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DC105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SDC10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1219320" y="1752480"/>
            <a:ext cx="6781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Если каждый друг к другу будет терпим, то вместе мы сделаем толерантным наш ми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1</dc:creator>
  <dc:description/>
  <dc:language>en-US</dc:language>
  <cp:lastModifiedBy>user1</cp:lastModifiedBy>
  <dcterms:modified xsi:type="dcterms:W3CDTF">2016-11-27T14:31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