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EF0-522A-4AA8-84CE-566CF0B3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29F-5607-42CF-95F0-360FD8F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2F6-6F1F-41D0-B575-BF3077F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3E3-4061-4228-8DE0-38CC7E9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D2B-4FF8-4D84-A0B0-1B98921B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1625-69AB-4543-950C-7C87D3C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C887-14DA-43D7-B8D8-37BD713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1C75-4C78-43A3-8B3C-6BD3F927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CA8-94D5-41CB-A9AA-59FDB02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C194-8075-43A3-AF8C-94ECE51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DF5-C075-4782-96EA-B6BC64C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BF4-FBF3-486D-A77C-F288C0B0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7A3-6FC1-44FF-9C31-04D2DAC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575C-18FA-4495-BBCA-BD750B9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8196-2695-4029-964E-031168B8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722B-FDC8-426D-9D43-2E91DC02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04CA-E114-4B37-ABD5-28E413E1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9BE-E473-4EA6-A839-E32DCBB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7B5-AA9E-43B3-B030-735E0F3A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324-4807-43CB-AB1C-3AA5272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B14-9711-4C2A-AC53-AC6B3782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905-302A-477D-9425-134342D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4C2-4B67-4E84-A4A4-8715B5AD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091-9FB2-4B86-BC9B-0CEC8E3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2376-070B-4F9F-9A68-B5D617F53E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F995-3250-445A-B71A-0A42CA9C0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3631-EAAD-4ED5-B791-53B7B002BE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7CD6-1C32-4A0A-97D9-2B0A05945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2.png"/><Relationship Id="rId3" Type="http://schemas.openxmlformats.org/officeDocument/2006/relationships/image" Target="../media/image2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24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image" Target="../media/image24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0201-7554-419A-8CCD-6AF93A41B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альтернативный процесс 2"/>
          <p:cNvSpPr/>
          <p:nvPr/>
        </p:nvSpPr>
        <p:spPr>
          <a:xfrm>
            <a:off x="1116000" y="1846440"/>
            <a:ext cx="7272360" cy="237636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еальная матема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 №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актические расчеты по формул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39280" y="981000"/>
            <a:ext cx="828684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щность постоянного тока (в ваттах) вычисляется по формуле P=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 I — сила тока (в амперах), R — сопротивление (в омах). Пользуясь  этой формулой, найдите сопротивление R, если мощность составляет 180 Вт, а сила тока равна 6 А. Ответ дайте в ом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0E8-F5AD-4952-BB53-266B6EF58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extBox 4" descr=""/>
          <p:cNvPicPr/>
          <p:nvPr/>
        </p:nvPicPr>
        <p:blipFill>
          <a:blip r:embed="rId2"/>
          <a:stretch/>
        </p:blipFill>
        <p:spPr>
          <a:xfrm>
            <a:off x="682560" y="3859200"/>
            <a:ext cx="2524320" cy="13892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839880" y="5373720"/>
            <a:ext cx="1116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P=I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TextBox 6" descr=""/>
          <p:cNvPicPr/>
          <p:nvPr/>
        </p:nvPicPr>
        <p:blipFill>
          <a:blip r:embed="rId3"/>
          <a:stretch/>
        </p:blipFill>
        <p:spPr>
          <a:xfrm>
            <a:off x="3780000" y="3859200"/>
            <a:ext cx="1798560" cy="584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3635280" y="4552920"/>
            <a:ext cx="194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3635280" y="5291280"/>
            <a:ext cx="194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180 :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3780000" y="6093000"/>
            <a:ext cx="10792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4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539280" y="907560"/>
            <a:ext cx="8286840" cy="30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еревести значение температуры по шкале Цельсия в шкалу Фаренгейта, пользуются форму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,8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+32, где 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 температура  в градусах Цельсия, 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 — температура в градусах Фаренгейта. Скольким градусам по шкале Фаренгейта соответствует − 10 градусов по шкале Цельс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B873-463C-4B30-A906-F728D6678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TextBox 4" descr=""/>
          <p:cNvPicPr/>
          <p:nvPr/>
        </p:nvPicPr>
        <p:blipFill>
          <a:blip r:embed="rId2"/>
          <a:stretch/>
        </p:blipFill>
        <p:spPr>
          <a:xfrm>
            <a:off x="755640" y="4218120"/>
            <a:ext cx="3530520" cy="957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3780000" y="4221000"/>
            <a:ext cx="30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,8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extBox 6" descr=""/>
          <p:cNvPicPr/>
          <p:nvPr/>
        </p:nvPicPr>
        <p:blipFill>
          <a:blip r:embed="rId3"/>
          <a:stretch/>
        </p:blipFill>
        <p:spPr>
          <a:xfrm>
            <a:off x="3419640" y="4803840"/>
            <a:ext cx="4028760" cy="58572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7" descr=""/>
          <p:cNvPicPr/>
          <p:nvPr/>
        </p:nvPicPr>
        <p:blipFill>
          <a:blip r:embed="rId4"/>
          <a:stretch/>
        </p:blipFill>
        <p:spPr>
          <a:xfrm>
            <a:off x="3419640" y="5541840"/>
            <a:ext cx="402876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1" descr=""/>
          <p:cNvPicPr/>
          <p:nvPr/>
        </p:nvPicPr>
        <p:blipFill>
          <a:blip r:embed="rId5"/>
          <a:stretch/>
        </p:blipFill>
        <p:spPr>
          <a:xfrm>
            <a:off x="1060560" y="73080"/>
            <a:ext cx="7986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Объект 2" descr=""/>
          <p:cNvPicPr/>
          <p:nvPr/>
        </p:nvPicPr>
        <p:blipFill>
          <a:blip r:embed="rId2"/>
          <a:stretch/>
        </p:blipFill>
        <p:spPr>
          <a:xfrm>
            <a:off x="476280" y="993600"/>
            <a:ext cx="8423280" cy="2992680"/>
          </a:xfrm>
          <a:prstGeom prst="rect">
            <a:avLst/>
          </a:prstGeom>
          <a:ln w="0">
            <a:noFill/>
          </a:ln>
        </p:spPr>
      </p:pic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ACF-1538-4287-8596-654D5B750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3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611280" y="4149720"/>
            <a:ext cx="3097080" cy="120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о: t 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1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: 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extBox 6" descr=""/>
          <p:cNvPicPr/>
          <p:nvPr/>
        </p:nvPicPr>
        <p:blipFill>
          <a:blip r:embed="rId4"/>
          <a:stretch/>
        </p:blipFill>
        <p:spPr>
          <a:xfrm>
            <a:off x="609480" y="5370480"/>
            <a:ext cx="3097440" cy="89064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7" descr=""/>
          <p:cNvPicPr/>
          <p:nvPr/>
        </p:nvPicPr>
        <p:blipFill>
          <a:blip r:embed="rId5"/>
          <a:stretch/>
        </p:blipFill>
        <p:spPr>
          <a:xfrm>
            <a:off x="4065480" y="4078440"/>
            <a:ext cx="3457800" cy="8841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8" descr=""/>
          <p:cNvPicPr/>
          <p:nvPr/>
        </p:nvPicPr>
        <p:blipFill>
          <a:blip r:embed="rId6"/>
          <a:stretch/>
        </p:blipFill>
        <p:spPr>
          <a:xfrm>
            <a:off x="4065480" y="5211720"/>
            <a:ext cx="28846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4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5" descr=""/>
          <p:cNvPicPr/>
          <p:nvPr/>
        </p:nvPicPr>
        <p:blipFill>
          <a:blip r:embed="rId2"/>
          <a:stretch/>
        </p:blipFill>
        <p:spPr>
          <a:xfrm>
            <a:off x="353880" y="1225440"/>
            <a:ext cx="4145040" cy="490068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6" descr=""/>
          <p:cNvPicPr/>
          <p:nvPr/>
        </p:nvPicPr>
        <p:blipFill>
          <a:blip r:embed="rId3"/>
          <a:stretch/>
        </p:blipFill>
        <p:spPr>
          <a:xfrm>
            <a:off x="4541760" y="1152360"/>
            <a:ext cx="4492800" cy="4973760"/>
          </a:xfrm>
          <a:prstGeom prst="rect">
            <a:avLst/>
          </a:prstGeom>
          <a:ln w="0">
            <a:noFill/>
          </a:ln>
        </p:spPr>
      </p:pic>
      <p:sp>
        <p:nvSpPr>
          <p:cNvPr id="2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5D5-E3FE-4468-AC0E-5B6E1CE10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57200" y="1125360"/>
            <a:ext cx="41860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тояние s (в метрах) до места удара молнии можно приближённо вычислить по формуле s=330t, где t — количество секунд, прошедших между вспышкой молнии и ударом грома. Определите, на каком расстоянии от места удара молнии находится наблюдатель, если t=12 с. Ответ дайте в километрах, округлив его до цел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125360"/>
            <a:ext cx="40384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тояние s (в метрах) до места удара молнии можно приближённо вычислить по формуле s=330t, где t — количество секунд, прошедших между вспышкой молнии и ударом грома. Определите, на каком расстоянии от места удара молнии находится наблюдатель, если t=19 с. Ответ дайте в километрах, округлив его до цел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D23-64FE-4CEF-AB72-70E41A0A6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6"/>
          <p:cNvSpPr/>
          <p:nvPr/>
        </p:nvSpPr>
        <p:spPr>
          <a:xfrm>
            <a:off x="4570560" y="1052640"/>
            <a:ext cx="0" cy="554508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еревести значение температуры по шкале Цельсия в шкалу Фаренгейта, пользуются формулой 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,8tC+32, где 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температур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адусах Цельсия, 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температура в градусах Фаренгейта. Скольким градусам по шкале Фаренгейта соответствует 80 градусов по шкале Цельс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еревести значение температуры по шкале Цельсия в шкалу Фаренгейта, пользуются формулой 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1,8tC+32, где 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температур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адусах Цельсия, 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 температура в градусах Фаренгейта. Скольким градусам по шкале Фаренгейта соответствует − 25 градусов по шкале Цельс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9280" y="980640"/>
            <a:ext cx="828684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тояние s (в метрах) до места удара молнии можно приближённо вычислить по формуле s=330t, где t — количество секунд, прошедших между вспышкой молнии и ударом грома. Определите, на каком расстоянии от места удара молнии находится наблюдатель, если t=17с. Ответ дайте в километрах, округлив его до цел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EFB-59FD-4BBF-B455-901A50F03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extBox 4" descr=""/>
          <p:cNvPicPr/>
          <p:nvPr/>
        </p:nvPicPr>
        <p:blipFill>
          <a:blip r:embed="rId2"/>
          <a:stretch/>
        </p:blipFill>
        <p:spPr>
          <a:xfrm>
            <a:off x="828720" y="4511520"/>
            <a:ext cx="2805120" cy="1071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1332000" y="5877000"/>
            <a:ext cx="151128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s=330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extBox 6" descr=""/>
          <p:cNvPicPr/>
          <p:nvPr/>
        </p:nvPicPr>
        <p:blipFill>
          <a:blip r:embed="rId3"/>
          <a:stretch/>
        </p:blipFill>
        <p:spPr>
          <a:xfrm>
            <a:off x="3998880" y="4243320"/>
            <a:ext cx="3743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6316560" y="4221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61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8" descr=""/>
          <p:cNvPicPr/>
          <p:nvPr/>
        </p:nvPicPr>
        <p:blipFill>
          <a:blip r:embed="rId4"/>
          <a:stretch/>
        </p:blipFill>
        <p:spPr>
          <a:xfrm>
            <a:off x="3968640" y="5048280"/>
            <a:ext cx="4321440" cy="5842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9" descr=""/>
          <p:cNvPicPr/>
          <p:nvPr/>
        </p:nvPicPr>
        <p:blipFill>
          <a:blip r:embed="rId5"/>
          <a:stretch/>
        </p:blipFill>
        <p:spPr>
          <a:xfrm>
            <a:off x="3998880" y="5937120"/>
            <a:ext cx="2127240" cy="5860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11"/>
          <p:cNvSpPr/>
          <p:nvPr/>
        </p:nvSpPr>
        <p:spPr>
          <a:xfrm>
            <a:off x="4356000" y="5740560"/>
            <a:ext cx="0" cy="981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3"/>
          <p:cNvSpPr/>
          <p:nvPr/>
        </p:nvSpPr>
        <p:spPr>
          <a:xfrm>
            <a:off x="4427640" y="6453360"/>
            <a:ext cx="21564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5867280" y="5972040"/>
            <a:ext cx="18734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6"/>
          <a:stretch/>
        </p:blipFill>
        <p:spPr>
          <a:xfrm>
            <a:off x="1127160" y="189000"/>
            <a:ext cx="79866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1116000" y="158760"/>
            <a:ext cx="7862760" cy="92088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9"/>
          <p:cNvSpPr/>
          <p:nvPr/>
        </p:nvSpPr>
        <p:spPr>
          <a:xfrm>
            <a:off x="8234280" y="649296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A7FE-1607-425A-B916-B774216B22E4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:\Мои документы\Мои рисунки\девочка.jpeg"/>
          <p:cNvPicPr/>
          <p:nvPr/>
        </p:nvPicPr>
        <p:blipFill>
          <a:blip r:embed="rId2"/>
          <a:stretch/>
        </p:blipFill>
        <p:spPr>
          <a:xfrm>
            <a:off x="324000" y="5827680"/>
            <a:ext cx="1065240" cy="103032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3" descr=""/>
          <p:cNvPicPr/>
          <p:nvPr/>
        </p:nvPicPr>
        <p:blipFill>
          <a:blip r:embed="rId3"/>
          <a:stretch/>
        </p:blipFill>
        <p:spPr>
          <a:xfrm>
            <a:off x="554040" y="981000"/>
            <a:ext cx="8431200" cy="156708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4" descr=""/>
          <p:cNvPicPr/>
          <p:nvPr/>
        </p:nvPicPr>
        <p:blipFill>
          <a:blip r:embed="rId4"/>
          <a:stretch/>
        </p:blipFill>
        <p:spPr>
          <a:xfrm>
            <a:off x="542880" y="2700360"/>
            <a:ext cx="3743280" cy="19382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7" descr=""/>
          <p:cNvPicPr/>
          <p:nvPr/>
        </p:nvPicPr>
        <p:blipFill>
          <a:blip r:embed="rId5"/>
          <a:stretch/>
        </p:blipFill>
        <p:spPr>
          <a:xfrm>
            <a:off x="853920" y="4870440"/>
            <a:ext cx="2017800" cy="74916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0" descr=""/>
          <p:cNvPicPr/>
          <p:nvPr/>
        </p:nvPicPr>
        <p:blipFill>
          <a:blip r:embed="rId6"/>
          <a:stretch/>
        </p:blipFill>
        <p:spPr>
          <a:xfrm>
            <a:off x="4400640" y="2682720"/>
            <a:ext cx="4749840" cy="8780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2" descr=""/>
          <p:cNvPicPr/>
          <p:nvPr/>
        </p:nvPicPr>
        <p:blipFill>
          <a:blip r:embed="rId7"/>
          <a:stretch/>
        </p:blipFill>
        <p:spPr>
          <a:xfrm>
            <a:off x="4267080" y="3633840"/>
            <a:ext cx="4876920" cy="95724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3" descr=""/>
          <p:cNvPicPr/>
          <p:nvPr/>
        </p:nvPicPr>
        <p:blipFill>
          <a:blip r:embed="rId8"/>
          <a:stretch/>
        </p:blipFill>
        <p:spPr>
          <a:xfrm>
            <a:off x="4406760" y="4657680"/>
            <a:ext cx="4176720" cy="4636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42" descr=""/>
          <p:cNvPicPr/>
          <p:nvPr/>
        </p:nvPicPr>
        <p:blipFill>
          <a:blip r:embed="rId9"/>
          <a:stretch/>
        </p:blipFill>
        <p:spPr>
          <a:xfrm>
            <a:off x="4406760" y="5248440"/>
            <a:ext cx="4176720" cy="84744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4" descr=""/>
          <p:cNvPicPr/>
          <p:nvPr/>
        </p:nvPicPr>
        <p:blipFill>
          <a:blip r:embed="rId10"/>
          <a:stretch/>
        </p:blipFill>
        <p:spPr>
          <a:xfrm>
            <a:off x="542880" y="5668920"/>
            <a:ext cx="2444760" cy="8715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5" descr=""/>
          <p:cNvPicPr/>
          <p:nvPr/>
        </p:nvPicPr>
        <p:blipFill>
          <a:blip r:embed="rId11"/>
          <a:stretch/>
        </p:blipFill>
        <p:spPr>
          <a:xfrm>
            <a:off x="3133800" y="6162840"/>
            <a:ext cx="2090520" cy="523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6"/>
          <p:cNvSpPr/>
          <p:nvPr/>
        </p:nvSpPr>
        <p:spPr>
          <a:xfrm>
            <a:off x="6372360" y="6188040"/>
            <a:ext cx="22352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E696-6E66-42AB-B61B-F747D0598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1127160" y="189000"/>
            <a:ext cx="7986600" cy="890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11280" y="981000"/>
            <a:ext cx="84247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он Джоуля–Ленца можно записать в виде Q=I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t, где Q — количество теплоты (в джоулях), I — сила тока (в ампера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 — сопротивление цепи (в омах), а t — время (в секундах). Пользуясь этой формулой, найдите сопротивление цепи R (в омах), если Q=1296 Дж, I=9 A, t=2 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826920" y="3141720"/>
            <a:ext cx="33847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о: Q=1296 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=9 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=2 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: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826920" y="5049720"/>
            <a:ext cx="15843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Q=I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TextBox 9" descr=""/>
          <p:cNvPicPr/>
          <p:nvPr/>
        </p:nvPicPr>
        <p:blipFill>
          <a:blip r:embed="rId3"/>
          <a:stretch/>
        </p:blipFill>
        <p:spPr>
          <a:xfrm>
            <a:off x="4572000" y="3139920"/>
            <a:ext cx="3670200" cy="64620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11" descr=""/>
          <p:cNvPicPr/>
          <p:nvPr/>
        </p:nvPicPr>
        <p:blipFill>
          <a:blip r:embed="rId4"/>
          <a:stretch/>
        </p:blipFill>
        <p:spPr>
          <a:xfrm>
            <a:off x="4552920" y="3932280"/>
            <a:ext cx="3670200" cy="64620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12" descr=""/>
          <p:cNvPicPr/>
          <p:nvPr/>
        </p:nvPicPr>
        <p:blipFill>
          <a:blip r:embed="rId5"/>
          <a:stretch/>
        </p:blipFill>
        <p:spPr>
          <a:xfrm>
            <a:off x="4552920" y="4724280"/>
            <a:ext cx="3676680" cy="64620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13" descr=""/>
          <p:cNvPicPr/>
          <p:nvPr/>
        </p:nvPicPr>
        <p:blipFill>
          <a:blip r:embed="rId6"/>
          <a:stretch/>
        </p:blipFill>
        <p:spPr>
          <a:xfrm>
            <a:off x="4572000" y="5510160"/>
            <a:ext cx="3670200" cy="64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5740560" y="622764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𝑹</a:t>
            </a: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611280" y="6159600"/>
            <a:ext cx="201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06280" y="836640"/>
            <a:ext cx="885672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он Менделеева–Клапейрона можно записать в виде PV=νRT, где P — давление (в паскалях), V — объём (в м 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), ν — количество вещества (в молях), T — температура (в градусах Кельвина), а R — универсальная газовая постоянная, равная 8,31 Дж/(К ⋅ моль). Пользуясь этой формулой, найдите температуру T (в градусах Кельвина), если ν=28,9 моль, P=77 698,5 Па, V=1,7 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 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CA45-4108-4CBA-BE94-75EA3ABB4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611280" y="3284640"/>
            <a:ext cx="3240000" cy="308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𝑹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8,31 Дж/(К ⋅ мо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ν=28,9 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=77 698,5 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V=1,7 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 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: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924360" y="3429000"/>
            <a:ext cx="17272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PV=ν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TextBox 7" descr=""/>
          <p:cNvPicPr/>
          <p:nvPr/>
        </p:nvPicPr>
        <p:blipFill>
          <a:blip r:embed="rId3"/>
          <a:stretch/>
        </p:blipFill>
        <p:spPr>
          <a:xfrm>
            <a:off x="3925800" y="4218120"/>
            <a:ext cx="1944720" cy="89028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8" descr=""/>
          <p:cNvPicPr/>
          <p:nvPr/>
        </p:nvPicPr>
        <p:blipFill>
          <a:blip r:embed="rId4"/>
          <a:stretch/>
        </p:blipFill>
        <p:spPr>
          <a:xfrm>
            <a:off x="6010200" y="3444840"/>
            <a:ext cx="3024360" cy="9255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10"/>
          <p:cNvSpPr/>
          <p:nvPr/>
        </p:nvSpPr>
        <p:spPr>
          <a:xfrm flipV="1">
            <a:off x="7812000" y="3443040"/>
            <a:ext cx="576360" cy="345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2"/>
          <p:cNvSpPr/>
          <p:nvPr/>
        </p:nvSpPr>
        <p:spPr>
          <a:xfrm flipH="1">
            <a:off x="6659280" y="4013280"/>
            <a:ext cx="649080" cy="3585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6804000" y="4371840"/>
            <a:ext cx="57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5"/>
          <p:cNvSpPr/>
          <p:nvPr/>
        </p:nvSpPr>
        <p:spPr>
          <a:xfrm>
            <a:off x="6443640" y="3429000"/>
            <a:ext cx="1224000" cy="3603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7"/>
          <p:cNvSpPr/>
          <p:nvPr/>
        </p:nvSpPr>
        <p:spPr>
          <a:xfrm>
            <a:off x="7488360" y="4013280"/>
            <a:ext cx="828720" cy="20772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5"/>
          <a:srcRect l="-3209" t="25835" r="17819" b="9823"/>
          <a:stretch/>
        </p:blipFill>
        <p:spPr>
          <a:xfrm>
            <a:off x="262080" y="3809880"/>
            <a:ext cx="35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19" descr=""/>
          <p:cNvPicPr/>
          <p:nvPr/>
        </p:nvPicPr>
        <p:blipFill>
          <a:blip r:embed="rId6"/>
          <a:stretch/>
        </p:blipFill>
        <p:spPr>
          <a:xfrm>
            <a:off x="6284880" y="4956120"/>
            <a:ext cx="2193840" cy="974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0"/>
          <p:cNvSpPr/>
          <p:nvPr/>
        </p:nvSpPr>
        <p:spPr>
          <a:xfrm>
            <a:off x="6350040" y="6070680"/>
            <a:ext cx="214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=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611280" y="6159600"/>
            <a:ext cx="280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45760" y="981000"/>
            <a:ext cx="8605800" cy="315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длину своего шага, человек может приближённо подсчитать пройденное им расстояние s по формуле s=nl, где n — число шагов, l — длина шага. Какое расстояние прошёл человек, если l=70 см, n=1800? Ответ выразите в километр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4ED-3127-4E25-A1ED-DA3EEFE7F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головок 1" descr=""/>
          <p:cNvPicPr/>
          <p:nvPr/>
        </p:nvPicPr>
        <p:blipFill>
          <a:blip r:embed="rId2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1280" y="4221000"/>
            <a:ext cx="266544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о: n=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=70 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971640" y="5877000"/>
            <a:ext cx="122400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s=n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Box 7" descr=""/>
          <p:cNvPicPr/>
          <p:nvPr/>
        </p:nvPicPr>
        <p:blipFill>
          <a:blip r:embed="rId3"/>
          <a:stretch/>
        </p:blipFill>
        <p:spPr>
          <a:xfrm>
            <a:off x="3492360" y="4243320"/>
            <a:ext cx="2517840" cy="584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6012000" y="4221000"/>
            <a:ext cx="2447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60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3564000" y="4913280"/>
            <a:ext cx="20876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м = 100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5796000" y="4944960"/>
            <a:ext cx="2448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км = 1000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Box 11" descr=""/>
          <p:cNvPicPr/>
          <p:nvPr/>
        </p:nvPicPr>
        <p:blipFill>
          <a:blip r:embed="rId4"/>
          <a:stretch/>
        </p:blipFill>
        <p:spPr>
          <a:xfrm>
            <a:off x="3133800" y="5614920"/>
            <a:ext cx="53276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51" name="Объект 2" descr=""/>
          <p:cNvPicPr/>
          <p:nvPr/>
        </p:nvPicPr>
        <p:blipFill>
          <a:blip r:embed="rId2"/>
          <a:stretch/>
        </p:blipFill>
        <p:spPr>
          <a:xfrm>
            <a:off x="487440" y="920880"/>
            <a:ext cx="8424720" cy="2724120"/>
          </a:xfrm>
          <a:prstGeom prst="rect">
            <a:avLst/>
          </a:prstGeom>
          <a:ln w="0">
            <a:noFill/>
          </a:ln>
        </p:spPr>
      </p:pic>
      <p:sp>
        <p:nvSpPr>
          <p:cNvPr id="1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3FE-5715-45EF-8972-8267EC3FD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Заголовок 1" descr=""/>
          <p:cNvPicPr/>
          <p:nvPr/>
        </p:nvPicPr>
        <p:blipFill>
          <a:blip r:embed="rId3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611280" y="3789360"/>
            <a:ext cx="2665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о: Т=11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6" descr=""/>
          <p:cNvPicPr/>
          <p:nvPr/>
        </p:nvPicPr>
        <p:blipFill>
          <a:blip r:embed="rId4"/>
          <a:stretch/>
        </p:blipFill>
        <p:spPr>
          <a:xfrm>
            <a:off x="755640" y="4870440"/>
            <a:ext cx="1944720" cy="70164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7" descr=""/>
          <p:cNvPicPr/>
          <p:nvPr/>
        </p:nvPicPr>
        <p:blipFill>
          <a:blip r:embed="rId5"/>
          <a:stretch/>
        </p:blipFill>
        <p:spPr>
          <a:xfrm>
            <a:off x="822240" y="5803920"/>
            <a:ext cx="1944720" cy="70632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8" descr=""/>
          <p:cNvPicPr/>
          <p:nvPr/>
        </p:nvPicPr>
        <p:blipFill>
          <a:blip r:embed="rId6"/>
          <a:stretch/>
        </p:blipFill>
        <p:spPr>
          <a:xfrm>
            <a:off x="3498840" y="3645000"/>
            <a:ext cx="2116080" cy="7016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9" descr=""/>
          <p:cNvPicPr/>
          <p:nvPr/>
        </p:nvPicPr>
        <p:blipFill>
          <a:blip r:embed="rId7"/>
          <a:stretch/>
        </p:blipFill>
        <p:spPr>
          <a:xfrm>
            <a:off x="3492360" y="4389480"/>
            <a:ext cx="2232000" cy="70632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10" descr=""/>
          <p:cNvPicPr/>
          <p:nvPr/>
        </p:nvPicPr>
        <p:blipFill>
          <a:blip r:embed="rId8"/>
          <a:stretch/>
        </p:blipFill>
        <p:spPr>
          <a:xfrm>
            <a:off x="3492360" y="5218200"/>
            <a:ext cx="2463840" cy="70632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 11" descr=""/>
          <p:cNvPicPr/>
          <p:nvPr/>
        </p:nvPicPr>
        <p:blipFill>
          <a:blip r:embed="rId9"/>
          <a:stretch/>
        </p:blipFill>
        <p:spPr>
          <a:xfrm>
            <a:off x="3498840" y="6022800"/>
            <a:ext cx="2468520" cy="71928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 12" descr=""/>
          <p:cNvPicPr/>
          <p:nvPr/>
        </p:nvPicPr>
        <p:blipFill>
          <a:blip r:embed="rId10"/>
          <a:stretch/>
        </p:blipFill>
        <p:spPr>
          <a:xfrm>
            <a:off x="5979960" y="3676680"/>
            <a:ext cx="2810160" cy="7239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3"/>
          <p:cNvSpPr/>
          <p:nvPr/>
        </p:nvSpPr>
        <p:spPr>
          <a:xfrm>
            <a:off x="6415200" y="4581360"/>
            <a:ext cx="1944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𝑙</a:t>
            </a:r>
            <a:r>
              <a:rPr b="0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=30,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6084720" y="6059520"/>
            <a:ext cx="280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30,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65" name="Объект 2" descr=""/>
          <p:cNvPicPr/>
          <p:nvPr/>
        </p:nvPicPr>
        <p:blipFill>
          <a:blip r:embed="rId2"/>
          <a:stretch/>
        </p:blipFill>
        <p:spPr>
          <a:xfrm>
            <a:off x="42840" y="847800"/>
            <a:ext cx="899172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7456-C273-4A06-B3FB-9C719D00A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Заголовок 1" descr=""/>
          <p:cNvPicPr/>
          <p:nvPr/>
        </p:nvPicPr>
        <p:blipFill>
          <a:blip r:embed="rId3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611280" y="3573360"/>
            <a:ext cx="2736720" cy="202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r=3000 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k=9⋅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Н ⋅ м 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/Кл 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0,004 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F=0,016 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 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TextBox 6" descr=""/>
          <p:cNvPicPr/>
          <p:nvPr/>
        </p:nvPicPr>
        <p:blipFill>
          <a:blip r:embed="rId4"/>
          <a:stretch/>
        </p:blipFill>
        <p:spPr>
          <a:xfrm>
            <a:off x="682560" y="5572080"/>
            <a:ext cx="2590920" cy="82872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7" descr=""/>
          <p:cNvPicPr/>
          <p:nvPr/>
        </p:nvPicPr>
        <p:blipFill>
          <a:blip r:embed="rId5"/>
          <a:stretch/>
        </p:blipFill>
        <p:spPr>
          <a:xfrm>
            <a:off x="3565440" y="3359160"/>
            <a:ext cx="4103640" cy="92088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8" descr=""/>
          <p:cNvPicPr/>
          <p:nvPr/>
        </p:nvPicPr>
        <p:blipFill>
          <a:blip r:embed="rId6"/>
          <a:stretch/>
        </p:blipFill>
        <p:spPr>
          <a:xfrm>
            <a:off x="3578400" y="4419720"/>
            <a:ext cx="4101840" cy="85860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9" descr=""/>
          <p:cNvPicPr/>
          <p:nvPr/>
        </p:nvPicPr>
        <p:blipFill>
          <a:blip r:embed="rId7"/>
          <a:stretch/>
        </p:blipFill>
        <p:spPr>
          <a:xfrm>
            <a:off x="3554280" y="5400720"/>
            <a:ext cx="4108680" cy="5857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11"/>
          <p:cNvSpPr/>
          <p:nvPr/>
        </p:nvSpPr>
        <p:spPr>
          <a:xfrm flipV="1">
            <a:off x="3995640" y="4500720"/>
            <a:ext cx="289080" cy="3204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13"/>
          <p:cNvSpPr/>
          <p:nvPr/>
        </p:nvSpPr>
        <p:spPr>
          <a:xfrm flipH="1" flipV="1">
            <a:off x="4571640" y="4973400"/>
            <a:ext cx="360360" cy="2458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TextBox 15" descr=""/>
          <p:cNvPicPr/>
          <p:nvPr/>
        </p:nvPicPr>
        <p:blipFill>
          <a:blip r:embed="rId8"/>
          <a:stretch/>
        </p:blipFill>
        <p:spPr>
          <a:xfrm>
            <a:off x="3554280" y="6053040"/>
            <a:ext cx="4108680" cy="585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395280" y="6080040"/>
            <a:ext cx="2809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0,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785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755280" y="981000"/>
            <a:ext cx="8286840" cy="243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остремительное ускорение при движении по окружности ( в  м /​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вычисляется по формуле a=ω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, где ω — угловая скорость ( в  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− 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 R — радиус  окружности (в метрах). Пользуясь этой формулой, найдите радиус R, если угловая скорость равна 9 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− 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центростремительное ускорение равно 648 м /​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Ответ дайте в ме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505-8362-4DA7-967A-B4662B2B0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TextBox 4" descr=""/>
          <p:cNvPicPr/>
          <p:nvPr/>
        </p:nvPicPr>
        <p:blipFill>
          <a:blip r:embed="rId2"/>
          <a:stretch/>
        </p:blipFill>
        <p:spPr>
          <a:xfrm>
            <a:off x="828720" y="3645000"/>
            <a:ext cx="2805120" cy="1384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900000" y="5229360"/>
            <a:ext cx="1403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a=ω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3"/>
          <a:stretch/>
        </p:blipFill>
        <p:spPr>
          <a:xfrm>
            <a:off x="1116000" y="146160"/>
            <a:ext cx="7985160" cy="890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4140360" y="3692520"/>
            <a:ext cx="2160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48=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4140360" y="4444920"/>
            <a:ext cx="2160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1R=6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4140360" y="5243400"/>
            <a:ext cx="2160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=648: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4165560" y="5950080"/>
            <a:ext cx="2160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395280" y="6080040"/>
            <a:ext cx="2809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Светлана</cp:lastModifiedBy>
  <dcterms:modified xsi:type="dcterms:W3CDTF">2016-11-27T13:56:55Z</dcterms:modified>
  <cp:revision>62</cp:revision>
  <dc:subject/>
  <dc:title>Слайд 1</dc:title>
</cp:coreProperties>
</file>