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9B5-6DAB-4015-A15F-F914DDE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59D-EC8B-47FC-BADF-C33DC7A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0F9-8235-4A57-9A7A-4867218F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E39-4A91-4F91-99A0-7805C1C1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0E0-25F8-408E-A542-728D1AB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672-5BB6-4DBA-AE74-2068910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607-052B-403B-92DD-A44930A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825-73A9-40B4-9D06-1B1394C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9C0-A894-4DDC-B695-5D31B9F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18D-C06E-4A28-8352-7CD4640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7F9-D3AE-4D72-ACFE-15FC7DE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0BA-5A9F-4FB5-907D-B9996BA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323B-E57F-4E51-9D11-7B30F906F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ДОУ «Черлакский детский сад № 2»</a:t>
            </a:r>
            <a:br>
              <a:rPr sz="2000"/>
            </a:b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764640"/>
            <a:ext cx="85471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: «Моя мама лучше все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проект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Зименко Т.А.,  воспитатель высшей квалификационной катег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творческий, групповой, кратковрем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логопедической группы, воспитатели, учитель-логопед, музыкальный руководитель, родители детей логопедическо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раст детей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-27 ноября 201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156360" y="3970440"/>
            <a:ext cx="284652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стое слово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ете добрых слов живёт нем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сех добрее и  нежней одно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двух слогов,  простое слово «ма-ма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ту слов, роднее, чем оно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орь Александрович Мазнин 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ктуальность проекта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нравственного воспитания дошкольников включает в себя решение множества задач, в том числе, воспитание любви к Родине, семье, уважительного отношения к своим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оек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 с  целью углубления знаний, опыта и умени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екте представлена совместная работа воспитателя, учителя – логопеда, музыкального руководителя,  детей и родителей по формированию представления о важнейшей роли материнства и семьи. Роль взрослых – педагогов  и родителей, помочь детям понять эту значимость и приня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Цель проек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 уважения  и заботы, формирование бережного отношения к маме, желание помочь и делать приятное маме  -  самому дорогому челове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дачи проек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бщить знания детей дошкольного возраста о празднике «День Матер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коммуникативные навыки детей, обогащ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рный  запас, развивать  память, эмоцион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ашенную 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удить детей к выражению  благодарности своим мамам за заботу через продуктивную деятельность (ручной труд,  рисование, леп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ь родителей к сотрудничеству и оказанию посильной помощи в организации выставки и пополнении книжного уголка группы художественной литературой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доброжелательное общение детей в играх, продуктивной совместной деятельности между сверстниками и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дполагаемый результат: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 представлений детей о родственных отношениях, о своих родителях, в особенности, о ма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детско - 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ность родителей в продолжении сотрудн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лнение книжного уголка группы художественной литера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едварительная ра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литературного материала: книги о маме, художественные произведения: сказки, рассказы, стихи, пословицы, пес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 материала для реализации проекта – плакаты, иллюстрации, фотограф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материала для продуктивной деятельности (подарок для ма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оль родителей в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чь в подготовке книжной выставки  произведений, посвященной   мам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ь участие в оформлении выставки «Руки мамы – непростые, руки мамы - золоты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ь участие в подготовке итогового мероприятия (разучивание стих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мам в итоговом развлечении, посвященном Дню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ная деятель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ы с детьми о предстоящем празднике, о маме, ее роли в жизни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ы на тему: «Вот какая мама - золотая прямо», «Как я помогаю маме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Д «Моя мама лучше всех!», «Мамы разные нужны, мамы всякие важны»,  «Праздник «День Мат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: ненецкая сказка «Кукушка», нанайская    сказка «Айога», С. Маршак «Сказка о глупом мышонке», стихотворения  С. Михалкова «А что у вас? », Е. Благинина «Посидим в тишине», А. Барто «Разлука», «Разговор с мамой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учивание пословиц, стихотворений о ма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атривание фотовыставки «Это мамочка мо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шание песен о маме, разучивание песни «Моя мам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подарков для мам (цветок желан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ование портретов мам и оформление выставки «Наши любимые мам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пка «Вазы с цветами для любимой мамы»; ручной труд «Цветок желаний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дактические  игры: «Измени по образцу», «Лишнее слово», «Отгадай по действию», «Назови ласково», «Животные и их детеныши», «Как зовут твою маму», «Профессия мамы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южетно-ролевые игры:   «Семья», фрагменты обыгрывания ситуаций «Мама на работе» (мама – продавец, мама – врач, мама – парикмахер, мама – повар, мама - учител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ижные игры: – «Курочка и цыплята», «Не робей, не зевай – быстро к маме подбегай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льчиковая игра: «Мамочка мо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«Мама- это самое красивое слово, произнесенное человеком»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Кайл Гибр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133800" y="1989000"/>
            <a:ext cx="2590560" cy="324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900000" y="5373720"/>
            <a:ext cx="6962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7:38:49Z</dcterms:created>
  <dc:creator>елена</dc:creator>
  <dc:description/>
  <dc:language>en-US</dc:language>
  <cp:lastModifiedBy>User7</cp:lastModifiedBy>
  <dcterms:modified xsi:type="dcterms:W3CDTF">2016-11-27T16:17:35Z</dcterms:modified>
  <cp:revision>67</cp:revision>
  <dc:subject/>
  <dc:title>Слайд 1</dc:title>
</cp:coreProperties>
</file>