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1ADF-1FF1-47E7-ACC3-469062532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8893-247A-40D4-9939-80EC1BEF49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7A8-ACB3-442C-AE97-B9269F94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DE4-D592-4A74-B332-1874036A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021-F3A7-4B58-A071-6A0053B6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304-64F4-40C7-A911-23859905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C60-C730-4532-A5B7-EB79F9EE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0BB-07E6-48C8-B3CF-8E53EB34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9D6-FAA6-408B-9E47-8B49679D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E7B-D6C7-44A4-AA29-9504AA7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161-D5A4-42CD-B5B5-710C6E13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CA2-9DE6-41DF-BEA8-E3E763B4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52C-F486-4626-8938-21011DB2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D36-A60F-473F-B5FD-296CBE67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1552-4490-4AB3-B89B-896E25498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p10_childsoul2"/>
          <p:cNvPicPr/>
          <p:nvPr/>
        </p:nvPicPr>
        <p:blipFill>
          <a:blip r:embed="rId1"/>
          <a:srcRect l="0" t="0" r="0" b="29080"/>
          <a:stretch/>
        </p:blipFill>
        <p:spPr>
          <a:xfrm>
            <a:off x="971640" y="2060640"/>
            <a:ext cx="7202520" cy="4464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755640" y="765000"/>
            <a:ext cx="755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помочь ребёнку в учёб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итуация перв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Ребенок в отчаянии от того, что не может решить задачу. При этом на Ваши вопросы о ее содержании отвечает с трудом или не отвечает во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 в этой ситуации должен действовать родитель, который, возможно, и сам не силен в математике?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итуация втор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Накануне ребенок долго и упорно учил историю. Но строгий учитель потребовал не только воспроизведения содержания параграфа, но и задал ряд вопросов по нему. В итоге - «тройка». Ребенок заявляет, что больше предмет он учить не будет, потому что «бесполезно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 делат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итуация треть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ы пришли с работы и застали ребенка в слезах. Поговорив с ребенком, понимаете, что он не знает, как писать сочинение: с чего начинать, как выбрать главное. Но самая большая трудность: ребенок абсолютно уверен в том, что у него это никогда не получится. Кроме того, его уже давно ждут друзья, чтобы поиграть во дворе в футбол, ведь он ключевая фигура - вратарь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помочь ребенку?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250920" y="33336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 ДЕЛ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если заставить трудиться крайне сл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9280" y="378936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Нужно найти такую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тивацию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, чтобы ребенку захотелось выполнить предложенную работу, чтобы не только результат, но и сам процесс выполнения работы был для ребенка прия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ar124771329870048"/>
          <p:cNvPicPr/>
          <p:nvPr/>
        </p:nvPicPr>
        <p:blipFill>
          <a:blip r:embed="rId1"/>
          <a:stretch/>
        </p:blipFill>
        <p:spPr>
          <a:xfrm>
            <a:off x="3851280" y="206064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ИКОГДА НЕ ГОВО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Ты никогда сам не думаешь. Все время рассчитываешь, что кто-то будет думать за т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Ты как следует не сделал уроки, потому что ты лентя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КАЖИТЕ Т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Я все понял. Это очень неприятно, но не стоит расстраиваться. В следующий раз ты так подготовишься, что тебе не будут нужны никакие подсказ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ЛЬЗЯ 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ставить какие-либо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6912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800000"/>
                </a:solidFill>
                <a:latin typeface="Arial"/>
              </a:rPr>
              <a:t>Это приучает ребенка заниматься только </a:t>
            </a:r>
            <a:r>
              <a:rPr b="0" lang="ru-RU" sz="3300" spc="-1" strike="noStrike">
                <a:solidFill>
                  <a:srgbClr val="ff0000"/>
                </a:solidFill>
                <a:latin typeface="Arial"/>
              </a:rPr>
              <a:t>ради чего-т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800000"/>
                </a:solidFill>
                <a:latin typeface="Arial"/>
              </a:rPr>
              <a:t>Учение из страха быть наказанным приводит к тому, что у ребенка вырабатывается отвращение к учебе и школ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1191269140"/>
          <p:cNvPicPr/>
          <p:nvPr/>
        </p:nvPicPr>
        <p:blipFill>
          <a:blip r:embed="rId1"/>
          <a:stretch/>
        </p:blipFill>
        <p:spPr>
          <a:xfrm>
            <a:off x="6948360" y="2349360"/>
            <a:ext cx="1733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250920" y="11592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 ЗАМЕТКУ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бёнка нужно  учёб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интерес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omework"/>
          <p:cNvPicPr/>
          <p:nvPr/>
        </p:nvPicPr>
        <p:blipFill>
          <a:blip r:embed="rId1"/>
          <a:stretch/>
        </p:blipFill>
        <p:spPr>
          <a:xfrm>
            <a:off x="539640" y="2924280"/>
            <a:ext cx="2379600" cy="2887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3276720" y="3789360"/>
            <a:ext cx="520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навязчиво повторя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«Знания ты получаешь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себя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 ЗАМЕТКУ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087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ебенок в процессе учебы должен    укрепляться в мысли о том, что его умственные способности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е огранич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lessonb"/>
          <p:cNvPicPr/>
          <p:nvPr/>
        </p:nvPicPr>
        <p:blipFill>
          <a:blip r:embed="rId1"/>
          <a:stretch/>
        </p:blipFill>
        <p:spPr>
          <a:xfrm>
            <a:off x="3851280" y="4292640"/>
            <a:ext cx="19749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 ЗАМЕТКУ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4247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Призывайте ребенк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мышлять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, когда он  выполняет  домашнее  задание, это стимулирует мыслительную деятельность, вырабатывает интерес к определенному зн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министративный срез по русскому язы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676440" y="1590840"/>
            <a:ext cx="745632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ВАЛИТЕ РЕБЁ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Показывайте ему, что о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 многое способе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и вы верите в его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Исключите из своего общения с ребенк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скорб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0a05862ed141b5426b8e5a27603b6ebf"/>
          <p:cNvPicPr/>
          <p:nvPr/>
        </p:nvPicPr>
        <p:blipFill>
          <a:blip r:embed="rId1"/>
          <a:stretch/>
        </p:blipFill>
        <p:spPr>
          <a:xfrm>
            <a:off x="3780000" y="3284640"/>
            <a:ext cx="144612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одители лучше всех знают своего ребенка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 скорее могут прийти на помощь, если у него возникнут проблемы в уч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Родители постоянн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лжны совершенствовать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знания о своем ребе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залог успех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20181306"/>
          <p:cNvPicPr/>
          <p:nvPr/>
        </p:nvPicPr>
        <p:blipFill>
          <a:blip r:embed="rId1"/>
          <a:stretch/>
        </p:blipFill>
        <p:spPr>
          <a:xfrm>
            <a:off x="6659640" y="2349360"/>
            <a:ext cx="194472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оговая работа по русскому язы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484280"/>
          <a:ext cx="8281800" cy="5040360"/>
        </p:xfrm>
        <a:graphic>
          <a:graphicData uri="http://schemas.openxmlformats.org/drawingml/2006/table">
            <a:tbl>
              <a:tblPr/>
              <a:tblGrid>
                <a:gridCol w="155520"/>
                <a:gridCol w="7000920"/>
                <a:gridCol w="611280"/>
                <a:gridCol w="514080"/>
              </a:tblGrid>
              <a:tr h="34128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732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ли всю работу без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960">
                <a:tc rowSpan="4"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сали диктант:         без ошибок (на «5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ошибки (на «4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ошибок (на «3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 ошибок (на «2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960">
                <a:tc rowSpan="3"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успеваем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У(количество «5» х 1+ «4» х 0,64+ «3» х 0,36 + «2» х 0,14). Полученная сумма делится на количество учащихся и умножается на 100%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мма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484280"/>
          <a:ext cx="8229600" cy="5113440"/>
        </p:xfrm>
        <a:graphic>
          <a:graphicData uri="http://schemas.openxmlformats.org/drawingml/2006/table">
            <a:tbl>
              <a:tblPr/>
              <a:tblGrid>
                <a:gridCol w="151200"/>
                <a:gridCol w="6960240"/>
                <a:gridCol w="607680"/>
                <a:gridCol w="510480"/>
              </a:tblGrid>
              <a:tr h="26820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8200">
                <a:tc rowSpan="4"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сали :         на 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8200">
                <a:tc rowSpan="3"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успеваем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6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У(количество «5» х 1+ «4» х 0,64+ «3» х 0,36 + «2» х 0,14). Полученная сумма делится на количество учащихся и умножается на 100%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вая работа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1268280"/>
          <a:ext cx="8856720" cy="5257800"/>
        </p:xfrm>
        <a:graphic>
          <a:graphicData uri="http://schemas.openxmlformats.org/drawingml/2006/table">
            <a:tbl>
              <a:tblPr/>
              <a:tblGrid>
                <a:gridCol w="830160"/>
                <a:gridCol w="6535800"/>
                <a:gridCol w="523800"/>
                <a:gridCol w="966960"/>
              </a:tblGrid>
              <a:tr h="736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1уровень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2 уровень +№2, №5, допускается 1или 2 незначительные ошибки ( в схем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2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1 уровень , допускается 1 или 2 вычислительные ошиб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2 уровень+№2, № 5 допускается 1 или 2 вычислительные ошиб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89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1 уровень,  допускается  3 ошибки (в том числе неправильно решённая задача № 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2 уровень+№2, № 5 допускается  3  или  4 ошибки (в том числе неправильно решённая задача № 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90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1 уровень,  допускается  4  и более ошибок (в том числе неправильно решённая задача № 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2 уровень+ №2, № 5 допускается 5 и более ошибок  (в том числе неправильно решённая задача № 1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личество «5» х 1+ «4» х 0,64+ «3» х 0,36 + «2» х 0,14. Полученная сумма делится на количество учащихся и умножается на 100%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4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Не самоустраняйтесь в процессе воспитания и обучения своего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20181306"/>
          <p:cNvPicPr/>
          <p:nvPr/>
        </p:nvPicPr>
        <p:blipFill>
          <a:blip r:embed="rId1"/>
          <a:stretch/>
        </p:blipFill>
        <p:spPr>
          <a:xfrm>
            <a:off x="6084720" y="4437000"/>
            <a:ext cx="197172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БХОД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оспитывать  в ребенке чувство ответствен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за то, что он дел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увство ответственност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залог успеха в учебе и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Воспитание чувства ответственности неотделимо от умен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оводить начатое дел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до кон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бъективные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Желание привлечь к се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внимание взрос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збалова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трах неу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ЧИНЫ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r121660244955973"/>
          <p:cNvPicPr/>
          <p:nvPr/>
        </p:nvPicPr>
        <p:blipFill>
          <a:blip r:embed="rId1"/>
          <a:stretch/>
        </p:blipFill>
        <p:spPr>
          <a:xfrm>
            <a:off x="6084720" y="3213000"/>
            <a:ext cx="1886040" cy="2946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О КОТОРЫМ РЕБЁНОК НЕ СПРАВЛЯЕТ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О ШКОЛЬНОЙ ПРОГРАММ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8:51:55Z</dcterms:created>
  <dc:creator>1</dc:creator>
  <dc:description/>
  <dc:language>en-US</dc:language>
  <cp:lastModifiedBy>Пользователь</cp:lastModifiedBy>
  <dcterms:modified xsi:type="dcterms:W3CDTF">2016-11-28T15:08:50Z</dcterms:modified>
  <cp:revision>27</cp:revision>
  <dc:subject/>
  <dc:title>Слайд 1</dc:title>
</cp:coreProperties>
</file>