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F05-3997-4E6A-A1D9-E2DF3566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9C9-5734-45B5-9787-93817E52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A13-395B-4DDD-A7A0-D6997169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3FE-7834-4913-AAF0-7E5FBB47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D9DE-93AB-4429-8C2F-763569DA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7335-5F8A-4DF0-986E-47F7FB6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F97B-0B4E-4989-948C-3BB3E3D7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2713-7D52-4C2B-B44D-1F7DF5F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BCD5-2ACB-4F9C-A826-CD96DAF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F607-F081-420C-8059-1B16EC33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5EA6-9E99-434C-8C94-096CA87D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557-0662-4D20-973C-0A77BC9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D08-8537-4415-B683-2589C57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160F-D5D5-4A3A-8814-50AB839D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EBB4-6BB3-4B64-8241-03A7B80B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AC4B-8DCB-4E88-9B09-CABCDA0E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5E60-439D-480E-A2E8-332CF4D0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6DE2-65B8-4A31-9863-F242052E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4EA4-D9F0-4F8E-AE9B-40E23F2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450D-F90C-43DF-8C85-3E76A9D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C7D0-5C01-4307-90A6-FE191C04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C2E5-AED3-4A4B-9B1F-A2F58CBE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42D-D8CD-49F4-A18D-CFA77D4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04DC-3477-4CDA-9453-7B786D1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8803-BAF3-4ECF-B17D-FA8A7B97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8446-FFA9-45F0-AFBC-C47315E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7D8E-7903-4AC4-9635-A8E0C14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EE67-4D8A-4C6D-BD7E-35532A31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D9DF-371C-450D-9B70-5BD2D61E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63C4-5A35-424F-B581-667412C7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58DD-E11A-410D-94A9-14925982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07AD-1D20-46E1-B84F-48E864BB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D910-1C1F-4EBD-A182-C4508DE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426-5953-4051-B42C-35DD8719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0A83-4530-4757-8BCF-E41224A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6EFC3-7969-456C-82FE-F3695F42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E449-1DAF-42A5-AE76-3DEFB00D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D5FB8-5185-402D-84E9-66FB9B7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615A-277E-486D-888D-CA15C0F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805C-A0D5-4F87-A373-9614571C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4F34C-F9E3-4D87-9C4D-C78F2E4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074F-5ED7-4EBB-9CC4-2FF401D1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046E5-A3C3-4F5F-9CD6-A6117B77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C17D-235B-465D-A2DB-831A7C8F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482-D6F6-47C3-9061-7E25179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EF42A-4428-4F80-B04C-625EDFF2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AC7A-0167-4196-B99B-6BFC07CD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FD82-C3A0-487F-B870-FFE6A1DE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921B-99E7-4C12-A976-D31901A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B72FE-8AEC-4FA3-AFA0-097712D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C261-FB22-4FE9-903A-BC8CBA7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8ACAD-423A-4887-A7C2-EBD9D7F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356A6-7A5C-4132-AC98-43485AFB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901A-6EB4-4F70-98A8-81C8A53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D5123-0C27-4712-A343-BA8D01BE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883-C3F8-4068-B01D-AB98DA5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066C-6F51-4DB4-85C8-4BF4D4B1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628-F57E-4869-8636-CBFBFC5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567-03B3-4B5C-AF76-1DBD890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F22-4909-46DD-B8C0-CD9030F0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23F-550E-45D8-A879-314C4F219A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1A01-B06C-495D-9148-851C3AB03F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5779-8167-4EAF-BBEC-4905F29788E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203-A6FB-4AAF-82CF-197704B607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4E93-5280-4BF5-87EA-DE2FF1194A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8d3e"/>
                </a:solidFill>
                <a:latin typeface="Verdana"/>
              </a:rPr>
              <a:t>Летопись моей школы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5892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дготови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фимов Анатолий Михайло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щийся _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5 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_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БОУ СОШ №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. Михаила Нагибина 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Бушуева Ольга Михайл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БОУ СОШ №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203640" y="59500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ОВ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2571840" y="557208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вченко Людмила Анатольевна 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Users\Владимир\Desktop\Camera\IMG_20141028_081809.jpg"/>
          <p:cNvPicPr/>
          <p:nvPr/>
        </p:nvPicPr>
        <p:blipFill>
          <a:blip r:embed="rId1"/>
          <a:stretch/>
        </p:blipFill>
        <p:spPr>
          <a:xfrm>
            <a:off x="3059280" y="506520"/>
            <a:ext cx="3600360" cy="4856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1403280" y="5732640"/>
            <a:ext cx="67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бенко Наталья Викторов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C:\Users\Владимир\Desktop\imageU4AS23U3.jpg"/>
          <p:cNvPicPr/>
          <p:nvPr/>
        </p:nvPicPr>
        <p:blipFill>
          <a:blip r:embed="rId1"/>
          <a:stretch/>
        </p:blipFill>
        <p:spPr>
          <a:xfrm>
            <a:off x="2484360" y="476280"/>
            <a:ext cx="3983040" cy="531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4"/>
          <p:cNvSpPr/>
          <p:nvPr/>
        </p:nvSpPr>
        <p:spPr>
          <a:xfrm>
            <a:off x="2000160" y="600084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ова Ал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Users\Владимир\Desktop\z_1e3b3d2f.jpg"/>
          <p:cNvPicPr/>
          <p:nvPr/>
        </p:nvPicPr>
        <p:blipFill>
          <a:blip r:embed="rId1"/>
          <a:stretch/>
        </p:blipFill>
        <p:spPr>
          <a:xfrm>
            <a:off x="1187280" y="907920"/>
            <a:ext cx="643284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2071800" y="5786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стовая Виктор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C:\Users\Владимир\Desktop\Camera\IMG_20141025_125928.jpg"/>
          <p:cNvPicPr/>
          <p:nvPr/>
        </p:nvPicPr>
        <p:blipFill>
          <a:blip r:embed="rId1"/>
          <a:stretch/>
        </p:blipFill>
        <p:spPr>
          <a:xfrm>
            <a:off x="2556000" y="442800"/>
            <a:ext cx="3816360" cy="514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2920" y="529920"/>
            <a:ext cx="44290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одная школа. Честь ей и хвала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Как высоко ее предназначенье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лагословлять на новые дела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а новые победы и свершень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Как в реку Дон стекают ручейки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Так в школу не одно десятилет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гут, смеясь, ее ученики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Чтоб мир познать в его великолепи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Ей багодарны сотни человек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И снова молодая, обновленна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ступает школа в 21 век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детей и жизнь по прежнему влюбленная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(г. Ростов-на-Дону 1 сентября 1998 год  Демьянова Инна Олеговна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3" descr="C:\Users\Владимир\Desktop\image022.jpg"/>
          <p:cNvPicPr/>
          <p:nvPr/>
        </p:nvPicPr>
        <p:blipFill>
          <a:blip r:embed="rId1"/>
          <a:stretch/>
        </p:blipFill>
        <p:spPr>
          <a:xfrm>
            <a:off x="4859280" y="1268280"/>
            <a:ext cx="3960720" cy="3129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4"/>
          <p:cNvSpPr/>
          <p:nvPr/>
        </p:nvSpPr>
        <p:spPr>
          <a:xfrm>
            <a:off x="1143000" y="557208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зьмин Иван Георгиевич был директором школы с 1954 по 195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C:\Users\Владимир\Desktop\Camera\IMG_20141028_080959.jpg"/>
          <p:cNvPicPr/>
          <p:nvPr/>
        </p:nvPicPr>
        <p:blipFill>
          <a:blip r:embed="rId1"/>
          <a:stretch/>
        </p:blipFill>
        <p:spPr>
          <a:xfrm>
            <a:off x="2700360" y="476280"/>
            <a:ext cx="3716280" cy="501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1500120" y="55008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умаченко Александр Петрович работал с 1957 по 196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Users\Владимир\Desktop\Camera\IMG_20141028_081021.jpg"/>
          <p:cNvPicPr/>
          <p:nvPr/>
        </p:nvPicPr>
        <p:blipFill>
          <a:blip r:embed="rId1"/>
          <a:stretch/>
        </p:blipFill>
        <p:spPr>
          <a:xfrm>
            <a:off x="2987640" y="692280"/>
            <a:ext cx="335592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1428840" y="52149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клич Клавдия Ильинична работала директором школы № 90 с ноября 1967 года по ноябрь 197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Users\Владимир\Desktop\Camera\IMG_20141028_081003.jpg"/>
          <p:cNvPicPr/>
          <p:nvPr/>
        </p:nvPicPr>
        <p:blipFill>
          <a:blip r:embed="rId1"/>
          <a:stretch/>
        </p:blipFill>
        <p:spPr>
          <a:xfrm>
            <a:off x="2843280" y="404640"/>
            <a:ext cx="3355920" cy="452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1428840" y="55008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ко Валентина Ивановна работала директором школы с 1974 по 19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29782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1000080" y="607212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чкова Ольга Тимофеевна директор школы с ноября 1996 года по 2002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C:\Users\Владимир\Desktop\Camera\IMG_20141028_081016.jpg"/>
          <p:cNvPicPr/>
          <p:nvPr/>
        </p:nvPicPr>
        <p:blipFill>
          <a:blip r:embed="rId1"/>
          <a:stretch/>
        </p:blipFill>
        <p:spPr>
          <a:xfrm>
            <a:off x="1490760" y="692280"/>
            <a:ext cx="661500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2286000" y="58579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баненко Татьяна Петровна директор МБОУ СОШ №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C:\Users\Владимир\Desktop\dir.jpg"/>
          <p:cNvPicPr/>
          <p:nvPr/>
        </p:nvPicPr>
        <p:blipFill>
          <a:blip r:embed="rId1"/>
          <a:stretch/>
        </p:blipFill>
        <p:spPr>
          <a:xfrm>
            <a:off x="2484360" y="549360"/>
            <a:ext cx="3730680" cy="520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2357280" y="5715000"/>
            <a:ext cx="44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сташевская Наталья Леонидовна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C:\Users\Владимир\Desktop\12345.jpg"/>
          <p:cNvPicPr/>
          <p:nvPr/>
        </p:nvPicPr>
        <p:blipFill>
          <a:blip r:embed="rId1"/>
          <a:stretch/>
        </p:blipFill>
        <p:spPr>
          <a:xfrm>
            <a:off x="2843280" y="404640"/>
            <a:ext cx="3476520" cy="530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9:25:58Z</dcterms:created>
  <dc:creator>111</dc:creator>
  <dc:description/>
  <dc:language>en-US</dc:language>
  <cp:lastModifiedBy>111</cp:lastModifiedBy>
  <dcterms:modified xsi:type="dcterms:W3CDTF">2014-10-30T09:50:51Z</dcterms:modified>
  <cp:revision>11</cp:revision>
  <dc:subject/>
  <dc:title>Летопись моей школы</dc:title>
</cp:coreProperties>
</file>