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7750-6CF0-4650-BAE5-96B4EFEF5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DA6-C39C-417A-BF7E-259C614F1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4A1-4EAC-46C2-9EDD-1EC694F6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B62-BC9E-4A5F-ACF5-BC32CF1F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5E6-01DD-4582-9871-EC6CE9EE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F01-0BD8-454D-B38D-1A1D8B76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A3EB-9FFF-4D14-ACD5-F4A0FD60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F154-6C01-410F-9205-C92C96D6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FADF-2576-4457-9990-5CE8AED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4F95-F05B-42CF-A28A-6AB75ACE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D751-1098-4640-8E54-C3FF45A4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B703-20E2-45DD-A968-B2D0D068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E27A-1BA8-4DF6-A74A-FAA9078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E0D-C2E8-40A2-83D3-60A83285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ADEF-A665-4C21-A51B-C0A53B2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A059-DB6F-4D4D-99BF-E4468C3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1317-A834-4110-A2F9-575DCB8A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F1EB-A2BC-4286-8244-6250B1FC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D727-7E62-4DF3-9B9F-0BF39322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338-7387-4FB5-824E-4C2544A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977-CD91-4FBC-8723-357FB5F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A65-1AE4-4A61-AF96-27776A56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977-FE69-4FC7-927B-04886B3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A8B-ECC0-4636-B8A0-E7F93B15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C2B-25A3-4B25-BE34-C7D9F58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928-20AA-4657-B6C2-6BFA8A1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236B-9552-4E19-AD8B-AC423729BB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627-89B0-48A2-8926-DA69247BC5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8364;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50560" y="2349360"/>
            <a:ext cx="8677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a0000"/>
                </a:solidFill>
                <a:latin typeface="Times New Roman"/>
              </a:rPr>
              <a:t>Литературные прем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1"/>
          <a:stretch/>
        </p:blipFill>
        <p:spPr>
          <a:xfrm>
            <a:off x="3780000" y="765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"/>
          <p:cNvPicPr/>
          <p:nvPr/>
        </p:nvPicPr>
        <p:blipFill>
          <a:blip r:embed="rId2"/>
          <a:stretch/>
        </p:blipFill>
        <p:spPr>
          <a:xfrm>
            <a:off x="3492360" y="34290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a2673"/>
                </a:solidFill>
                <a:latin typeface="Times New Roman"/>
              </a:rPr>
              <a:t>ПРЕМИЯ «МИГЕЛЬ ДЕ СЕРВАНТЕС»</a:t>
            </a:r>
            <a:br>
              <a:rPr sz="40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Испания, с 1976 г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298680" y="2533680"/>
            <a:ext cx="5845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рупнейшая ежегодная награда ныне живущему автору, пишущему на испанском язы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90 тыс. евро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28144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5917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2673"/>
                </a:solidFill>
                <a:latin typeface="Times New Roman"/>
              </a:rPr>
              <a:t>ИЕРУСАЛИМСКАЯ ПРЕМИЯ</a:t>
            </a: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Израиль, с 1963 г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284720" y="2855880"/>
            <a:ext cx="469116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рисуждается Международной книжной ярмаркой в Иерусалиме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324000" y="2162160"/>
            <a:ext cx="3822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080"/>
            <a:ext cx="8015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Times New Roman"/>
              </a:rPr>
              <a:t>ПРЕМИЯ Г.Х. АНДЕРСЕНА</a:t>
            </a:r>
            <a:r>
              <a:rPr b="1" lang="ru-RU" sz="4400" spc="-1" strike="noStrike" u="sng">
                <a:solidFill>
                  <a:srgbClr val="a26d18"/>
                </a:solidFill>
                <a:uFillTx/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с 1956 г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753000" y="1773360"/>
            <a:ext cx="534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рганизов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Международным советом по детской и юношеской литературе ЮНЕСКО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Для «детских» авторов эта премия – наиболее престижная международная награда, её часто называют «Малой Нобелевской премией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0" y="1773360"/>
            <a:ext cx="341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ДУБЛИНСКАЯ ЛИТЕРАТУРНАЯ ПРЕМИЯ</a:t>
            </a:r>
            <a:br>
              <a:rPr sz="2800"/>
            </a:b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</a:t>
            </a: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 1996 г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797280" y="2208240"/>
            <a:ext cx="51246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чрежд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городским советом Дублина и американским инвестиционным фондом ИМПА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змер премии 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€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00,000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rcRect l="15797" t="0" r="17203" b="0"/>
          <a:stretch/>
        </p:blipFill>
        <p:spPr>
          <a:xfrm>
            <a:off x="225360" y="2168640"/>
            <a:ext cx="356724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ARS  TRANSLATIONS  (ИСКУССТВО ПЕРЕВОДА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(с 1989 г)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62400" y="1911240"/>
            <a:ext cx="5557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Учрежд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редакцией журнала «Всесв</a:t>
            </a:r>
            <a:r>
              <a:rPr b="0" lang="uk-UA" sz="3200" spc="-1" strike="noStrike">
                <a:solidFill>
                  <a:srgbClr val="990033"/>
                </a:solidFill>
                <a:latin typeface="Times New Roman"/>
              </a:rPr>
              <a:t>іт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руч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за лучшие переводы и переводоведческие труды, опубликованные за год на страницах журн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3320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Харьковский международный фестиваль фантастики «ЗВЁЗДНЫЙ МОСТ»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</a:t>
            </a: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с 1999 г)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635280" y="2349360"/>
            <a:ext cx="511344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На фестивале происходит награждение премиями русскоязычных фантастических произведений, увидевших свет в минувшем год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28083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67708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знакомить учащихся с престижными международными и национальными литературными премия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казать вклад лауреатов премий в мировой литературный процесс, своеобразие и значимость их творчеств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вать умение работать с научной и критической литературо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спитывать интерес к литерату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Times New Roman"/>
              </a:rPr>
              <a:t>ГОНКУРОВСКАЯ ПРЕМИЯ</a:t>
            </a: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 (Франция, с 1896 г)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2" name="Picture 10" descr="images"/>
          <p:cNvPicPr/>
          <p:nvPr/>
        </p:nvPicPr>
        <p:blipFill>
          <a:blip r:embed="rId1">
            <a:lum contrast="12000"/>
          </a:blip>
          <a:srcRect l="0" t="0" r="0" b="17746"/>
          <a:stretch/>
        </p:blipFill>
        <p:spPr>
          <a:xfrm>
            <a:off x="222120" y="1773360"/>
            <a:ext cx="32641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3486240" y="2781360"/>
            <a:ext cx="5627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снователь премии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известный писатель Эдмонд Гонкур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первые вруч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903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 фран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4320" y="404640"/>
            <a:ext cx="871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2673"/>
                </a:solidFill>
                <a:latin typeface="Times New Roman"/>
              </a:rPr>
              <a:t>ПУЛИТЦЕРОВСКАЯ ПРЕМИЯ</a:t>
            </a:r>
            <a:br>
              <a:rPr sz="4400"/>
            </a:b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(США, с 1917 г)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08360" y="2143080"/>
            <a:ext cx="5435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снователь премии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журналист Джозеф Пулитцер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 тысяча $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Лауреат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М. Митчелл, Д. Стейнбек,</a:t>
            </a:r>
            <a:br>
              <a:rPr sz="3200"/>
            </a:b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Э. Хемингуэй, В. Фолкне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6" descr="iages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47760" y="2106720"/>
            <a:ext cx="3071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6120" y="115920"/>
            <a:ext cx="8015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2673"/>
                </a:solidFill>
                <a:latin typeface="Times New Roman"/>
              </a:rPr>
              <a:t>БУКЕРОВСКАЯ ПРЕМИЯ</a:t>
            </a: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 (Великобритания, с 1969 г)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708360" y="2781360"/>
            <a:ext cx="5435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сновател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концерн «Букер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20 тыс. фунтов стерлин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6" descr="imagejpeg"/>
          <p:cNvPicPr/>
          <p:nvPr/>
        </p:nvPicPr>
        <p:blipFill>
          <a:blip r:embed="rId1"/>
          <a:stretch/>
        </p:blipFill>
        <p:spPr>
          <a:xfrm>
            <a:off x="382680" y="2060640"/>
            <a:ext cx="2960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a2673"/>
                </a:solidFill>
                <a:latin typeface="Times New Roman"/>
              </a:rPr>
              <a:t>«Русский Букер»</a:t>
            </a: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Россия, </a:t>
            </a: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с 1992 г)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851280" y="2708280"/>
            <a:ext cx="529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ручается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по инициативе Британского Совета в Росс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5 000 $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rcRect l="0" t="0" r="31036" b="0"/>
          <a:stretch/>
        </p:blipFill>
        <p:spPr>
          <a:xfrm>
            <a:off x="324000" y="1989000"/>
            <a:ext cx="3241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150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2673"/>
                </a:solidFill>
                <a:latin typeface="Times New Roman"/>
              </a:rPr>
              <a:t>ЛИТЕРАТУРНАЯ ПРЕМИЯ «ОРАНЖ»</a:t>
            </a:r>
            <a:br>
              <a:rPr sz="3200"/>
            </a:b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(Великобритания) (с 1996 г.)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24360" y="2374920"/>
            <a:ext cx="521964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понсор премии высказал пожелание не афишировать его име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0 000 фунтов стерлин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6" descr="бесси оранж"/>
          <p:cNvPicPr/>
          <p:nvPr/>
        </p:nvPicPr>
        <p:blipFill>
          <a:blip r:embed="rId1"/>
          <a:stretch/>
        </p:blipFill>
        <p:spPr>
          <a:xfrm>
            <a:off x="539640" y="1770120"/>
            <a:ext cx="3024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15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a2673"/>
                </a:solidFill>
                <a:latin typeface="Times New Roman"/>
              </a:rPr>
              <a:t>НОБЕЛЕВСКАЯ ПРЕМИЯ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Швеция, с 1901 г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746600" y="2060640"/>
            <a:ext cx="42418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сновател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предприниматель и ученый 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Альфред Нобель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1,4 млн. шведских крон (2008 г.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6" descr="image"/>
          <p:cNvPicPr/>
          <p:nvPr/>
        </p:nvPicPr>
        <p:blipFill>
          <a:blip r:embed="rId1"/>
          <a:stretch/>
        </p:blipFill>
        <p:spPr>
          <a:xfrm>
            <a:off x="249120" y="2060640"/>
            <a:ext cx="44989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563640" y="3500280"/>
            <a:ext cx="5267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енежный эквивалент 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Times New Roman"/>
              </a:rPr>
              <a:t>50 000 евро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Times New Roman"/>
              </a:rPr>
              <a:t>ПРЕМИЯ ГЁТЕ</a:t>
            </a:r>
            <a:br>
              <a:rPr sz="4400"/>
            </a:b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(Германия, с 1927 г)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11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5:53:37Z</dcterms:created>
  <dc:creator>Admin</dc:creator>
  <dc:description/>
  <dc:language>en-US</dc:language>
  <cp:lastModifiedBy>Надежда</cp:lastModifiedBy>
  <dcterms:modified xsi:type="dcterms:W3CDTF">2016-11-28T09:04:09Z</dcterms:modified>
  <cp:revision>193</cp:revision>
  <dc:subject/>
  <dc:title>МАСТЕР-КЛАСС</dc:title>
</cp:coreProperties>
</file>