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C44-D7C0-417B-B036-63947198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5D4-F4D8-48A5-8C0E-44723128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14D-FEF9-48FD-B860-2A2F904D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7F7-E551-4E63-A464-9127C6BF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673-C36A-4AF3-B696-A96AB3E3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F2A-2079-464C-A64D-67348212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7DA-C714-4F9A-B2D9-9073EE7E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FEA-6AB5-42FB-BA6A-CCF6B599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C6A-512E-42D8-87B8-F813F045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32A-4523-4F42-A186-CF1E1104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3E9-2400-480B-82AF-05AE7EA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C93-C8C1-4408-85AE-A1D9A224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C6058-616A-48B9-BEAA-DC32D03321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7280" y="360360"/>
            <a:ext cx="417672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400720" y="4896000"/>
            <a:ext cx="453528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лакова И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удентка 26 групп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968720" y="1728360"/>
            <a:ext cx="439128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6760" y="149076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70080" y="4392720"/>
            <a:ext cx="3697560" cy="302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08720" y="1295280"/>
            <a:ext cx="361008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«Кенгур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енгуру», — это массовый международный математический конкурс-игра под девизом «Математика для всех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ая цель конкурса — привлечь как можно больше ребят к решению математических задач, показать каждому школьнику, что обдумывание задачи может быть делом живым, увлекательным, и даже весел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Во сколько раз один час больше, чем 15 мину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два раза.            б) В три р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 четыре раза.        г) В пять ра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) В шесть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000" y="4176720"/>
            <a:ext cx="3743640" cy="2663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24000" y="5041440"/>
            <a:ext cx="4824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в) в четыре 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1768320"/>
            <a:ext cx="4425840" cy="68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360000"/>
            <a:ext cx="92883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Вася умеет писать только цифры 1, 2 и 3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лько чисел от 10 до 30  он сможет  написать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2     б) 4     в) 6     г) 7     д)  8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7640" y="3384720"/>
            <a:ext cx="4249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в)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27640" y="6696000"/>
            <a:ext cx="4425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д) 15: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4032360"/>
            <a:ext cx="936288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noAutofit/>
          </a:bodyPr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Электронные часы показывают  14: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они покажут  через 50 мину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14:50     б) 14:55   в) 14:70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) 15:00      д) 15: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6000" y="374400"/>
            <a:ext cx="9070920" cy="624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Анна,Бетти и Селина родились в одном году, их дни рождения пришлись на одно и то же число в разных месяцах. Бетти на 6 месяцев старше, чем Селина, и на 5 месяцев младше, чем Анн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аком месяце родилась Бетти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в апреле          б)в ма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) в июне  г)в июле  д) в август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59280" y="6705720"/>
            <a:ext cx="388800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в) в ию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280" y="510840"/>
            <a:ext cx="8928360" cy="6256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В магазине«Все для магии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чего не продают, но меняют одни волшебные предметы на другие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вер- самолет можно поменять на две шапки-невидимки, за шапку-невидимку можно получить три волшебных дудочки, а две волшебных  дудочки можно обменять на волшебную палочку. На сколько волшебных палочек можно обменять два ковра самолета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а) 20   б) 12    в) 8    г) 6    д) 4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44720" y="6624360"/>
            <a:ext cx="4319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г)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360" y="936360"/>
            <a:ext cx="90709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  <a:ea typeface="Arial CYR"/>
              </a:rPr>
              <a:t>6.Два кузнечика прыгают по буквам слова КЕНГУРУ. Они начали  с крайних букв и прыгают одновременно навстречу друг другу. При каждом прыжке кузнечики перепрыгивают на соседнюю букву 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CYR"/>
                <a:ea typeface="Arial CYR"/>
              </a:rPr>
              <a:t>На какой букве они встретятся?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CYR"/>
                <a:ea typeface="Arial CYR"/>
              </a:rPr>
              <a:t>а) К      б) Е      в)  Н      г) Г       д) У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90920" y="6202080"/>
            <a:ext cx="338292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г)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280" y="615600"/>
            <a:ext cx="92869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В зоопарке родились три львенка и четыре орленка. Сколько лап добавилось при этом в зоопарке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 36        б) 32        в) 28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г) 24         д) 20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360" y="4464000"/>
            <a:ext cx="3240360" cy="2965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91280" y="6119640"/>
            <a:ext cx="3487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: д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647280"/>
            <a:ext cx="90709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.На следующий день после дня рождения Петя сказал: «После завтра будет среда».Когда у Пети был день рождения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) в понедельник    б) во вторник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) в пятницу   г) в субботу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) в воскрес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51280" y="6480000"/>
            <a:ext cx="5112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д) в воскре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6:25:50Z</dcterms:created>
  <dc:creator>Ирина Гулакова</dc:creator>
  <dc:description/>
  <dc:language>en-US</dc:language>
  <cp:lastModifiedBy>Ирина Гулакова</cp:lastModifiedBy>
  <dcterms:modified xsi:type="dcterms:W3CDTF">2014-10-14T19:34:39Z</dcterms:modified>
  <cp:revision>2</cp:revision>
  <dc:subject/>
  <dc:title/>
</cp:coreProperties>
</file>