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421-3A07-4BFF-8DF8-02D90F39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F10-20CD-418E-96F4-7AE81D4A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905-11D3-4154-812B-7C4C2F77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B76-07F5-44F8-A2A0-7FD7357F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236-37B2-4402-9A39-5976ED3D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3A7-678A-406C-8FE5-C06BE1B2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53F-3805-4672-8F56-607B4C5F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8D2-5AC3-4D8F-B77F-C5F5F51B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76E-1FE0-422B-8485-47AE36B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33D-1E84-4CC6-90A6-0DBC8A21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04A-413B-4F05-B255-3EC025B9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5DC-F738-4810-9894-5DC444D3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255F-295D-4018-93C9-7F1A03EDD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16000" y="115920"/>
            <a:ext cx="76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МЕТОДИЧЕСКАЯ  РАБОТА   В  ДО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4356000" y="3645000"/>
            <a:ext cx="30304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C:\Documents and Settings\Администратор\Рабочий стол\Для выступления презентации\DSCN2100.JPG"/>
          <p:cNvPicPr/>
          <p:nvPr/>
        </p:nvPicPr>
        <p:blipFill>
          <a:blip r:embed="rId1"/>
          <a:stretch/>
        </p:blipFill>
        <p:spPr>
          <a:xfrm>
            <a:off x="0" y="-69840"/>
            <a:ext cx="9371160" cy="7029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826920" y="2560680"/>
            <a:ext cx="77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ИНФОРМАЦИОННАЯ 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399960" y="861840"/>
            <a:ext cx="860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НАПРАВЛЕНИЯ </a:t>
            </a:r>
            <a:r>
              <a:rPr b="1" lang="en-US" sz="44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МЕТОДИЧЕСКОЙ 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C:\Documents and Settings\Администратор\Рабочий стол\Для выступления презентации\IMG-20161114-WA0005.jpg"/>
          <p:cNvPicPr/>
          <p:nvPr/>
        </p:nvPicPr>
        <p:blipFill>
          <a:blip r:embed="rId1"/>
          <a:stretch/>
        </p:blipFill>
        <p:spPr>
          <a:xfrm>
            <a:off x="0" y="663480"/>
            <a:ext cx="9163080" cy="55944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826920" y="2560680"/>
            <a:ext cx="77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ДИАГНОСТИКО-ПРОГНОСТ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25560" y="-3024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826920" y="2560680"/>
            <a:ext cx="776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ОБЛАСТЬ  ПОВЫШЕНИЯ КВАЛИФИКАЦИИ И ПЕДАГОГИЧЕСКОЙ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22320" y="30240"/>
            <a:ext cx="9823320" cy="692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Рисунок 1" descr=""/>
          <p:cNvPicPr/>
          <p:nvPr/>
        </p:nvPicPr>
        <p:blipFill>
          <a:blip r:embed="rId2"/>
          <a:stretch/>
        </p:blipFill>
        <p:spPr>
          <a:xfrm>
            <a:off x="-27000" y="0"/>
            <a:ext cx="9872640" cy="701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Администратор\Рабочий стол\Для выступления презентации\SAM_2679.JPG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354960" cy="701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354960" cy="701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-9360" y="0"/>
            <a:ext cx="9188280" cy="701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354960" cy="701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Администратор\Мои документы\Рубцова\Фото\фото Окс. Мих. и Педагоги\SAM_4577.JPG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354960" cy="701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D:\Педсоветы\Педагоги\SAM_60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576360" y="826920"/>
            <a:ext cx="51433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Monotype Corsiva"/>
              </a:rPr>
              <a:t>МОЙ   ДЕВИЗ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Monotype Corsiva"/>
              </a:rPr>
              <a:t>Нет нерешаемых проблем. Есть нерешительные лю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6032520" y="795240"/>
            <a:ext cx="2322360" cy="3060720"/>
          </a:xfrm>
          <a:prstGeom prst="rect">
            <a:avLst/>
          </a:prstGeom>
          <a:ln w="9360">
            <a:solidFill>
              <a:srgbClr val="bbe0e3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TextBox 8"/>
          <p:cNvSpPr/>
          <p:nvPr/>
        </p:nvSpPr>
        <p:spPr>
          <a:xfrm>
            <a:off x="4788000" y="3933720"/>
            <a:ext cx="41432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Рубцова Мари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Monotype Corsiva"/>
              </a:rPr>
              <a:t>Старший 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Педагогический стаж – 5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Образование - высш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Monotype Corsiva"/>
              </a:rPr>
              <a:t>1 квалификационная кат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1403280" y="2637000"/>
            <a:ext cx="33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Monotype Corsiva"/>
              </a:rPr>
              <a:t>Педагогическое кред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Monotype Corsiva"/>
              </a:rPr>
              <a:t>«Мысли , анализируй, осознавай и делай выводы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Monotype Corsiva"/>
              </a:rPr>
              <a:t>Деловая игра</a:t>
            </a:r>
            <a:br>
              <a:rPr sz="4400"/>
            </a:br>
            <a:r>
              <a:rPr b="1" i="1" lang="ru-RU" sz="4400" spc="-1" strike="noStrike">
                <a:solidFill>
                  <a:srgbClr val="222268"/>
                </a:solidFill>
                <a:latin typeface="Monotype Corsiva"/>
              </a:rPr>
              <a:t>«Ораторы – Оппоненты – Экспер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Monotype Corsiva"/>
              </a:rPr>
              <a:t>Первая роль: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«Оратор» - теоретически обоснованное 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Monotype Corsiva"/>
              </a:rPr>
              <a:t>Вторая роль: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«Оппонент» - противоположное 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Monotype Corsiva"/>
              </a:rPr>
              <a:t>Третья роль: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«Эксперт» – единый  знамен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Объект 3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9460080" cy="709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4680" y="19080"/>
            <a:ext cx="9139320" cy="68547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4" descr=""/>
          <p:cNvPicPr/>
          <p:nvPr/>
        </p:nvPicPr>
        <p:blipFill>
          <a:blip r:embed="rId2"/>
          <a:stretch/>
        </p:blipFill>
        <p:spPr>
          <a:xfrm>
            <a:off x="6297480" y="5761080"/>
            <a:ext cx="2700360" cy="11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C:\Documents and Settings\Администратор\Рабочий стол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8"/>
          <p:cNvSpPr/>
          <p:nvPr/>
        </p:nvSpPr>
        <p:spPr>
          <a:xfrm>
            <a:off x="647640" y="476280"/>
            <a:ext cx="7848720" cy="66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Monotype Corsiva"/>
              </a:rPr>
              <a:t>Любите </a:t>
            </a:r>
            <a:r>
              <a:rPr b="1" lang="en-US" sz="30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Monotype Corsiva"/>
              </a:rPr>
              <a:t>детство, будьте </a:t>
            </a:r>
            <a:r>
              <a:rPr b="1" lang="en-US" sz="30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Monotype Corsiva"/>
              </a:rPr>
              <a:t>внимательны </a:t>
            </a:r>
            <a:r>
              <a:rPr b="1" lang="en-US" sz="30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Monotype Corsiva"/>
              </a:rPr>
              <a:t>к </a:t>
            </a:r>
            <a:r>
              <a:rPr b="1" lang="en-US" sz="30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Monotype Corsiva"/>
              </a:rPr>
              <a:t>его играм и забавам, к его малому инстинкту! Кто из вас не жалел о том возрасте, когда улыбка не сходит с уст, когда душа наслаждается постоянно миром?</a:t>
            </a:r>
            <a:r>
              <a:rPr b="0" lang="ru-RU" sz="3000" spc="-1" strike="noStrike">
                <a:solidFill>
                  <a:srgbClr val="c00000"/>
                </a:solidFill>
                <a:latin typeface="Monotype Corsiva"/>
              </a:rPr>
              <a:t>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Monotype Corsiva"/>
              </a:rPr>
              <a:t>      </a:t>
            </a:r>
            <a:r>
              <a:rPr b="0" lang="ru-RU" sz="3000" spc="-1" strike="noStrike">
                <a:solidFill>
                  <a:srgbClr val="c00000"/>
                </a:solidFill>
                <a:latin typeface="Monotype Corsiva"/>
              </a:rPr>
              <a:t>(</a:t>
            </a:r>
            <a:r>
              <a:rPr b="1" lang="ru-RU" sz="3000" spc="-1" strike="noStrike">
                <a:solidFill>
                  <a:srgbClr val="c00000"/>
                </a:solidFill>
                <a:latin typeface="Monotype Corsiva"/>
              </a:rPr>
              <a:t>Жан  Жак  Русс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Monotype Corsiva"/>
              </a:rPr>
              <a:t>Удачи и творческих  успехов Вам, уважаемые коллеги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Monotype Corsiv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9"/>
          <p:cNvSpPr/>
          <p:nvPr/>
        </p:nvSpPr>
        <p:spPr>
          <a:xfrm>
            <a:off x="372960" y="1146240"/>
            <a:ext cx="842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реализация государственных образовательных стандартов в рамках образовательного процес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создание совокупности условий для эффективного развития ДО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обеспечение качества образовательных  услуг в ДО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708120" y="376200"/>
            <a:ext cx="776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ЦЕЛИ  МЕТОДИЧЕСКОЙ </a:t>
            </a:r>
            <a:r>
              <a:rPr b="1" lang="en-US" sz="32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РАБОТЫ </a:t>
            </a:r>
            <a:r>
              <a:rPr b="1" lang="en-US" sz="32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ДО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7"/>
          <p:cNvSpPr/>
          <p:nvPr/>
        </p:nvSpPr>
        <p:spPr>
          <a:xfrm>
            <a:off x="1119240" y="34452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ЗАДАЧИ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МЕТОДИЧЕСКОЙ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392040" y="928800"/>
            <a:ext cx="83599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6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00"/>
                </a:solidFill>
                <a:latin typeface="Monotype Corsiva"/>
              </a:rPr>
              <a:t>обеспечение теоретической, психологической, методической поддержки воспита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6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00"/>
                </a:solidFill>
                <a:latin typeface="Monotype Corsiva"/>
              </a:rPr>
              <a:t>создание условий для повышения профессиональной компетенции, роста педагогического мастерства и развития творческого потенциала каждого педаго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6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00"/>
                </a:solidFill>
                <a:latin typeface="Monotype Corsiva"/>
              </a:rPr>
              <a:t>организация активного участия педагогов в планировании, разработке и реализации программы развития, в инновационных процесс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6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c0000"/>
                </a:solidFill>
                <a:latin typeface="Monotype Corsiva"/>
              </a:rPr>
              <a:t>проведение мониторинговых и аттестационных процедур для объективного анализа развития дошкольного учреждения, достигнутых результатов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Группа 14"/>
          <p:cNvGrpSpPr/>
          <p:nvPr/>
        </p:nvGrpSpPr>
        <p:grpSpPr>
          <a:xfrm>
            <a:off x="268200" y="0"/>
            <a:ext cx="8572680" cy="628560"/>
            <a:chOff x="268200" y="0"/>
            <a:chExt cx="8572680" cy="628560"/>
          </a:xfrm>
        </p:grpSpPr>
        <p:sp>
          <p:nvSpPr>
            <p:cNvPr id="53" name="Скругленный прямоугольник 15"/>
            <p:cNvSpPr/>
            <p:nvPr/>
          </p:nvSpPr>
          <p:spPr>
            <a:xfrm>
              <a:off x="268200" y="0"/>
              <a:ext cx="8572680" cy="628560"/>
            </a:xfrm>
            <a:prstGeom prst="roundRect">
              <a:avLst>
                <a:gd name="adj" fmla="val 10000"/>
              </a:avLst>
            </a:prstGeom>
            <a:solidFill>
              <a:srgbClr val="ff9900"/>
            </a:soli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Скругленный прямоугольник 4"/>
            <p:cNvSpPr/>
            <p:nvPr/>
          </p:nvSpPr>
          <p:spPr>
            <a:xfrm>
              <a:off x="306000" y="18720"/>
              <a:ext cx="8496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1" lang="ru-RU" sz="3000" spc="-1" strike="noStrike">
                  <a:solidFill>
                    <a:srgbClr val="ffff00"/>
                  </a:solidFill>
                  <a:latin typeface="Monotype Corsiva"/>
                </a:rPr>
                <a:t>СОДЕРЖАНИЕ  МЕТОДИЧЕСКОЙ  РАБ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Группа 17"/>
          <p:cNvGrpSpPr/>
          <p:nvPr/>
        </p:nvGrpSpPr>
        <p:grpSpPr>
          <a:xfrm>
            <a:off x="306360" y="2622600"/>
            <a:ext cx="8496360" cy="1612800"/>
            <a:chOff x="306360" y="2622600"/>
            <a:chExt cx="8496360" cy="1612800"/>
          </a:xfrm>
        </p:grpSpPr>
        <p:sp>
          <p:nvSpPr>
            <p:cNvPr id="56" name="Скругленный прямоугольник 18"/>
            <p:cNvSpPr/>
            <p:nvPr/>
          </p:nvSpPr>
          <p:spPr>
            <a:xfrm>
              <a:off x="306360" y="2824200"/>
              <a:ext cx="8496360" cy="1209600"/>
            </a:xfrm>
            <a:prstGeom prst="roundRect">
              <a:avLst>
                <a:gd name="adj" fmla="val 10000"/>
              </a:avLst>
            </a:prstGeom>
            <a:solidFill>
              <a:srgbClr val="ffc000"/>
            </a:soli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Скругленный прямоугольник 4"/>
            <p:cNvSpPr/>
            <p:nvPr/>
          </p:nvSpPr>
          <p:spPr>
            <a:xfrm>
              <a:off x="468000" y="2622600"/>
              <a:ext cx="82076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3500" spc="-1" strike="noStrike">
                  <a:solidFill>
                    <a:srgbClr val="6c0000"/>
                  </a:solidFill>
                  <a:latin typeface="Monotype Corsiva"/>
                </a:rPr>
                <a:t>Работа с педагогами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16" descr="C:\Documents and Settings\Администратор\Мои документы\Рубцова\Фото\Педсоветы\DSCN5620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6"/>
          <p:cNvGrpSpPr/>
          <p:nvPr/>
        </p:nvGrpSpPr>
        <p:grpSpPr>
          <a:xfrm>
            <a:off x="860400" y="2795760"/>
            <a:ext cx="6880320" cy="1612800"/>
            <a:chOff x="860400" y="2795760"/>
            <a:chExt cx="6880320" cy="1612800"/>
          </a:xfrm>
        </p:grpSpPr>
        <p:sp>
          <p:nvSpPr>
            <p:cNvPr id="60" name="Скругленный прямоугольник 7"/>
            <p:cNvSpPr/>
            <p:nvPr/>
          </p:nvSpPr>
          <p:spPr>
            <a:xfrm>
              <a:off x="860400" y="2997360"/>
              <a:ext cx="6880320" cy="1209600"/>
            </a:xfrm>
            <a:prstGeom prst="roundRect">
              <a:avLst>
                <a:gd name="adj" fmla="val 10000"/>
              </a:avLst>
            </a:prstGeom>
            <a:solidFill>
              <a:srgbClr val="ffc000"/>
            </a:soli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Скругленный прямоугольник 4"/>
            <p:cNvSpPr/>
            <p:nvPr/>
          </p:nvSpPr>
          <p:spPr>
            <a:xfrm>
              <a:off x="992160" y="2795760"/>
              <a:ext cx="664560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3600" spc="-1" strike="noStrike">
                  <a:solidFill>
                    <a:srgbClr val="6c0000"/>
                  </a:solidFill>
                  <a:latin typeface="Monotype Corsiva"/>
                </a:rPr>
                <a:t>Изучение состояния педагогического процесс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Группа 6"/>
          <p:cNvGrpSpPr/>
          <p:nvPr/>
        </p:nvGrpSpPr>
        <p:grpSpPr>
          <a:xfrm>
            <a:off x="826920" y="2622600"/>
            <a:ext cx="7561440" cy="1612800"/>
            <a:chOff x="826920" y="2622600"/>
            <a:chExt cx="7561440" cy="1612800"/>
          </a:xfrm>
        </p:grpSpPr>
        <p:sp>
          <p:nvSpPr>
            <p:cNvPr id="64" name="Скругленный прямоугольник 7"/>
            <p:cNvSpPr/>
            <p:nvPr/>
          </p:nvSpPr>
          <p:spPr>
            <a:xfrm>
              <a:off x="826920" y="2824200"/>
              <a:ext cx="7561440" cy="1209600"/>
            </a:xfrm>
            <a:prstGeom prst="roundRect">
              <a:avLst>
                <a:gd name="adj" fmla="val 10000"/>
              </a:avLst>
            </a:prstGeom>
            <a:solidFill>
              <a:srgbClr val="ffc000"/>
            </a:soli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Скругленный прямоугольник 4"/>
            <p:cNvSpPr/>
            <p:nvPr/>
          </p:nvSpPr>
          <p:spPr>
            <a:xfrm>
              <a:off x="971280" y="2622600"/>
              <a:ext cx="730440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3600" spc="-1" strike="noStrike">
                  <a:solidFill>
                    <a:srgbClr val="6c0000"/>
                  </a:solidFill>
                  <a:latin typeface="Monotype Corsiva"/>
                </a:rPr>
                <a:t>Организационные мероприят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Рисунок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Группа 6"/>
          <p:cNvGrpSpPr/>
          <p:nvPr/>
        </p:nvGrpSpPr>
        <p:grpSpPr>
          <a:xfrm>
            <a:off x="324000" y="2313000"/>
            <a:ext cx="8496000" cy="1612800"/>
            <a:chOff x="324000" y="2313000"/>
            <a:chExt cx="8496000" cy="1612800"/>
          </a:xfrm>
        </p:grpSpPr>
        <p:sp>
          <p:nvSpPr>
            <p:cNvPr id="68" name="Скругленный прямоугольник 7"/>
            <p:cNvSpPr/>
            <p:nvPr/>
          </p:nvSpPr>
          <p:spPr>
            <a:xfrm>
              <a:off x="324000" y="2514600"/>
              <a:ext cx="8496000" cy="1209600"/>
            </a:xfrm>
            <a:prstGeom prst="roundRect">
              <a:avLst>
                <a:gd name="adj" fmla="val 10000"/>
              </a:avLst>
            </a:prstGeom>
            <a:solidFill>
              <a:srgbClr val="ffc000"/>
            </a:soli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Скругленный прямоугольник 4"/>
            <p:cNvSpPr/>
            <p:nvPr/>
          </p:nvSpPr>
          <p:spPr>
            <a:xfrm>
              <a:off x="487440" y="2313000"/>
              <a:ext cx="820728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3600" spc="-1" strike="noStrike">
                  <a:solidFill>
                    <a:srgbClr val="6c0000"/>
                  </a:solidFill>
                  <a:latin typeface="Monotype Corsiva"/>
                </a:rPr>
                <a:t>Работа с родителям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3" descr="C:\Documents and Settings\Администратор\Рабочий стол\DSC_0144.JPG"/>
          <p:cNvPicPr/>
          <p:nvPr/>
        </p:nvPicPr>
        <p:blipFill>
          <a:blip r:embed="rId1"/>
          <a:stretch/>
        </p:blipFill>
        <p:spPr>
          <a:xfrm>
            <a:off x="0" y="176040"/>
            <a:ext cx="9144000" cy="650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8"/>
          <p:cNvSpPr/>
          <p:nvPr/>
        </p:nvSpPr>
        <p:spPr>
          <a:xfrm>
            <a:off x="785880" y="18900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СТРУКТУРА </a:t>
            </a: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МЕТОДИЧЕСКОЙ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39"/>
          <p:cNvSpPr/>
          <p:nvPr/>
        </p:nvSpPr>
        <p:spPr>
          <a:xfrm>
            <a:off x="611280" y="1305000"/>
            <a:ext cx="2233440" cy="72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вет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0"/>
          <p:cNvSpPr/>
          <p:nvPr/>
        </p:nvSpPr>
        <p:spPr>
          <a:xfrm>
            <a:off x="611280" y="2492280"/>
            <a:ext cx="2273040" cy="92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едагогический 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41"/>
          <p:cNvSpPr/>
          <p:nvPr/>
        </p:nvSpPr>
        <p:spPr>
          <a:xfrm>
            <a:off x="5737320" y="3052800"/>
            <a:ext cx="2923920" cy="108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едико-педагогическое совещание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42"/>
          <p:cNvSpPr/>
          <p:nvPr/>
        </p:nvSpPr>
        <p:spPr>
          <a:xfrm>
            <a:off x="3132000" y="1316160"/>
            <a:ext cx="2284560" cy="2046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Arial"/>
                <a:ea typeface="Calibri"/>
              </a:rPr>
              <a:t>Творческие микро- группы (ТМГ): «Планировщики», «Проектировщики», «Репортёры», «Служба оценки качества», «Школа ИКТ», «Наставники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43"/>
          <p:cNvSpPr/>
          <p:nvPr/>
        </p:nvSpPr>
        <p:spPr>
          <a:xfrm>
            <a:off x="3267000" y="5284800"/>
            <a:ext cx="20620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Рабочая группа по разработке ООП Д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4"/>
          <p:cNvSpPr/>
          <p:nvPr/>
        </p:nvSpPr>
        <p:spPr>
          <a:xfrm>
            <a:off x="3392640" y="3762360"/>
            <a:ext cx="1809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Проектный Совет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5"/>
          <p:cNvSpPr/>
          <p:nvPr/>
        </p:nvSpPr>
        <p:spPr>
          <a:xfrm>
            <a:off x="612720" y="5113440"/>
            <a:ext cx="2233800" cy="108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кспертная группа аттестационных матер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46"/>
          <p:cNvSpPr/>
          <p:nvPr/>
        </p:nvSpPr>
        <p:spPr>
          <a:xfrm>
            <a:off x="650880" y="3797280"/>
            <a:ext cx="21938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Рабочая группа по введению ФГОС Д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7"/>
          <p:cNvSpPr/>
          <p:nvPr/>
        </p:nvSpPr>
        <p:spPr>
          <a:xfrm>
            <a:off x="5737320" y="4735440"/>
            <a:ext cx="2923920" cy="149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Аттестационная комиссия для установления соответствия занимаемой должности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48"/>
          <p:cNvSpPr/>
          <p:nvPr/>
        </p:nvSpPr>
        <p:spPr>
          <a:xfrm>
            <a:off x="5713560" y="1306440"/>
            <a:ext cx="2955600" cy="118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МПК ДОУ (психолого-медико-педагогическая комисс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49"/>
          <p:cNvSpPr/>
          <p:nvPr/>
        </p:nvSpPr>
        <p:spPr>
          <a:xfrm>
            <a:off x="2844720" y="1668600"/>
            <a:ext cx="274680" cy="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50"/>
          <p:cNvSpPr/>
          <p:nvPr/>
        </p:nvSpPr>
        <p:spPr>
          <a:xfrm flipV="1">
            <a:off x="5184720" y="2031480"/>
            <a:ext cx="504720" cy="234324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51"/>
          <p:cNvSpPr/>
          <p:nvPr/>
        </p:nvSpPr>
        <p:spPr>
          <a:xfrm>
            <a:off x="2844720" y="4254480"/>
            <a:ext cx="541440" cy="11268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52"/>
          <p:cNvSpPr/>
          <p:nvPr/>
        </p:nvSpPr>
        <p:spPr>
          <a:xfrm>
            <a:off x="5184720" y="4735440"/>
            <a:ext cx="552600" cy="19044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53"/>
          <p:cNvSpPr/>
          <p:nvPr/>
        </p:nvSpPr>
        <p:spPr>
          <a:xfrm>
            <a:off x="2884320" y="2681280"/>
            <a:ext cx="247680" cy="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54"/>
          <p:cNvSpPr/>
          <p:nvPr/>
        </p:nvSpPr>
        <p:spPr>
          <a:xfrm flipV="1">
            <a:off x="5208480" y="3595320"/>
            <a:ext cx="528840" cy="83340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55"/>
          <p:cNvSpPr/>
          <p:nvPr/>
        </p:nvSpPr>
        <p:spPr>
          <a:xfrm>
            <a:off x="2884320" y="3362400"/>
            <a:ext cx="501840" cy="97452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56"/>
          <p:cNvSpPr/>
          <p:nvPr/>
        </p:nvSpPr>
        <p:spPr>
          <a:xfrm flipV="1">
            <a:off x="4273560" y="3384720"/>
            <a:ext cx="0" cy="34272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57"/>
          <p:cNvSpPr/>
          <p:nvPr/>
        </p:nvSpPr>
        <p:spPr>
          <a:xfrm flipV="1">
            <a:off x="4273560" y="4906440"/>
            <a:ext cx="0" cy="39060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58"/>
          <p:cNvSpPr/>
          <p:nvPr/>
        </p:nvSpPr>
        <p:spPr>
          <a:xfrm flipH="1">
            <a:off x="2755440" y="4336920"/>
            <a:ext cx="636840" cy="76536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59"/>
          <p:cNvSpPr/>
          <p:nvPr/>
        </p:nvSpPr>
        <p:spPr>
          <a:xfrm>
            <a:off x="2844720" y="1898640"/>
            <a:ext cx="547920" cy="243828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60"/>
          <p:cNvSpPr/>
          <p:nvPr/>
        </p:nvSpPr>
        <p:spPr>
          <a:xfrm flipV="1">
            <a:off x="1857240" y="2031480"/>
            <a:ext cx="0" cy="46044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61"/>
          <p:cNvSpPr/>
          <p:nvPr/>
        </p:nvSpPr>
        <p:spPr>
          <a:xfrm flipV="1">
            <a:off x="1874880" y="4735080"/>
            <a:ext cx="0" cy="35244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62"/>
          <p:cNvSpPr/>
          <p:nvPr/>
        </p:nvSpPr>
        <p:spPr>
          <a:xfrm>
            <a:off x="1873080" y="3429000"/>
            <a:ext cx="0" cy="33336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63"/>
          <p:cNvSpPr/>
          <p:nvPr/>
        </p:nvSpPr>
        <p:spPr>
          <a:xfrm>
            <a:off x="5208480" y="3362400"/>
            <a:ext cx="638280" cy="143352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64"/>
          <p:cNvSpPr/>
          <p:nvPr/>
        </p:nvSpPr>
        <p:spPr>
          <a:xfrm flipV="1">
            <a:off x="2778120" y="2340000"/>
            <a:ext cx="353880" cy="1495440"/>
          </a:xfrm>
          <a:prstGeom prst="line">
            <a:avLst/>
          </a:prstGeom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6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5"/>
          <p:cNvSpPr/>
          <p:nvPr/>
        </p:nvSpPr>
        <p:spPr>
          <a:xfrm>
            <a:off x="4633920" y="3801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7"/>
          <p:cNvSpPr/>
          <p:nvPr/>
        </p:nvSpPr>
        <p:spPr>
          <a:xfrm>
            <a:off x="4633920" y="67680"/>
            <a:ext cx="180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9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6:11:21Z</dcterms:created>
  <dc:creator>Katya</dc:creator>
  <dc:description/>
  <dc:language>en-US</dc:language>
  <cp:lastModifiedBy>User</cp:lastModifiedBy>
  <dcterms:modified xsi:type="dcterms:W3CDTF">2016-11-28T16:18:18Z</dcterms:modified>
  <cp:revision>1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</Properties>
</file>