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0619-D4B9-4FC1-B234-ED222B4D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671A-BC72-4F46-9373-438DFAB2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34B2-46D0-4FEA-BD52-CE221BCA4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4D97-9EBD-445A-9F09-02E3486A1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5BD5-F929-47D6-A0A8-6F3CE3E8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BB06-20E1-48C5-ACFF-DA89A9B8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86CE-4852-4134-827C-A9B68620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C2A8-20A0-49AF-86B9-DA3B24E6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5A0F-344F-47EA-B922-F970B596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8C56-642D-4746-B8AF-FD14681D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4944-8956-4E6C-B01C-DB1DAE9C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81D6-F7D4-4624-9D28-C2CEBEE8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28D8-E582-4A7F-AE62-D174F5D0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9DDF-18B8-4DCF-B9FC-1D040F12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9241-E48A-4F80-B9A4-1C5F1B83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36C3-F0C1-4678-A5C6-199923AC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6941-8D8E-4E63-9932-DCADA504B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0E2F-942C-4D13-B2ED-592C5363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CCFC-8996-4BE4-9243-92A9C0AF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D468-03A6-4BF2-8CEE-7003C692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C31A-C322-4D5B-B069-AAFDF83C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287D-0DF2-424E-8EA5-22BC4232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2A89-0BC1-470F-8514-494F98C2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D573-5CF1-44B3-A467-6E6186A2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3400-CB62-4F9F-A260-A2E03755434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0382-334F-4DE0-B36C-04E2628772B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ru/url?sa=i&amp;rct=j&amp;q=&amp;esrc=s&amp;source=images&amp;cd=&amp;cad=rja&amp;uact=8&amp;ved=0CAcQjRxqFQoTCN_ogYKY0cgCFWgmcgod0VEIVQ&amp;url=http%3A%2F%2Fmultfilmi.at.ua%2Findex%2Fvorona_i_lisica_kukushka_i_petukh%2F0-553&amp;bvm=bv.105454873,d.bGQ&amp;psig=AFQjCNG-fLXRqY3pIN5W3d10B2kbk9jYig&amp;ust=144543523534154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ru/url?sa=i&amp;rct=j&amp;q=&amp;esrc=s&amp;source=images&amp;cd=&amp;cad=rja&amp;uact=8&amp;ved=0CAcQjRxqFQoTCN3kxaqY0cgCFcn_cgodUvMEmA&amp;url=http%3A%2F%2Fwww.zaiushka.ru%2Fcategory%2F%25D0%25B8%25D0%25B2%25D0%25B0%25D0%25BD-%25D0%25BA%25D1%2580%25D1%258B%25D0%25BB%25D0%25BE%25D0%25B2-%25D0%25B1%25D0%25B0%25D1%2581%25D0%25BD%25D0%25B8%2F&amp;bvm=bv.105454873,d.bGQ&amp;psig=AFQjCNHW0LuW5i6Q34dYTlpGQnQ1nJrYow&amp;ust=1445435287661204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google.ru/url?sa=i&amp;rct=j&amp;q=&amp;esrc=s&amp;source=images&amp;cd=&amp;cad=rja&amp;uact=8&amp;ved=0CAcQjRxqFQoTCMqRxtaY0cgCFaP8cgodW7gOZw&amp;url=http%3A%2F%2Fwww.bolshoyvopros.ru%2Fquestions%2F332866-kakaja-moral-v-basne-krylova-volk-i-jagnenok.html&amp;bvm=bv.105454873,d.bGQ&amp;psig=AFQjCNGoJ5usMLjCXtlOwxUKZWtljNsA_w&amp;ust=1445435382379563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Инновационное обучени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от англ. innovation – нововведение) – новый подход к обучению, включающий в себя личностный подход, фундаментальность образования, творческое начало, профессионализм, использование новейших технолог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риемы инновационных технологий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) ассоциативный ряд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 класте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) групповая дискусс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) синквейн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) эсс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) перепутанные логические цепочк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) дидактическая игр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8) задания поискового характе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773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Ассоциативные ряды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са – человек хитрый, ловкий, изворотливый, готовый использовать любые способы (даже нечестные: лесть, обман) для достижения своих цел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инья – человек некультурный, неблагодарный, необразованный, глупы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гнёнок – невинная жертва, безобидный и слабый человек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10" descr="voron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886200"/>
            <a:ext cx="3514680" cy="2779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%D0%A1%D0%B2%D0%B8%D0%BD%D1%8C%D1%8F-%D0%BF%D0%BE%D0%B4-%D0%B4%D1%83%D0%B1%D0%BE%D0%BC-%D0%B1%D0%B0%D1%81%D0%BD%D1%8F-%D0%BA%D0%B0%D1%80%D1%82%D0%B8%D0%BD%D0%BA%D0%B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3886200"/>
            <a:ext cx="3505320" cy="2752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3a9a550869269383ec257ec9aaf317b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640560" y="3886200"/>
            <a:ext cx="250344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IMG_345(1)"/>
          <p:cNvPicPr/>
          <p:nvPr/>
        </p:nvPicPr>
        <p:blipFill>
          <a:blip r:embed="rId1"/>
          <a:stretch/>
        </p:blipFill>
        <p:spPr>
          <a:xfrm>
            <a:off x="533520" y="380880"/>
            <a:ext cx="81532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img1"/>
          <p:cNvPicPr/>
          <p:nvPr/>
        </p:nvPicPr>
        <p:blipFill>
          <a:blip r:embed="rId1"/>
          <a:stretch/>
        </p:blipFill>
        <p:spPr>
          <a:xfrm>
            <a:off x="533520" y="380880"/>
            <a:ext cx="80769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инквейн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огащает словарный запас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готавливает к краткому пересказу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 формулировать идею (ключевую фразу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зволяет почувствовать себя хоть на мгновение творцо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учается у все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равила написания синквейна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первой строчке записывается одно слово – существительное. Это и есть тема синквей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второй строчке пишутся два прилагательных, раскрывающих тему синквей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третьей строчке записываются три глагола, описывающих действия, относящиеся к теме синквей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четвертой строчке размещается целая фраза, предложение, состоящее из нескольких слов, с помощью которого учащийся характеризует тему в целом, высказывает свое отношение к теме, Таким предложением может быть крылатое выражение, цитата, пословица или составленная самим учащимся фраза в контексте с тем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ятая строчка – это слово-резюме, которое дает новую интерпретацию темы, выражает личное отношение учащегося к тем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асн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ллегоричная, иносказательна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чит, показывает,  сравнива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асня учит мудрости жиз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ора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***************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Л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Хитрая, ковар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Льстит, выманивает, добива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маном получила необходим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лутов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*****************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каз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усская, народ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чит, рассказывает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обро всегда побеждает з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лшебст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никам интересно действовать, активно участвовать в ходе урока, ошибаться и искать причины ошибок, формулировать вопросы, а не только на них отвечать, т.е. им хочется на уроке занимать активную коммуникативную позицию. Задача учителя – помочь ученику увидеть его роль на уроке, перевести учебную деятельность школьника в творческую плоскость. Применение новых технологий на разных этапах урока, помогает сделать его эффективным, результативным, а процесс получения знаний для учащихся – интересным и продуктивны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9T12:09:09Z</dcterms:created>
  <dc:creator>EUROSET</dc:creator>
  <dc:description/>
  <dc:language>en-US</dc:language>
  <cp:lastModifiedBy>admin</cp:lastModifiedBy>
  <dcterms:modified xsi:type="dcterms:W3CDTF">2016-11-28T02:55:0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