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5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0D59-A81F-4A46-ABB5-DC1B4B1549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6D6E-EAD6-4E2E-85DB-52673C14A2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DB5B-85CC-4C50-BCEE-BE0E077EB0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овогодний бархатный ве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6AC4-628B-414D-84CE-B3E3AF0F17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мпозиция "Елочка" из сосновых шиш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B5FC-526E-4877-8290-56CD4C0F43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крашаем новогодний стол: звезды и снеж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44E9-2C58-49C7-97A2-15F702282C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AC09-CCAC-4370-812A-6403590C5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212B-57FD-409D-99FB-84A3555760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… и  там расти должна (ремарка  – авт.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7470-CD2C-4C90-B9CB-42458A717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MVII Editions Atlas Publishing</a:t>
            </a:r>
            <a:br>
              <a:rPr sz="9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CMXCVII Literary Right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nternational, Inc.,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 MMVII L. R. I., Inc. Russian version - 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 Printed in EU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 III. Edito – Service SA – Jeanne Dang 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 (a, c, d) – Frangois Crozat (b) De 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 AGOSTINI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599B-ED04-44A2-B639-C2FC0C7616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MVII Editions Atlas Publishing</a:t>
            </a:r>
            <a:br>
              <a:rPr sz="9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CMXCVII Literary Right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nternational, Inc.,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 MMVII L. R. I., Inc. Russian version - 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 Printed in EU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 III. Edito – Service SA – Jeanne Dang 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 (a, c, d) – Frangois Crozat (b) De 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 AGOSTINI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2E6-ACDC-486A-B661-338D2C99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023-92AC-44D7-AA1A-0FBD01B0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0E4-E3A6-4322-8F33-8A10D8FB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B1C4-467D-433C-80F9-E4B6637E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1E9BD-A5D1-436F-810C-588B911E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76B27-4C8B-46D5-949C-C27474F8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95D6A-A307-4E7B-ABB2-2BF13442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CDA10-DFF7-4A68-8784-BA1FA324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B6ACD-64B0-4196-B671-A61621F4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92707-29BA-4DA3-81A2-1205EB3D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169F1-369B-4BE4-A5AC-449987C1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4E1-CB24-4786-9032-A1843103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67941-B37F-4107-BC25-D73772BF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2FB13-1A58-4E93-8825-BBFA48C0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B1AC3-9212-4AC5-9F76-F13A748D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0680F-F5B9-44AA-8024-7DD1E96C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1A192-BC5E-42FB-9033-7D1F60F4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CCA-235D-4564-8BA8-92B27725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9F4-C528-48EE-8C06-566459CA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BAF2-98A3-408A-92BC-F3BA2AB9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3D3-9A8E-4223-B3AA-744249DB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523-45B4-4F36-85D6-B1822AFD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3AD-0319-4946-BCE3-62D760B3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AB08-F118-4FA2-A9BB-CB72E15C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5835-E231-4345-9ABB-0B1C699FA4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9E4A-7F40-4958-B2B4-4F0AC87844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1523520"/>
            <a:ext cx="6867360" cy="38862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ffcc"/>
                </a:solidFill>
                <a:latin typeface="Arial"/>
              </a:rPr>
              <a:t>Региональный смотр музеев Глуховского ф-ла МБОУ 2-Гавриловской сош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«Мои предки в годы войны»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дготовил учитель ОБЖ Молодцова О.П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7" descr="BArrow"/>
          <p:cNvPicPr/>
          <p:nvPr/>
        </p:nvPicPr>
        <p:blipFill>
          <a:blip r:embed="rId1"/>
          <a:stretch/>
        </p:blipFill>
        <p:spPr>
          <a:xfrm>
            <a:off x="8305920" y="6477120"/>
            <a:ext cx="19044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Война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закончилас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юне 1945 года Петр Семенович вернулся домой. Возвращение бывшего фронтовика стало радостным событием  для родственников. Несмотря на усталость и ранения, которые давали о себе знать, Петр Семенович не мог долго отдыхать. Привыкший к активному труду, он сразу отправился работать в колхо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вращение домо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676520" y="1828440"/>
            <a:ext cx="7162560" cy="44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окончанием войны  в  селе стало больше молодёжи. После работы юноши и девушки собирались  на  посиделки,  пели  песни, танцевали и, конечно, влюблялись… Вот так и  повстречал  свою  любовь. Раиса Павловна ответила  взаимностью,   и в  октябре  1946  года состоялась их свадьб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17520" y="304920"/>
            <a:ext cx="6035400" cy="76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Награды за участие в боя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040" y="1295280"/>
            <a:ext cx="754380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-282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участие в боях, Чертилин Пётр Семёнович, имеет награды: орден Красного Знамени, Орден Красной Звезды, орден Отечественной войны 1-й степени, медали «За победу над Германией в Великой Отечественной войне 1941-1945 гг.», «За отвагу», «За боевые заслуги». Также за активное участие в общественном производстве Петр Семенович был награждён медалью «За доблестный труд». В ознаменовании 100-летия со дня рождения В.И.Ленина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Рисунок 3" descr="http://im8-tub.yandex.net/i?id=138628076&amp;tov=8"/>
          <p:cNvPicPr/>
          <p:nvPr/>
        </p:nvPicPr>
        <p:blipFill>
          <a:blip r:embed="rId1"/>
          <a:stretch/>
        </p:blipFill>
        <p:spPr>
          <a:xfrm>
            <a:off x="3581280" y="5410080"/>
            <a:ext cx="5029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867360" cy="98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амые счастливые мгновения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23520" y="1676160"/>
            <a:ext cx="7386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тр Семенович всегда  считал себя самым счастливым человеком на Земле. И это действительно так. Со своей супругой они вырастили и воспитали десятерых детей: четыре дочери и шесть сынов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ктябре 1996 года Пётр Семёнович и Раиса Павловна отметили свой золотой юбилей – 50-летие совместной жизни. Все эти годы они прошли вместе в любви и согласии, подавая хороший пример своим детям. На торжество съехались самые близкие люди. Только одних внуков было 25 человек и ещё 14 правнуков. Это были самые счастливые мгновения в их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Мы любим и помн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5120" y="1294920"/>
            <a:ext cx="6775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я такой пример, и вдумываясь в рассказы этого человека, каждый может понять все ужасы военных лет, и как будто увидеть, как капли дождя стекают с каски, и радость в глазах бойцов, ведь тогда  ему было 19 лет. Как на фронтах Великой Отечественной войны, так и в тылу, молодёжь того времени проявляла все свои лучшие качества: любовь к Родине и ненависть к врагу, готовность защищать свою землю, не щадя собственной жизни. В памяти родных, друзей, однополчан он остался сильным, мужественным и очень добрым человеком. Мы все гордимся, что у нас жил такой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Рисунок 5" descr="http://im6-tub.yandex.net/i?id=32124817&amp;tov=6"/>
          <p:cNvPicPr/>
          <p:nvPr/>
        </p:nvPicPr>
        <p:blipFill>
          <a:blip r:embed="rId1"/>
          <a:stretch/>
        </p:blipFill>
        <p:spPr>
          <a:xfrm>
            <a:off x="0" y="0"/>
            <a:ext cx="2604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user\Мои документы\моя папка\2010-02-26\Image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етр Семенович самый счастливый человек на земл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C:\Documents and Settings\user\Мои документы\моя папка\2010-02-26\2010-03-05\Image0006.JPG"/>
          <p:cNvPicPr/>
          <p:nvPr/>
        </p:nvPicPr>
        <p:blipFill>
          <a:blip r:embed="rId1"/>
          <a:stretch/>
        </p:blipFill>
        <p:spPr>
          <a:xfrm>
            <a:off x="1143000" y="1371600"/>
            <a:ext cx="762012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 днем Победы. Встреча в школ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33520" y="1249200"/>
            <a:ext cx="861048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стреча с друзьями - однополчан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457200" y="1254240"/>
            <a:ext cx="853452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8673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3600" spc="-1" strike="noStrike">
                <a:solidFill>
                  <a:srgbClr val="00ffcc"/>
                </a:solidFill>
                <a:latin typeface="Arial"/>
              </a:rPr>
              <a:t>Новый раздел в музейной комнате, рассказывающий о жителе с. Глуховка </a:t>
            </a:r>
            <a:br>
              <a:rPr sz="3600"/>
            </a:br>
            <a:r>
              <a:rPr b="0" lang="ru-RU" sz="3600" spc="-1" strike="noStrike">
                <a:solidFill>
                  <a:srgbClr val="00ffcc"/>
                </a:solidFill>
                <a:latin typeface="Arial"/>
              </a:rPr>
              <a:t>Чертилине Петре Семенович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867360" cy="106524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ffcc"/>
                </a:solidFill>
                <a:latin typeface="Arial"/>
              </a:rPr>
              <a:t>Использованная литератур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676520" y="205704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мейный архивный материа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бликации в местной газете «Сельские новости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BArrow"/>
          <p:cNvPicPr/>
          <p:nvPr/>
        </p:nvPicPr>
        <p:blipFill>
          <a:blip r:embed="rId1"/>
          <a:stretch/>
        </p:blipFill>
        <p:spPr>
          <a:xfrm>
            <a:off x="8305920" y="6477120"/>
            <a:ext cx="19044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09320" y="1927080"/>
            <a:ext cx="6775560" cy="4151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86600" cy="7621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олда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их мало осталось – пришедших с войны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подушках атласных – нагрудные зна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 железные звёзды уходят он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чаливо, не так,  как ходили в ата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над ними печальные трубы поют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крывают венки обнажённую глин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друзья боевые их не узнают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дь расстались ещё на дорогах к Берлину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уёмна, остра горечь в сердце моё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 такой – содрогаемся, глохнем, неме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дто город за городом силе сдаё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упаем навеки – вернуть не сумеем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усть рыдает оркестров тяжёлая мед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тераны, отцы, вы – бессмертны по прав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Победе сиять, и Салютам греметь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грядущим певцам петь вам  Вечную Славу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.Куленк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244080"/>
            <a:ext cx="7620120" cy="593640"/>
          </a:xfrm>
          <a:prstGeom prst="rect">
            <a:avLst/>
          </a:prstGeom>
          <a:noFill/>
          <a:ln w="0">
            <a:noFill/>
          </a:ln>
          <a:effectLst>
            <a:outerShdw dist="68321" dir="4081824" blurRad="0" rotWithShape="0">
              <a:srgbClr val="86868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Чертилин Петр Семено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742840" y="114264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  она была – та страшная война, унёсшая миллионы человеческих жизней, знают те, кто на себе испытал все её тяготы и прошёл с честью свой фронтовой путь. Среди них оказался и наш земляк – Чертилин Пётр Семёнович, чьё имя знает любой человек, проживающий в селе Глуховка. К сожалению, герой нашей презентации, ушел из жизни в феврале 2009 года,  это кавалер орденов «Красное Знамя» и «Красная Звезда», проживавшим в с. Глуховка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BD21298_"/>
          <p:cNvPicPr/>
          <p:nvPr/>
        </p:nvPicPr>
        <p:blipFill>
          <a:blip r:embed="rId1"/>
          <a:stretch/>
        </p:blipFill>
        <p:spPr>
          <a:xfrm>
            <a:off x="8839080" y="6553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243828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1880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Дет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114440" y="19051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тр Семенович родился в праздничный день Покрова, 14 октября 1925 года, в простой крестьянской семье. Его родители всю жизнь трудились  не покладая рук. Семья была большая – 8 человек детей. Петр был в ней третьим ребёнком. Когда он подрос, то стал помогать родителям по хозяйству. Как и все дети, он  ходил в школу. Учёба давалась ему легко. Когда  ему исполнилось 13 лет, Петр стал работать в колхозе, чтобы помочь своим родителя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7958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6868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Страшная ве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52480" y="1523880"/>
            <a:ext cx="701064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2 июня 1941 года в село пришла страшная весть о нападении на нашу страну фашистской Германии. Началась массовая мобилизация. Глуховцы уходили на войну. Пётр Семёнович хотел пойти на фронт добровольцем, но ему тогда не было ещё и 17 лет, поэтому попал он в армию только в ноябре 1942 года. Его зачислили в снайперскую школу в городе Ртищево Саратовской области. Через 11 месяцев Петр Семенович был отправлен на фрон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5181480" cy="7621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6868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Боевое крещ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76160" y="1371240"/>
            <a:ext cx="7010280" cy="44197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0099cc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ё первое боевое крещение сержант Чертилин получил в боях под Корсунь–Шевченковским. По его словам, здесь шли ожесточённые бои, противником было сосредоточено много войск и боевой техники. Враг не хотел уступать своих позиций и яростно атаковал, но подразделения нашей армии выдержали этот натиск и разгромили противника. В ходе этого сражения Петр Семенович получил  своё первое ранение – в руку. Ранение оказалось лёгким, и вскоре после выздоровления он вновь продолжил воевать против фашистов  в пехотном полку в составе 2 Украинского и 1 Белорусского фро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Изображение 611"/>
          <p:cNvPicPr/>
          <p:nvPr/>
        </p:nvPicPr>
        <p:blipFill>
          <a:blip r:embed="rId1"/>
          <a:stretch/>
        </p:blipFill>
        <p:spPr>
          <a:xfrm rot="18312600">
            <a:off x="8686440" y="6552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Большое наступ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1295280"/>
            <a:ext cx="6858000" cy="5562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ff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944 году началось большое наступление. Советские войска наносили по противнику мощные удары. Участником тех событий был и Петр Семенович. Однако судьба к нему не особенно благосклонна: В одном из боёв на белорусской земле он получил пулевое ранение в голову. К счастью, пуля прошла по  правой стороне головы возле уха, не повредив мозг. Вылечившись в госпитале, солдат снова становится в строй действующей воинской части и продолжает сражаться с враг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Героический подвиг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71600" y="1980720"/>
            <a:ext cx="7508880" cy="44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чале 1945 года в Польше при форсировании реки Вислы Петр Семенович был ранен в живот. То сражение стало для него самым памятным. Во время тяжёлого боя погиб почти весь полк. В живых остались только трое: сержант Чертилин, командир полка и девушка-санинструктор. Они держали оборону до тех пор, пока не подошло подкрепл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1-28T17:34:10Z</dcterms:modified>
  <cp:revision>1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