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4185-7C9C-4926-886E-3F082CF6BB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8CA1-D4BB-41AE-839F-E2D123E85B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0BB-629B-4E77-BB4C-218C2E80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C74-B49C-43C1-B7C3-F8F90E6A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958-C9AF-45D8-A33E-323986E4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F3B-D89E-4EDA-8744-B34F621C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D757-2CA8-4609-9726-577F9E70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EF85-938C-4DE4-AE42-C0D0F104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2323-256E-40E2-83BA-6BE7E353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0F73-776E-4D5B-AEF3-7F2D4AEA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A9AC-5E85-422D-BF37-C045EAFF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3286-59DF-402A-B2E7-54288A89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EE79-F2C9-4B37-A6E4-729BBE05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556-AEE0-47B5-B419-595AEE28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B79B-E80F-4488-A9C6-51550D03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6100-DC24-4574-9FC2-D4AD1A1C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5DD0-272F-4216-BA2D-8288E0CE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0F8C-07F8-4E24-B8E1-D61385EB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8D70-3D9F-42F7-A767-7CA60F86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5113E-A41C-4057-9E01-DEB3A57F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D7763-6F6F-4FED-B332-B34A218E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82B38-6D30-4692-A731-71E6D0BD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5D29C-285E-4D1D-AE6D-87930F8B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A7B80-DDA6-4428-B098-285C75B3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90B-ED40-48FB-8CAA-759B3FF3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F5700-6FDE-47FD-B001-2D203A5F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7C422-C3C5-4202-B6CE-7A3D58A2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0A2C6-385C-4B26-B59D-EF7D0F85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88DE6-3344-48D3-A669-2152C019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2442A-53D1-469A-A05C-9F93C8D0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5F5AA-933B-4E62-8BA1-ED296CA4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A6CFD-D932-425D-BF50-1AE55369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63DA-E794-4B37-B9A1-2DDAF7B5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06D11-5429-4785-9402-DB37AFBD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0FE1-F0B2-4F80-9C3B-5F4F64B3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CE0-0162-4FA3-BB84-22273F79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7605B-0031-4B33-A83A-3160BD56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997B1-4FAF-4EA9-BF68-4E4CFED5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F220-23ED-4744-9871-06AC789A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8CF83-F777-4678-919F-4F5155B0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DF838-19E1-4DF9-8AC5-6212CF31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4F07B-7919-4B1F-9873-526C9E83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DB624-C83D-4E48-BA6A-19106AA8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D4BAC-13A0-467F-8657-DE6C4805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60D9F-6C8C-40AE-BB1D-4FEA158B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D2E25-4BB3-44DA-B1C0-9209D7E2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6D4-F334-4126-B08D-53566244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933A6A-4243-48E6-B097-9AB4ED55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53248-B509-4FD9-831E-968A38DA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13BC2-FBA7-4A67-A499-61970F44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D8E30-ECB1-4099-84C0-0BED3E1B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DDDF3-716C-4173-B7B4-3C270D77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CD934-420A-478E-83F0-B775E20B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732AA-CF50-47D5-95C5-94775F9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F28C3-208D-482C-BEE4-83880ED5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C0CFF-CBA2-4EBD-A1BA-8354DA71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CDBBC-DAE6-4B06-86E9-A186117D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ABF-D8CC-4F98-AD69-939FC853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C487C-9B3C-4F6E-914B-3E1309FC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76E01-F79C-4278-8808-015084C1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DC6911-29C5-4C22-B69D-773B327B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47CFE-235D-43E2-BA1D-7D567E10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765C0F-8F03-4305-A356-F9A19C0F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16157-15E6-4E9D-9D03-668EFD72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7FE79-553F-4687-AAC2-27288C42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4B40D-A91B-4D13-BE9C-ADCE766A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60387-CDFB-485D-9796-4B811D16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58979-C45D-4C9B-B647-C484E722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C5B-FD64-4867-98C3-CEFB0314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D8C69-7D29-4570-ACBF-E5962486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039B7-77D9-4E1D-A843-8E63406B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5C046-AE87-466F-8990-93B96E7C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BA80F8-B678-4ADB-BEF0-8397A168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41EC7-5E54-4204-85B0-B6D5D8AE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94A6B-951C-410D-8FFB-634E2DC0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35026-D980-4497-A80A-E6043D29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0B41E-AE57-41D2-BA33-9647B30F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F3D50-CABA-4474-B00B-6DBA297D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8CACF-0989-4F9E-8EDD-16567145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56B-A6CB-40BF-B46F-52C7B51E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C6AAD-E22D-436A-B448-1C99797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58EA9-A036-4E64-81A1-945F85DD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BE351-A9CA-4CAD-8428-47510F94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443DD-3E75-472C-8E8B-23E9D5CB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268F9-0702-46DD-8244-5AC3631D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5B7-47EC-440F-8E92-E0F46B1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FFF7-026D-4F3B-B20E-ABD8996F8F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A30E-863E-468E-9714-8AE39778482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9254-163C-4719-B4B2-9C2C8D924CD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1498-87AD-4B0F-859C-17552027911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2930-7819-4BB1-9A7C-5568788722B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7BEF-6669-479F-A113-9C309ED882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2D9B-85D2-4DF1-846E-F3AB7721AD6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7640" y="1989000"/>
            <a:ext cx="6980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ОРГАНИЗАЦИЯ РАБОТЫ </a:t>
            </a:r>
            <a:br>
              <a:rPr sz="27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ОСПИТАТЕЛЯ ГПД ВО ВНЕУРОЧНОЕ ВРЕМЯ</a:t>
            </a:r>
            <a:endParaRPr b="0" lang="en-US" sz="2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42920" y="5013000"/>
            <a:ext cx="38847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оспитатель Вакула Л.А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F:\Для презентации\Фото0353.jpg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44360" y="3357720"/>
            <a:ext cx="4498920" cy="3375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5003280" y="3429000"/>
            <a:ext cx="3024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ыставочная деятельность является важным этапом занятий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ыставки мы проводим в конце каждого занятия с целью обсуждени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 конце года планируем итоговые выставки работ учащихся с участием педагогов, родителей, гостей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2" descr="F:\Для презентации\Фото0354.jpg"/>
          <p:cNvPicPr/>
          <p:nvPr/>
        </p:nvPicPr>
        <p:blipFill>
          <a:blip r:embed="rId2"/>
          <a:stretch/>
        </p:blipFill>
        <p:spPr>
          <a:xfrm>
            <a:off x="4859280" y="117360"/>
            <a:ext cx="4129200" cy="3095640"/>
          </a:xfrm>
          <a:prstGeom prst="rect">
            <a:avLst/>
          </a:prstGeom>
          <a:ln w="0">
            <a:noFill/>
          </a:ln>
        </p:spPr>
      </p:pic>
      <p:sp>
        <p:nvSpPr>
          <p:cNvPr id="415" name="Содержимое 2"/>
          <p:cNvSpPr/>
          <p:nvPr/>
        </p:nvSpPr>
        <p:spPr>
          <a:xfrm>
            <a:off x="539640" y="260280"/>
            <a:ext cx="3672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 результате занятий декоративным творчеством у учащихся развиваются такие  качества личности, как умение замечать красивое, аккуратность, трудолюбие , целеустремлё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F:\Для презентации\Фото0359.jpg"/>
          <p:cNvPicPr/>
          <p:nvPr/>
        </p:nvPicPr>
        <p:blipFill>
          <a:blip r:embed="rId1"/>
          <a:stretch/>
        </p:blipFill>
        <p:spPr>
          <a:xfrm>
            <a:off x="4356000" y="3249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457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КОРО НОВЫЙ ГО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17200" y="1989000"/>
            <a:ext cx="28177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ы очень любим участвовать в конкурсе стенгазет к различным праздникам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Дети зажигаются идеями, как огоньки на ёлке. Дружным коллективом у нас получаются лучшие газеты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ы всегда занимаем призовые мест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6840" y="5640120"/>
            <a:ext cx="764388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учаем  удовольствие от выполненных своими руками рабо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Picture 3" descr="G:\DCIM\101MSDCF\DSC05608.JPG"/>
          <p:cNvPicPr/>
          <p:nvPr/>
        </p:nvPicPr>
        <p:blipFill>
          <a:blip r:embed="rId1"/>
          <a:stretch/>
        </p:blipFill>
        <p:spPr>
          <a:xfrm>
            <a:off x="468360" y="189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F:\Для презентации\DSC05576.JPG"/>
          <p:cNvPicPr/>
          <p:nvPr/>
        </p:nvPicPr>
        <p:blipFill>
          <a:blip r:embed="rId2"/>
          <a:stretch/>
        </p:blipFill>
        <p:spPr>
          <a:xfrm>
            <a:off x="4788000" y="189000"/>
            <a:ext cx="3744720" cy="280980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4" descr="G:\DCIM\101MSDCF\DSC05627.JPG"/>
          <p:cNvPicPr/>
          <p:nvPr/>
        </p:nvPicPr>
        <p:blipFill>
          <a:blip r:embed="rId3"/>
          <a:stretch/>
        </p:blipFill>
        <p:spPr>
          <a:xfrm>
            <a:off x="2987640" y="3213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F:\Для презентации\DSC05491.JPG"/>
          <p:cNvPicPr/>
          <p:nvPr/>
        </p:nvPicPr>
        <p:blipFill>
          <a:blip r:embed="rId1"/>
          <a:stretch/>
        </p:blipFill>
        <p:spPr>
          <a:xfrm>
            <a:off x="144360" y="3357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F:\Для презентации\DSC05430.JPG"/>
          <p:cNvPicPr/>
          <p:nvPr/>
        </p:nvPicPr>
        <p:blipFill>
          <a:blip r:embed="rId2"/>
          <a:stretch/>
        </p:blipFill>
        <p:spPr>
          <a:xfrm>
            <a:off x="3995640" y="144360"/>
            <a:ext cx="4824360" cy="30686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932360" y="3716280"/>
            <a:ext cx="36720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ажно заинтересовать ребенка занятиями после уроков, чтобы школа стала для него вторым домом, что даст возможность превратить внеурочную деятельность в полноценное пространство воспитания и образовани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Содержимое 2"/>
          <p:cNvSpPr/>
          <p:nvPr/>
        </p:nvSpPr>
        <p:spPr>
          <a:xfrm>
            <a:off x="250920" y="476280"/>
            <a:ext cx="3565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Школа после уроков – это мир творчества, проявления и раскрытия  каждым ребёнком своих интересов, своих увлечений, своего «Я». Ведь главное , что ребенок  делает выбор, свободно проявляет свою волю, раскрывается как лич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F:\Для презентации\DSC05483.JPG"/>
          <p:cNvPicPr/>
          <p:nvPr/>
        </p:nvPicPr>
        <p:blipFill>
          <a:blip r:embed="rId1"/>
          <a:stretch/>
        </p:blipFill>
        <p:spPr>
          <a:xfrm>
            <a:off x="1547640" y="2421000"/>
            <a:ext cx="5505480" cy="41036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АЯ ДЕЯТЕЛЬНОСТЬ ЯВЛЯЕТСЯ СОСТАВНОЙ ЧАСТЬЮ УЧЕБНО - ВОСПИТАТЕЛЬНОГО ПРОЦЕССА И ОДНОЙ ИЗ ФОРМ ОРГАНИЗАЦИИ СВОБОДНОГО ВРЕМЕНИ УЧАЩИХСЯ.ПРАВИЛЬНО ОРГАНИЗОВАННАЯ СИСТЕМА ВНЕУРОЧНОЙ ДЕЯТЕЛЬНОСТИ ПРЕДСТАВЛЯЕТ СОБОЙ  ТУ СФЕРУ , В УСЛОВИЯХ КОТОРОЙ МОЖНО МАКСИМАЛЬНО РАЗВИТЬ ИЛИ СФОРМИРОВАТЬ  ПОЗНАВАТЕЛЬНЫЕ ПОТРЕБНОСТИ И СПОСОБНОСТИ КАЖДОГО УЧАЩЕГОСЯ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 advTm="5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F:\Для презентации\DSC05530.JPG"/>
          <p:cNvPicPr/>
          <p:nvPr/>
        </p:nvPicPr>
        <p:blipFill>
          <a:blip r:embed="rId1"/>
          <a:stretch/>
        </p:blipFill>
        <p:spPr>
          <a:xfrm>
            <a:off x="1968480" y="2637000"/>
            <a:ext cx="5483160" cy="4005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394920" y="188640"/>
            <a:ext cx="8218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оспитание детей происходит в любой момент  их деятельности. В процессе формирования личности, воспитание как целостное воздействие на человека играет определенную роль, так как именно посредством его в  сознании  и поведении детей формируются основные социальные, нравственные и культурные ценности которыми руководствуется общество в своей жизнедеятельност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иболее продуктивно это воспитание осуществлять в свободное от обучения врем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 advTm="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920" y="1413000"/>
            <a:ext cx="3889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ПРОШЛОМ ГОДУ, Я РАЗРАБОТАЛА ЦИКЛ ЗАНЯТИЙ ПО «ДЕКОРАТИВНОМУ  ТВОРЧЕСТВУ». СЮДА ВОШЛИ ТАКИЕ ЗАНЯТИЯ КАК: РАБОТА С БУМАГОЙ (ОРИГАМИ, БУМАГОПЛАСТИКА), ПЛАСТИЛИНОГРАФИЯ, ИЗГОТОВЛЕНИЕ МЯГКИХ ИГРУШЕК.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716000" y="3933720"/>
            <a:ext cx="3970440" cy="27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ти с удовольствием работают с пластилином: делают ёлочки, снегирей, забавных зверюшек. Такая работа способствует развитию мелкой моторики. Что очень важно для наших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3" descr="F:\Для презентации\DSC05521.JPG"/>
          <p:cNvPicPr/>
          <p:nvPr/>
        </p:nvPicPr>
        <p:blipFill>
          <a:blip r:embed="rId1"/>
          <a:stretch/>
        </p:blipFill>
        <p:spPr>
          <a:xfrm>
            <a:off x="6284880" y="142920"/>
            <a:ext cx="2679840" cy="3573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:\Для презентации\Фото0366.jpg"/>
          <p:cNvPicPr/>
          <p:nvPr/>
        </p:nvPicPr>
        <p:blipFill>
          <a:blip r:embed="rId2"/>
          <a:stretch/>
        </p:blipFill>
        <p:spPr>
          <a:xfrm>
            <a:off x="166680" y="3573360"/>
            <a:ext cx="418932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716360" y="3789360"/>
            <a:ext cx="34243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«Мы любим шить мягкие игрушки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2" descr="F:\Для презентации\DSC05556.JPG"/>
          <p:cNvPicPr/>
          <p:nvPr/>
        </p:nvPicPr>
        <p:blipFill>
          <a:blip r:embed="rId1"/>
          <a:stretch/>
        </p:blipFill>
        <p:spPr>
          <a:xfrm>
            <a:off x="250920" y="3573360"/>
            <a:ext cx="4033800" cy="3024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F:\Для презентации\DSC05538.JPG"/>
          <p:cNvPicPr/>
          <p:nvPr/>
        </p:nvPicPr>
        <p:blipFill>
          <a:blip r:embed="rId2"/>
          <a:stretch/>
        </p:blipFill>
        <p:spPr>
          <a:xfrm>
            <a:off x="4716360" y="19836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5" descr="F:\Для презентации\DSC05549.JPG"/>
          <p:cNvPicPr/>
          <p:nvPr/>
        </p:nvPicPr>
        <p:blipFill>
          <a:blip r:embed="rId3"/>
          <a:stretch/>
        </p:blipFill>
        <p:spPr>
          <a:xfrm>
            <a:off x="260280" y="260280"/>
            <a:ext cx="402444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3573000"/>
            <a:ext cx="3671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427280" y="836280"/>
            <a:ext cx="433044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Цикл занятий способствует 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развитию разносторонней личности, воспитанию воли и характер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3" descr="F:\Для презентации\Фото0363.jpg"/>
          <p:cNvPicPr/>
          <p:nvPr/>
        </p:nvPicPr>
        <p:blipFill>
          <a:blip r:embed="rId1"/>
          <a:stretch/>
        </p:blipFill>
        <p:spPr>
          <a:xfrm>
            <a:off x="4284720" y="3213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5" descr="G:\DCIM\101MSDCF\DSC05603.JPG"/>
          <p:cNvPicPr/>
          <p:nvPr/>
        </p:nvPicPr>
        <p:blipFill>
          <a:blip r:embed="rId2"/>
          <a:stretch/>
        </p:blipFill>
        <p:spPr>
          <a:xfrm>
            <a:off x="216000" y="115920"/>
            <a:ext cx="4068720" cy="3054240"/>
          </a:xfrm>
          <a:prstGeom prst="rect">
            <a:avLst/>
          </a:prstGeom>
          <a:ln w="0">
            <a:noFill/>
          </a:ln>
        </p:spPr>
      </p:pic>
      <p:sp>
        <p:nvSpPr>
          <p:cNvPr id="404" name="Содержимое 2"/>
          <p:cNvSpPr/>
          <p:nvPr/>
        </p:nvSpPr>
        <p:spPr>
          <a:xfrm>
            <a:off x="179280" y="3645000"/>
            <a:ext cx="3672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созданию творческой атмосферы в группе на основе взаимопонимания коллектив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Занятия включают в себя теоретическую часть и практическую деятельность обучаю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F:\Для презентации\DSC05589.JPG"/>
          <p:cNvPicPr/>
          <p:nvPr/>
        </p:nvPicPr>
        <p:blipFill>
          <a:blip r:embed="rId1"/>
          <a:stretch/>
        </p:blipFill>
        <p:spPr>
          <a:xfrm>
            <a:off x="4164120" y="1159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94920" y="2133360"/>
            <a:ext cx="360036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Дети  на занятиях учатся аккуратности, экономии материала, точности исполнения работ, качественной обработке изделия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собое внимание уделяется технике безопасности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 advTm="5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F:\Для презентации\Фото0323.jpg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03640" y="3645000"/>
            <a:ext cx="3672000" cy="20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МЛАДШИЕ ШКОЛЬНИКИ ПОЛУЧАЮТ ВОЗМОЖНОСТЬ ДЛЯ ФОРМИРОВАНИЯ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-УСТОЙЧИВОГО ПОЗНАВАТЕЛЬНОГО ИНТЕРЕСА К ТВОРЧЕСКОЙ ДЕЯТЕЛЬНОС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-ТВОРЧЕСКОГО ПОТЕНЦИАЛА В СОБСТВЕННОЙ   ДЕЯТЕЛЬНОС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-ОСУЩЕСТВЛЯТЬ САМООПРЕДЕЛЕНИЕ ЛИЧНОСТИ НА ЭСТЕТИЧЕСКОМ  УРОВНЕ.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1280" y="1125360"/>
            <a:ext cx="35668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Наши умелые ручки все сумеют, все смогут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2" descr="F:\Для презентации\DSC05542.JPG"/>
          <p:cNvPicPr/>
          <p:nvPr/>
        </p:nvPicPr>
        <p:blipFill>
          <a:blip r:embed="rId2"/>
          <a:stretch/>
        </p:blipFill>
        <p:spPr>
          <a:xfrm>
            <a:off x="168120" y="3384720"/>
            <a:ext cx="4475160" cy="3357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14:39:34Z</dcterms:created>
  <dc:creator>User</dc:creator>
  <dc:description/>
  <dc:language>en-US</dc:language>
  <cp:lastModifiedBy>Мы</cp:lastModifiedBy>
  <dcterms:modified xsi:type="dcterms:W3CDTF">2016-11-28T03:21:42Z</dcterms:modified>
  <cp:revision>33</cp:revision>
  <dc:subject/>
  <dc:title>Организация работы воспитателя ГПД во внеурочное время</dc:title>
</cp:coreProperties>
</file>