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7E6-4398-4B9B-9FF3-B19E5209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C8B3-A5DC-4887-B50E-0ADA8DCF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687-E4E6-4FDE-9A2B-67887904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B2B-F1A2-49CB-B1FE-C3144866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FC63-C083-45FF-8165-C7D1B7ED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19A4-69B2-42D4-A5A8-B775D634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261D-A15A-4245-8FE2-C9042EC9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4A8D-6BC3-40A1-B1E9-BFFCFDE1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A911-9FBF-42DA-9569-DC714013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1BCE-E33B-4FD3-A45B-22D25766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D9B6-CA27-44B1-8B61-9BB0710C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C75-C1DC-4216-88FD-D1CB99A2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F92A-9DF1-4CCC-B13C-6B46826A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7E94-8220-43B4-A5D6-0CF95150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83F5-793A-45A7-8CAD-166055BD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CFF6-B26C-4500-B41C-8E7FD9CC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B3E9-841F-4A00-B0CF-38EBDA3A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331-D43A-40D0-B2CD-7CA53E85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646-8DAC-4F6A-AE0F-C18A5A40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AC2D-E6E3-4D21-96AD-CE43B788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B41-765A-419D-89DF-6D6A7115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E6CE-A9C4-407E-BE74-C4B6D0B8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F73-AD43-4670-97D5-49CF7E0F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AA8-80F1-4D8A-BD0A-B9313F8E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280E-FE03-4EDC-AC18-DCA7F9F7F3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2bd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2bd97"/>
                </a:gs>
                <a:gs pos="100000">
                  <a:srgbClr val="b4af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6720-66EF-4315-8265-AA27DD3B2B8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0560" y="3789360"/>
            <a:ext cx="6697800" cy="273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Baskerville Old Face"/>
              </a:rPr>
              <a:t>Педагог – организатор</a:t>
            </a:r>
            <a:br>
              <a:rPr sz="4800"/>
            </a:br>
            <a:r>
              <a:rPr b="1" lang="ru-RU" sz="4800" spc="-1" strike="noStrike">
                <a:solidFill>
                  <a:srgbClr val="000066"/>
                </a:solidFill>
                <a:latin typeface="Baskerville Old Face"/>
              </a:rPr>
              <a:t>ОБЖ       </a:t>
            </a:r>
            <a:br>
              <a:rPr sz="4800"/>
            </a:br>
            <a:r>
              <a:rPr b="1" lang="ru-RU" sz="4800" spc="-1" strike="noStrike">
                <a:solidFill>
                  <a:srgbClr val="000066"/>
                </a:solidFill>
                <a:latin typeface="Baskerville Old Face"/>
              </a:rPr>
              <a:t> </a:t>
            </a:r>
            <a:r>
              <a:rPr b="1" lang="ru-RU" sz="4800" spc="-1" strike="noStrike">
                <a:solidFill>
                  <a:srgbClr val="000066"/>
                </a:solidFill>
                <a:latin typeface="Monotype Corsiva"/>
              </a:rPr>
              <a:t>Павловский   </a:t>
            </a:r>
            <a:br>
              <a:rPr sz="4800"/>
            </a:br>
            <a:r>
              <a:rPr b="1" lang="ru-RU" sz="4800" spc="-1" strike="noStrike">
                <a:solidFill>
                  <a:srgbClr val="000066"/>
                </a:solidFill>
                <a:latin typeface="Monotype Corsiva"/>
              </a:rPr>
              <a:t>Игорь  Валерьевич</a:t>
            </a:r>
            <a:endParaRPr b="0" lang="en-US" sz="48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203280" y="333360"/>
            <a:ext cx="4537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Monotype Corsiva"/>
              </a:rPr>
              <a:t>МБОУ  «Охтеурская       общеобразовательная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Monotype Corsiva"/>
              </a:rPr>
              <a:t>средняя   школ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839960" cy="2376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50920" y="4653000"/>
            <a:ext cx="2592360" cy="147960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</p:pic>
      <p:pic>
        <p:nvPicPr>
          <p:cNvPr id="156" name="Picture 6" descr=""/>
          <p:cNvPicPr/>
          <p:nvPr/>
        </p:nvPicPr>
        <p:blipFill>
          <a:blip r:embed="rId3"/>
          <a:stretch/>
        </p:blipFill>
        <p:spPr>
          <a:xfrm>
            <a:off x="7308720" y="404640"/>
            <a:ext cx="1481400" cy="2081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713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Monotype Corsiva"/>
              </a:rPr>
              <a:t>Лицо России для меня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– это </a:t>
            </a:r>
            <a:r>
              <a:rPr b="0" lang="ru-RU" sz="2800" spc="-1" strike="noStrike">
                <a:solidFill>
                  <a:srgbClr val="a50021"/>
                </a:solidFill>
                <a:latin typeface="Monotype Corsiva"/>
              </a:rPr>
              <a:t>лицо ребёнка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. В моей работе на первый план выходит просто человеческое: помочь, увидеть прекрасное, посочувствовать, поговорить. </a:t>
            </a:r>
            <a:r>
              <a:rPr b="0" lang="ru-RU" sz="2800" spc="-1" strike="noStrike">
                <a:solidFill>
                  <a:srgbClr val="a50021"/>
                </a:solidFill>
                <a:latin typeface="Monotype Corsiva"/>
              </a:rPr>
              <a:t>Дети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– самое главное, самая большая ценность на земле. Ради них мы взрослые живём. </a:t>
            </a:r>
            <a:r>
              <a:rPr b="0" lang="ru-RU" sz="2800" spc="-1" strike="noStrike">
                <a:solidFill>
                  <a:srgbClr val="a50021"/>
                </a:solidFill>
                <a:latin typeface="Monotype Corsiva"/>
              </a:rPr>
              <a:t>Большое внимание в своей работе уделяю оказанию и применению Основ Первой Медецинской Помощ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5" descr="DSC00393"/>
          <p:cNvPicPr/>
          <p:nvPr/>
        </p:nvPicPr>
        <p:blipFill>
          <a:blip r:embed="rId1"/>
          <a:stretch/>
        </p:blipFill>
        <p:spPr>
          <a:xfrm>
            <a:off x="762120" y="3624120"/>
            <a:ext cx="3527280" cy="2646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59" name="Picture 7" descr="DSC00399"/>
          <p:cNvPicPr/>
          <p:nvPr/>
        </p:nvPicPr>
        <p:blipFill>
          <a:blip r:embed="rId2"/>
          <a:stretch/>
        </p:blipFill>
        <p:spPr>
          <a:xfrm>
            <a:off x="5072040" y="3571920"/>
            <a:ext cx="3600360" cy="27115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27f4c"/>
                </a:solidFill>
                <a:latin typeface="Arial"/>
              </a:rPr>
              <a:t>Забота о детях должна постоянно находится в центре внимания взрослых.  Защита здоровья и жизни детей в любых чрезвычайных ситуациях – одна из самых главных и важных задач.</a:t>
            </a:r>
            <a:br>
              <a:rPr sz="1600"/>
            </a:br>
            <a:r>
              <a:rPr b="1" lang="ru-RU" sz="1600" spc="-1" strike="noStrike">
                <a:solidFill>
                  <a:srgbClr val="827f4c"/>
                </a:solidFill>
                <a:latin typeface="Arial"/>
              </a:rPr>
              <a:t>   Уже начиная с начальной школы, в самой простой  и игровой форме детей начинают обучать основам оказания первой медицинской помощи.</a:t>
            </a:r>
            <a:endParaRPr b="0" lang="en-US" sz="1600" spc="-1" strike="noStrike">
              <a:solidFill>
                <a:srgbClr val="827f4c"/>
              </a:solidFill>
              <a:latin typeface="Arial"/>
            </a:endParaRPr>
          </a:p>
        </p:txBody>
      </p:sp>
      <p:pic>
        <p:nvPicPr>
          <p:cNvPr id="161" name="Picture 4" descr="C:\Documents and Settings\Игорь\Рабочий стол\фото\сентябрь 174.jpg"/>
          <p:cNvPicPr/>
          <p:nvPr/>
        </p:nvPicPr>
        <p:blipFill>
          <a:blip r:embed="rId1"/>
          <a:stretch/>
        </p:blipFill>
        <p:spPr>
          <a:xfrm>
            <a:off x="571680" y="1643040"/>
            <a:ext cx="2724120" cy="2043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Documents and Settings\Игорь\Рабочий стол\фото\сентябрь 176.jpg"/>
          <p:cNvPicPr/>
          <p:nvPr/>
        </p:nvPicPr>
        <p:blipFill>
          <a:blip r:embed="rId2"/>
          <a:stretch/>
        </p:blipFill>
        <p:spPr>
          <a:xfrm>
            <a:off x="3429000" y="328608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C:\Documents and Settings\Игорь\Рабочий стол\фото\сентябрь 178.jpg"/>
          <p:cNvPicPr/>
          <p:nvPr/>
        </p:nvPicPr>
        <p:blipFill>
          <a:blip r:embed="rId3"/>
          <a:stretch/>
        </p:blipFill>
        <p:spPr>
          <a:xfrm>
            <a:off x="5857920" y="1643040"/>
            <a:ext cx="2714760" cy="2036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C:\Documents and Settings\Игорь\Рабочий стол\фото\сентябрь 203.jpg"/>
          <p:cNvPicPr/>
          <p:nvPr/>
        </p:nvPicPr>
        <p:blipFill>
          <a:blip r:embed="rId4"/>
          <a:stretch/>
        </p:blipFill>
        <p:spPr>
          <a:xfrm>
            <a:off x="571680" y="3929040"/>
            <a:ext cx="2009520" cy="2679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C:\Documents and Settings\Игорь\Рабочий стол\фото\сентябрь 182.jpg"/>
          <p:cNvPicPr/>
          <p:nvPr/>
        </p:nvPicPr>
        <p:blipFill>
          <a:blip r:embed="rId5"/>
          <a:stretch/>
        </p:blipFill>
        <p:spPr>
          <a:xfrm>
            <a:off x="6500880" y="3929040"/>
            <a:ext cx="1928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Arial"/>
              </a:rPr>
              <a:t>Помоги себе сам – помоги другому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pic>
        <p:nvPicPr>
          <p:cNvPr id="167" name="Picture 4" descr="C:\Documents and Settings\Игорь\Рабочий стол\фото\сентябрь 179.jpg"/>
          <p:cNvPicPr/>
          <p:nvPr/>
        </p:nvPicPr>
        <p:blipFill>
          <a:blip r:embed="rId1"/>
          <a:stretch/>
        </p:blipFill>
        <p:spPr>
          <a:xfrm>
            <a:off x="285840" y="1571760"/>
            <a:ext cx="3009960" cy="225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Documents and Settings\Игорь\Рабочий стол\фото\сентябрь 190.jpg"/>
          <p:cNvPicPr/>
          <p:nvPr/>
        </p:nvPicPr>
        <p:blipFill>
          <a:blip r:embed="rId2"/>
          <a:stretch/>
        </p:blipFill>
        <p:spPr>
          <a:xfrm>
            <a:off x="5857920" y="17146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C:\Documents and Settings\Игорь\Рабочий стол\фото\сентябрь 177.jpg"/>
          <p:cNvPicPr/>
          <p:nvPr/>
        </p:nvPicPr>
        <p:blipFill>
          <a:blip r:embed="rId3"/>
          <a:stretch/>
        </p:blipFill>
        <p:spPr>
          <a:xfrm>
            <a:off x="3357720" y="2428920"/>
            <a:ext cx="2403360" cy="3203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C:\Documents and Settings\Игорь\Рабочий стол\фото\сентябрь 178.jpg"/>
          <p:cNvPicPr/>
          <p:nvPr/>
        </p:nvPicPr>
        <p:blipFill>
          <a:blip r:embed="rId4"/>
          <a:stretch/>
        </p:blipFill>
        <p:spPr>
          <a:xfrm>
            <a:off x="5857920" y="43578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C:\Documents and Settings\Игорь\Рабочий стол\фото\сентябрь 172.jpg"/>
          <p:cNvPicPr/>
          <p:nvPr/>
        </p:nvPicPr>
        <p:blipFill>
          <a:blip r:embed="rId5"/>
          <a:stretch/>
        </p:blipFill>
        <p:spPr>
          <a:xfrm>
            <a:off x="285840" y="4429080"/>
            <a:ext cx="30002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Arial"/>
              </a:rPr>
              <a:t>Юные Айболиты</a:t>
            </a:r>
            <a:br>
              <a:rPr sz="4400"/>
            </a:b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pic>
        <p:nvPicPr>
          <p:cNvPr id="173" name="Picture 8" descr="DSC00401"/>
          <p:cNvPicPr/>
          <p:nvPr/>
        </p:nvPicPr>
        <p:blipFill>
          <a:blip r:embed="rId1"/>
          <a:stretch/>
        </p:blipFill>
        <p:spPr>
          <a:xfrm>
            <a:off x="3143160" y="1643040"/>
            <a:ext cx="3186360" cy="23875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74" name="Picture 4" descr="C:\Documents and Settings\Игорь\Рабочий стол\фото\сентябрь 202.jpg"/>
          <p:cNvPicPr/>
          <p:nvPr/>
        </p:nvPicPr>
        <p:blipFill>
          <a:blip r:embed="rId2"/>
          <a:stretch/>
        </p:blipFill>
        <p:spPr>
          <a:xfrm>
            <a:off x="285840" y="2071800"/>
            <a:ext cx="2465280" cy="3286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Documents and Settings\Игорь\Рабочий стол\фото\сентябрь 203.jpg"/>
          <p:cNvPicPr/>
          <p:nvPr/>
        </p:nvPicPr>
        <p:blipFill>
          <a:blip r:embed="rId3"/>
          <a:stretch/>
        </p:blipFill>
        <p:spPr>
          <a:xfrm>
            <a:off x="6465960" y="3071880"/>
            <a:ext cx="249084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Задачи первой медицинской помощи состоит в том, чтобы путём проведения простейших мероприятиях спасти жизнь пострадавшему, уменьшить его страдания, предупредить развитие возможных осложнений, облегчить тяжесть течения травмы, ранения или заболевания. В разделы Основы  Медецинской помощи включены следующие темы: </a:t>
            </a:r>
            <a:br>
              <a:rPr sz="2000"/>
            </a:br>
            <a:endParaRPr b="0" lang="en-US" sz="2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920" y="1857240"/>
            <a:ext cx="8786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«Первая медицинская помощь при ранениях, травмах и несчастных случаях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«Об охране жизни и здоровья дете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«Об охране жизни и здоровья детей в зимний период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«Поражение электрическим током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«Безопасное поведение в школе и на улице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Значение первой медицинской помощ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Виды кровотечений и их классификац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ервая помощь при ранениях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равила наложения повязок на голову и груд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равила наложения на живот и верхние конечност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равила наложения повязок на промежность и нижние конечност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ервая помощь при переломах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ервая помощь при ожогах и обморожениях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ервая помощь при внезапном прекращении сердечной деятельности и дыхания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ервая помощь при поражении О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рактическая работа. Выполнение нормативов по оказанию первой медицинской помощ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00"/>
                </a:solidFill>
                <a:latin typeface="Monotype Corsiva"/>
              </a:rPr>
              <a:t>Спасибо за внимание!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c3300"/>
                </a:solidFill>
                <a:latin typeface="Monotype Corsiva"/>
              </a:rPr>
              <a:t>Предмет 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8000"/>
                </a:solidFill>
                <a:latin typeface="Monotype Corsiva"/>
              </a:rPr>
              <a:t>«Основы безопасности жизнедеятельности»</a:t>
            </a:r>
            <a:r>
              <a:rPr b="1" lang="ru-RU" sz="4700" spc="-1" strike="noStrike">
                <a:solidFill>
                  <a:srgbClr val="cc3300"/>
                </a:solidFill>
                <a:latin typeface="Monotype Corsiva"/>
              </a:rPr>
              <a:t> 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помогает преодолеть любые трудности и выжить в различных жизненных и чрезвычайных ситуация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14:03:31Z</dcterms:created>
  <dc:creator>Секретарь</dc:creator>
  <dc:description/>
  <dc:language>en-US</dc:language>
  <cp:lastModifiedBy>User</cp:lastModifiedBy>
  <dcterms:modified xsi:type="dcterms:W3CDTF">2016-11-29T10:28:13Z</dcterms:modified>
  <cp:revision>121</cp:revision>
  <dc:subject/>
  <dc:title>Слайд 1</dc:title>
</cp:coreProperties>
</file>