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F367-B54A-4717-967E-3CD90B1D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0A9C-1995-4CCC-803D-8A577C33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D49C-B7BC-4404-BF87-214FC813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F6E6-8BEE-40F8-BB7B-54AA3B73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2E1F-726C-4985-8EF2-26E99471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5485-EFD6-4BAB-A858-A7178D42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2EBC-1769-4128-B094-ADE02A67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BF7D-1A1C-41D7-99DE-173706E8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1482-536E-4B22-9B18-4B51FCBA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9A02-1BFD-488A-B192-4DD51EEB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6AA1-341C-431B-9372-957AB550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0A7-A3CB-4D8B-85C6-9930FF59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2BDE-1B7D-4924-97F3-70C053D3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6E1D-2D2F-493A-BB1D-02759643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8864-A166-452A-87EA-3E8B6943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3141-F2E9-4D58-9760-7E5BF29E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EEAB-A500-4BF0-8EBC-C3376006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EA68-7466-4BCB-8C70-774A8FC5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EA1B-CD52-45A8-B546-5B277F36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B040-EB9F-4CC2-9A6D-E9E5699F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2264-44B2-4876-876E-DD65F0B1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A6B4-8C66-4F25-B148-3C8D2993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178A-DF2B-494B-A6B4-3797F58C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FF58-C370-4D1E-890D-44D735DE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BC8D-22A2-46D0-805F-5EC98DC2548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7747-C71E-4412-830E-D1A796C8164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Урок литературного чтения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Согласные звуки [г], [г`]. Буквы Г, г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воздика является одним из излюбленных растений в разных странах с древних времён. Цветками гвоздики люди лечились от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болезней, красные цветки гвоздики держали в доме и брали с собой в дорогу для защиты от несчасти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627280" y="184464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Боров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3771720" cy="3313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757760" y="1828800"/>
            <a:ext cx="3476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476280"/>
            <a:ext cx="68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ухомо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340000" y="1828800"/>
            <a:ext cx="43927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Лисич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995480" y="1828800"/>
            <a:ext cx="5075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авила сбора гриб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Собирай только те грибы, которые хорошо знаешь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Когда ищешь грибы, не разрывай и не раскидывай в сторону листву и мох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Чтобы не повредить грибницу, лучше всего срезать грибы ножиком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Не надо брать старые грибы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Нельзя собирать грибы возле шоссейных дорог и промышленных предприяти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Не порть ядовитые грибы, не срывай и не топчи их, потому что есть среди них лекарство для зверей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00720" y="2276640"/>
            <a:ext cx="403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йди сло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усь                  гусёнок             груш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лаша              гусыня              гал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риша              огурцы              Ге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орох                виноград          гра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город              Галя                 гри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оша                пугало               гряд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2016000" cy="2592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012000" y="3429000"/>
            <a:ext cx="2301840" cy="2664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419640" y="2349360"/>
            <a:ext cx="2160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кая буква лишняя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М, Н, Е, Л, К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У, Г, И, А, О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Сколько звуков обозначено буквой в каждом из этих слов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47640" y="1828800"/>
            <a:ext cx="6834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утята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яблоко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мяч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шляпа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яхта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маяк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авила работы в пар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Работать дружн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Быть внимательными друг к другу, вежливым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Вовремя оказывать помощь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При разговоре смотри на собеседника, тихо говори, называй товарища по имени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Внимательно слушай ответ товарища, потому что потом будешь исправлять, дополнят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3280" y="1773360"/>
            <a:ext cx="4032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«Согласные звуки [г], [г`]. Буквы Г, г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Гриб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5534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1214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усли - древний русский струнный щипковый музыкальный инструмент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3311640" cy="2663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427640" y="2924280"/>
            <a:ext cx="28432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ерб - это эмблема, наследственный отличительный знак, сочетание цветов, предметов и фигур на котором имеет символическое значение. Гербом может владеть либо отдельный человек, либо государств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3097080" cy="3816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084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3T09:02:11Z</dcterms:created>
  <dc:creator>елизавета</dc:creator>
  <dc:description/>
  <dc:language>en-US</dc:language>
  <cp:lastModifiedBy>елизавета</cp:lastModifiedBy>
  <dcterms:modified xsi:type="dcterms:W3CDTF">2014-11-23T23:14:10Z</dcterms:modified>
  <cp:revision>6</cp:revision>
  <dc:subject/>
  <dc:title>Урок литературного чтения</dc:title>
</cp:coreProperties>
</file>