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8D9-AA9C-4737-BA1C-A0AFECC7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23C-1986-452D-8BDF-465A5FF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4F0-8985-41C7-B7A9-60A4086D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448-5C4B-48E8-9ACA-F8FCFB78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8FA-FE6D-49A4-8CB8-1F390889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4633-0BC3-4093-9421-33CFA55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2969-5348-45D2-BB99-6B462BB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960-6263-4684-A3F4-E9EF104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7E5-EDEF-4486-B7AD-9835547F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6A2-8D43-4B41-86D7-B22DCA78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AC3-A739-4107-8F12-3FD6B9AD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F0D-E021-4C1B-AF74-C55CCD6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2CEC-1935-4B19-AE7C-ED67A1F2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585-EAD8-4A6A-81E6-650CCB2B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44A-5074-4B13-9B6A-385ADD5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2996-0350-453B-BF92-C5176B77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8FA-8E6A-4B71-955E-82FC1AFB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66A1-72C9-4152-AB41-B804C333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2DB7-0E80-42AA-8CAC-586EAF6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1B03-7CF7-4028-8513-90AE25CE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F70A-D010-47F5-9B81-D2F4898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938C-4B06-4290-A981-BA3BEFEF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090-B2B7-48B5-A26F-3240036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5EDA2-E847-4515-ACC8-DE206E2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D9CB-0AA3-4EF5-9318-5426E0A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59EF-1ADE-4906-A1E4-3C96D48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23A4-FFF7-4B08-B227-C636945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3DA6-5E26-4FBC-85F8-03ABEA5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28C1-8FB0-4F23-AEF8-784A91DB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42DD-DCD4-4A0A-BE89-FB953F02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D9B1-670E-4CDB-AEE7-4D1DB2D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A584-4BE8-4EED-A5A0-304A5E8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101B-363B-46C3-916B-0E7B09E1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008-F5B8-4AD4-AE0B-4DA2788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A23E-DFFF-44F6-B9CC-89CF305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816F2-7F07-46E1-BB7A-625501E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C54A-0CA4-4175-A99F-87B30F2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456B-5E43-4E96-872E-607078C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4727-E9E8-47ED-AF92-500C33C3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469E-44EE-4FA0-92E3-14381A8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3523-64BF-4387-BB56-FDEBE49C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36AA-D2BF-439E-89EB-80DDF309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4746-F8C9-4402-8DF2-2BDD1BF1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377-1721-4273-B774-C5D71BB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0EA-9124-4670-B6D6-D95FD11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589-C37D-4283-82A9-BFA0B7EC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8A0-6C5D-4EAE-B8CA-56C8375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BD4-A287-4360-8FB2-1F2CE01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193-9F49-4CCF-A51C-D196D05D57F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13F-DCAD-4AB4-B321-8F725DE8335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E0F-648E-4F25-A57E-CECA609E3E2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FD1-9500-45AA-8AB9-770AA58B88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76440" y="585720"/>
            <a:ext cx="7718400" cy="2670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860640"/>
            <a:ext cx="7854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«СШ №3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чмиз З. 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Новые формы оценивания знани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На всех этапах развития школы при усилении демократических начал в ее организации на первое место выдвигается вопрос поиска эффективных путей реализации оценочной функции учител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Из этого вытекают три функции учителя нового типа 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здание условий для включения в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амостоятельную познавательную деятельность учащихся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тимулирование действий обучающихся для достижения поставленной цели, обеспечение эмоциональной поддержки детей в ходе работы, создания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итуации успеха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ля каждого ребенка, поддержание общег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позитивного эмоционального фон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ведение вместе с детьми экспертизы полученного результат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читель в обновляющейся школе должен уметь не тольк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беспечить условия для развития личности, сделать этот процесс отлаженным и управляемым, но и обучить всему этому самих учащихся, сделать их мыслящими субъектами, не теряющимися в любой жизненной ситуаци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 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В этом и состоит главное назначение современного учител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IMG_20150506_114347.jpg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187280" y="1916280"/>
            <a:ext cx="66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агодар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585720" y="542880"/>
            <a:ext cx="17646840" cy="1859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07280" cy="307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Человек, который работает, нуждается в определенном отношении к тому, что он делает, испытывает потребность в том, чтобы результаты его труда оценивались. Больше всего он нуждается в одобрении, в положительной оценке.»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(Липкина А.И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7785000" cy="407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При переходе в режим развивающего обучения изменяются подходы к оцениванию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be7b6"/>
                </a:solidFill>
                <a:latin typeface="Constantia"/>
              </a:rPr>
              <a:t>Необходимо отказаться от поверхностного оценивания школьников в начале каждого урока, в ходе освоения нового материала. Проверочные контрольные срезы знаний учитель проводит по окончанию определенного этапа обучения для определения промежуточных и окончательных результатов школьников. Частота проведения контрольных работ определяется самим учителем в зависимости от возраста детей, уровня их обученности, сложностями и значимости материала. При этом школьный балл, полученный за контрольную работу, учитель и учащиеся должны воспринимать как некий </a:t>
            </a:r>
            <a:r>
              <a:rPr b="1" lang="ru-RU" sz="2200" spc="-1" strike="noStrike">
                <a:solidFill>
                  <a:srgbClr val="dbe7b6"/>
                </a:solidFill>
                <a:latin typeface="Constantia"/>
              </a:rPr>
              <a:t>итог на сегодняшний день, а не как определение всех учебных способностей и уж тем более не как характеристику личности в целом.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endParaRPr b="0" lang="en-US" sz="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468360" y="260280"/>
            <a:ext cx="8280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Различия между оценкой и отм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цен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процесс соотношения реальных результатов с планируемыми ц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тмет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- результат этого процесса, его условно-формальное (знаковое) выражение (выражает субъективное мнение, впечат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ункции отме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контролирующ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на каком уровне усвоен материа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имулир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констатирующ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занимается ученик по этому предмету или н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уведомляющ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какой балл получил ученик за изученный материа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e6d"/>
                </a:solidFill>
                <a:latin typeface="Constantia"/>
              </a:rPr>
              <a:t>кар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се нормально в учебе или пора принимать ме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Constantia"/>
              </a:rPr>
              <a:t>регулир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зволяет добывать положительные отмет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тавляя ребенку отметку  не надо думать, как я буду выглядеть в глазах коллег, администрации, а думать о том , ч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onstantia"/>
              </a:rPr>
              <a:t>ребенок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удет делать сегодня, завтра после этой отметк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зьмется ли  за книгу, станет трудолюбивее или эта отметка не будет стимулировать его к работе , оставит равнодушным. Сегодня, наверное , именно в этом заключается объективность и справедливость отмет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000" y="189000"/>
            <a:ext cx="8218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менения системы оценивания в  школе будут адекватными направлениям модернизации образования, если оценивание будет рассматриваться не </a:t>
            </a:r>
            <a:r>
              <a:rPr b="0" lang="ru-RU" sz="1600" spc="-1" strike="noStrike">
                <a:solidFill>
                  <a:srgbClr val="546422"/>
                </a:solidFill>
                <a:latin typeface="Constantia"/>
              </a:rPr>
              <a:t>только </a:t>
            </a:r>
            <a:r>
              <a:rPr b="1" lang="ru-RU" sz="1600" spc="-1" strike="noStrike" u="sng">
                <a:solidFill>
                  <a:srgbClr val="546422"/>
                </a:solidFill>
                <a:uFillTx/>
                <a:latin typeface="Constantia"/>
              </a:rPr>
              <a:t>как средство контроля достижения учебных результатов, но и как одно из педагогических средств реализации целей образования </a:t>
            </a:r>
            <a:r>
              <a:rPr b="0" lang="ru-RU" sz="1600" spc="-1" strike="noStrike">
                <a:solidFill>
                  <a:srgbClr val="546422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оме этого если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процессы итогового оценивания и выставления текущих отметок будут разделены, что поможет искоренению 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«процентомании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при текущем контроле будут созданы комфортные для ученика, преодолен его страх перед негативной отметкой, что позитивно скажется на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мотивации, самоуважении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, ответственности выпускни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при текущем контроле будет поощряться прежде всего продвижение в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становлении компетенции личности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учащимся будут заранее предъявляться «открытые» требования к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оцениванию выполняемых ими заданий и критерии оценивания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содержание обучения будут включе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методы самоконтроля 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самооценивания учеником своих результатов по критериям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ыработанным совместно с учителем и остальными учащимис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процедуры текущей и итоговой аттестац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будут адекватными технологии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Constantia"/>
              </a:rPr>
              <a:t> экзамена, аттестации и сертификации знаний выпускника начальной школы</a:t>
            </a: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1" descr="20160328_122907.jpg"/>
          <p:cNvPicPr/>
          <p:nvPr/>
        </p:nvPicPr>
        <p:blipFill>
          <a:blip r:embed="rId1"/>
          <a:stretch/>
        </p:blipFill>
        <p:spPr>
          <a:xfrm>
            <a:off x="324000" y="692280"/>
            <a:ext cx="4464000" cy="6165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5219640" y="836640"/>
            <a:ext cx="34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очные работы, оценив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иск новых подходов к оцениванию образовательных достижений учащихся связан с переходом от принципа оценивания по соответствию некоторой норме к</a:t>
            </a:r>
            <a:r>
              <a:rPr b="0" lang="ru-RU" sz="27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ринципу оценивания образованности ребенка 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Constantia"/>
              </a:rPr>
              <a:t>по результатам его собственного продвижения, с необходимостью оценки личностных достижений каждого учащегося, развитием рефлексивных умений и самооценки уча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ртфолио как альтернативная система оценивания учащихся позволяет решить ряд задач в построении личностно-ориентированного образовательного процесса:</a:t>
            </a:r>
            <a:r>
              <a:rPr b="0" lang="ru-RU" sz="27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ru-RU" sz="2200" spc="-1" strike="noStrike" u="sng">
                <a:solidFill>
                  <a:srgbClr val="0d0d0d"/>
                </a:solidFill>
                <a:uFillTx/>
                <a:latin typeface="Constantia"/>
              </a:rPr>
              <a:t>фиксирует изменения и рост за определенный период времени, поддерживает учебные цели, поощряет результаты учащихся, преподавателей и родителей раскрывает весь спектр выполняемых работ, обеспечивает непрерывность процесса обучения от года к году, показывает диапазон навыков и ум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Новые формы оценивания знани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На всех этапах развития школы при усилении демократических начал в ее организации на первое место выдвигается вопрос поиска эффективных путей реализации оценочной функции учител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Из этого вытекают три функции учителя нового типа 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здание условий для включения в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амостоятельную познавательную деятельность учащихся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тимулирование действий обучающихся для достижения поставленной цели, обеспечение эмоциональной поддержки детей в ходе работы, создания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итуации успеха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ля каждого ребенка, поддержание общег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позитивного эмоционального фон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оведение вместе с детьми экспертизы полученного результата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читель в обновляющейся школе должен уметь не тольк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беспечить условия для развития личности, сделать этот процесс отлаженным и управляемым, но и обучить всему этому самих учащихся, сделать их мыслящими субъектами, не теряющимися в любой жизненной ситуаци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    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В этом и состоит главное назначение современного учителя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1T18:50:06Z</dcterms:created>
  <dc:creator>Дуся</dc:creator>
  <dc:description/>
  <dc:language>en-US</dc:language>
  <cp:lastModifiedBy>admin01</cp:lastModifiedBy>
  <dcterms:modified xsi:type="dcterms:W3CDTF">2016-11-28T13:14:33Z</dcterms:modified>
  <cp:revision>43</cp:revision>
  <dc:subject/>
  <dc:title>Слайд 1</dc:title>
</cp:coreProperties>
</file>