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4D7-5E34-4A09-9F0B-1889E5E9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AA5-95AB-4AA2-B0BD-27391FAD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E31-31D8-4FA9-8D64-DCD68ACE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6DF-5925-4DB5-A6D3-BAF43533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FA95-7512-4264-AA94-798C95E9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E1E8-017A-4CD7-9170-A78B0817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5E0D-3693-4736-A24C-0E2729ED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32F1-9D4E-476C-9591-BE82F36E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ECDF-2101-4D72-971E-67A0154E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64CA-EE52-4F83-A92F-43AD9BC7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2AF6-6A6F-4EA0-9506-BD025302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35D-0021-40DE-B85F-D08758BE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3D15-8B70-4BB9-971D-35DCEAF1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B34C-4174-4B62-AAE3-49775BF9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AA81-C24A-4942-A88D-12AA54E6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AE58-DB92-4788-9BFC-0A25E4C4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706E-7182-458B-9B74-ED505CCC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22C-2969-4D3C-8724-9608B187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37B-DEC6-401B-9ECA-503725DE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95E-437D-4B49-A2D1-8995530A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9F89-A637-4CF6-813B-B7FEF300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53B-5E26-4904-87EC-5DB9DB50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3508-2705-4294-9824-2157E9DB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6DD0-CB24-41F1-91F8-74510BF5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575A-13B5-430D-B11D-2DBB698E0D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AE3E-2577-4DE7-ADD1-A0CBD91B0A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4920" y="1143000"/>
            <a:ext cx="7057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Пале мутын ышталтмыж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шо классыште марий йылме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Шыжан коло икымше кечыже.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ласс паша.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але мутын ышталтмыже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2133720"/>
            <a:ext cx="7128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аже туныкта гын, йоча пашалан чулым лиеш, ачаже гын – уш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ан шумжо кече дечат шокшыр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а – туняште эн поро, тыматле да яндар чон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69228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ложенийла гыч гыч пале мут-влакым возен лукташ, состав дене лончыла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549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ле мут-влакым кум тушкалан шеледы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700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шкы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2852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328464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вер-че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20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162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ыж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270828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йды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19162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гыдо-уж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537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0720" y="306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кма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32720" y="386064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йошкар-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80000" y="4005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лган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3573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р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3933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4797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ве-ле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8000" y="49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кг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4653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жыл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551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лз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56610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ддыме-йолды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5373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3645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484280"/>
            <a:ext cx="2519280" cy="4608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 rot="5400000">
            <a:off x="-576720" y="3105000"/>
            <a:ext cx="4248360" cy="12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Чылан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9280" y="1484280"/>
            <a:ext cx="2376360" cy="4608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 rot="5400000">
            <a:off x="2591280" y="3320280"/>
            <a:ext cx="345600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улы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1484280"/>
            <a:ext cx="3313080" cy="4608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 rot="5400000">
            <a:off x="5255640" y="2817720"/>
            <a:ext cx="4392720" cy="187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молодец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31214E-007 L -0.49219 0.09249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84971E-006 L -0.48038 -0.07514 E">
                                      <p:cBhvr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652 0.04185 L -0.18108 -0.00185 E">
                                      <p:cBhvr>
                                        <p:cTn id="1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65896E-006 L -0.56702 0.00879 E">
                                      <p:cBhvr>
                                        <p:cTn id="1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5723E-006 L 0.07083 -0.14867 E">
                                      <p:cBhvr>
                                        <p:cTn id="1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04624E-007 L 0.00018 -0.05433 E">
                                      <p:cBhvr>
                                        <p:cTn id="1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79191E-006 L -0.17118 -0.07352 E">
                                      <p:cBhvr>
                                        <p:cTn id="1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4798E-006 L 0.23629 -0.12323 E">
                                      <p:cBhvr>
                                        <p:cTn id="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5.78035E-008 L -0.16545 -0.2911 E">
                                      <p:cBhvr>
                                        <p:cTn id="22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4624E-006 L -0.44687 -0.16786 E">
                                      <p:cBhvr>
                                        <p:cTn id="24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21387E-006 L 0.03941 -0.07514 E">
                                      <p:cBhvr>
                                        <p:cTn id="2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-0.01503 L -0.0118 -0.34798 E">
                                      <p:cBhvr>
                                        <p:cTn id="2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06358E-006 L 0.32291 0.00856 E">
                                      <p:cBhvr>
                                        <p:cTn id="3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12139E-006 L 0.64583 -0.00185 E">
                                      <p:cBhvr>
                                        <p:cTn id="32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69942E-006 L 0.43698 0.01919 E">
                                      <p:cBhvr>
                                        <p:cTn id="3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46821E-006 L 0.5198 -0.01225 E">
                                      <p:cBhvr>
                                        <p:cTn id="3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58382E-006 L 0.38576 0.04 E">
                                      <p:cBhvr>
                                        <p:cTn id="3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0T17:04:10Z</dcterms:created>
  <dc:creator>1</dc:creator>
  <dc:description/>
  <dc:language>en-US</dc:language>
  <cp:lastModifiedBy>1</cp:lastModifiedBy>
  <dcterms:modified xsi:type="dcterms:W3CDTF">2016-10-20T19:55:52Z</dcterms:modified>
  <cp:revision>2</cp:revision>
  <dc:subject/>
  <dc:title>Пале мутын ышталтмыже</dc:title>
</cp:coreProperties>
</file>