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1C7-A55C-4174-A1C4-A9DCE41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C8D-163C-47A5-AE39-20943C42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36C-903F-482D-A7DB-F6D448AD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EFF-F3BA-40F7-8831-C0C74EEC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634-1CD6-4945-84B9-71DC3605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0D40-CB86-496A-A070-491D02F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576C-7825-4A9E-AEE6-42D43A5D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8329-2298-49D7-97D8-8BA83B7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005C-F4A4-4A15-969A-879206F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A9BC-4C5B-414F-A14C-8F9311F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037-5D6E-4FFD-91C3-99F92B7E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6CB-6D5F-4EF0-9ABB-4F58A44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53E7-25F8-4916-9999-B6A01FB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041-7E54-4E02-B777-1791BD9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088B-2FCB-4F07-8076-E78E74F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D325-D998-4315-BE79-6E37223E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517-2DB8-4730-94F6-3AB5EF6F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55A-18A7-49B8-8BEE-8D7D4448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A63-6FDF-471F-A417-B489E4C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EF6-19AD-4A1E-AACF-ACA6ED5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B0C-F207-4FAE-9C05-F5F18D71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217-0473-4EC2-9780-C601C03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225-0C17-47DD-8918-192D960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62F-ACA9-4BC9-9E1E-88CAF2C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9CB-9BCD-4468-8C69-2EDEBEDCCD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2D92-4ED8-4D2B-B16D-94307B0A0D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1143000"/>
            <a:ext cx="7057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але мутын ышталтмыж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шо классыште марий йылме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Шыжан коло икымше кечыже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ласс паша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ле мутын ышталтмыже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133720"/>
            <a:ext cx="7128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же туныкта гын, йоча пашалан чулым лиеш, ачаже гын – уш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н шумжо кече дечат шокшыр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 – туняште эн поро, тыматле да яндар чон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692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ложенийла гыч гыч пале мут-влакым возен лукташ, состав дене лончыл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е мут-влакым кум тушкалан шеледы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00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ы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2852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28464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вер-ч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162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ыж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7082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йды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ыдо-у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37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м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386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ошкар-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00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лг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р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7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ве-л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65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жыл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51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лз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661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ддыме-йолды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5373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64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484280"/>
            <a:ext cx="251928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-576720" y="3105000"/>
            <a:ext cx="42483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Чылан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1484280"/>
            <a:ext cx="237636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2591280" y="3320280"/>
            <a:ext cx="3456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лы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1484280"/>
            <a:ext cx="331308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5255640" y="281772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214E-007 L -0.49219 0.09249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4971E-006 L -0.48038 -0.07514 E">
                                      <p:cBhvr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2 0.04185 L -0.18108 -0.00185 E">
                                      <p:cBhvr>
                                        <p:cTn id="1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5896E-006 L -0.56702 0.00879 E">
                                      <p:cBhvr>
                                        <p:cTn id="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5723E-006 L 0.07083 -0.14867 E">
                                      <p:cBhvr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4624E-007 L 0.00018 -0.05433 E">
                                      <p:cBhvr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9191E-006 L -0.17118 -0.07352 E">
                                      <p:cBhvr>
                                        <p:cTn id="1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4798E-006 L 0.23629 -0.1232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78035E-008 L -0.16545 -0.2911 E">
                                      <p:cBhvr>
                                        <p:cTn id="2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4624E-006 L -0.44687 -0.16786 E">
                                      <p:cBhvr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387E-006 L 0.03941 -0.07514 E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503 L -0.0118 -0.34798 E">
                                      <p:cBhvr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6358E-006 L 0.32291 0.00856 E">
                                      <p:cBhvr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12139E-006 L 0.64583 -0.00185 E">
                                      <p:cBhvr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69942E-006 L 0.43698 0.01919 E">
                                      <p:cBhvr>
                                        <p:cTn id="3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6 L 0.5198 -0.01225 E">
                                      <p:cBhvr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382E-006 L 0.38576 0.04 E">
                                      <p:cBhvr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17:04:10Z</dcterms:created>
  <dc:creator>1</dc:creator>
  <dc:description/>
  <dc:language>en-US</dc:language>
  <cp:lastModifiedBy>1</cp:lastModifiedBy>
  <dcterms:modified xsi:type="dcterms:W3CDTF">2016-10-20T19:55:52Z</dcterms:modified>
  <cp:revision>2</cp:revision>
  <dc:subject/>
  <dc:title>Пале мутын ышталтмыже</dc:title>
</cp:coreProperties>
</file>