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3A2-A51D-420D-9D45-64155AA8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3B2-9EE2-4301-9027-3E3B770D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D961F-EA83-4422-86F3-30310978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9351A-0C4E-4C5A-B461-7B1B178E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F0A55-FB4C-4901-9A71-CE2573DE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A88C7-6D28-4CFD-B09B-5C888F5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CF4C8-0C0D-448F-86D7-4DDA429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85D99-0096-49A2-B822-B8E1C39E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F2354-C85E-4598-8386-0EC13E8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E49BD-740A-48A9-B13A-3D5F9C16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05887-C4D5-4E3D-9B00-7C30F187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D9A90-AFD5-4471-8AD5-7F8DE1E4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120-EC9A-449F-A0C5-BFB91B51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51A5C-6E2F-484B-9120-2E71E738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C95BC-87B7-4AB0-B7A9-F7A46219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D171B-D12E-4351-8331-81F2DE86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BCC46-2025-42FD-8437-37F5B7D8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6DACF-0DEB-4E0D-BD15-459FE82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348DF-C8D9-45BE-9CCB-08F9017A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4576C-CE1F-4A7B-8002-1FA3B61B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0CCD3-B2F1-4C0A-9D34-52555B7C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45FE8-F003-4782-8372-F852B6A0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70AFA-C834-4419-8426-F2865156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262-4659-47AC-B9AC-67B73927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411FC-9616-4275-AE45-E74BBE3C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B2C75-0826-45A2-9DE6-9A7461C1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E49F5-6BDB-4BFB-AACE-C1605DF5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DDB57-1B31-4976-8495-FE6EB88D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2359E-61FA-40BE-9177-5D7A94FA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27E05-CE18-45E8-A766-D12082AC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6A160-1CB7-4F83-8A13-9EFD5EFB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1D99F-8A17-4D83-8899-DBD4868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94BE4-FCD5-482A-9E79-6A7F818F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20B47-D7ED-48FB-94F9-9E340FA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238F-3C8A-4D3B-B225-657093D7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38C3B-6A4B-477F-9F1A-5E5078E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1E8A6-9987-4BE9-B04C-4FF78835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67919-920B-4CE4-B1DF-1E9055A1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11C5F-8D5C-4707-8235-013F4BD6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7497E-ACAE-4C43-8CAF-48142D1B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4A183-6BDF-49A8-9B56-39926291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73A1F-B1D9-4962-8F14-1A5D09E5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C2341-7AEB-4C49-8956-01696253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3EA00-9DA7-45DA-AB98-9AE521C9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3F614-0CE7-419A-B4E3-8986BA2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7253-2D38-493F-B1E6-9AFD719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5A7CE-C69C-42BC-9647-89BCADA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10C85-F080-4156-924A-95806F62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5B6CC-3FC3-416F-8452-02949016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35971-BAB2-449F-9321-2078938D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51362-3764-440C-BA69-E52FE462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197AD-02AA-4000-8875-1BBB019E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9E66C-BD81-4474-9C9E-7A1634FB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6668D-29E1-4A63-8C28-C5D1F79E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EB46C-C95B-4149-9F5E-F453B5A5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4C4EC-4E02-482B-81DC-DB64AA8E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993-F52D-42A2-9A8B-3090A3DF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15534-B48B-41B9-9F90-6FABC230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9337D-B84B-456B-A8F5-E1B24269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61876-EA14-4EFB-A459-4DD268D3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4A398-D2FB-4B79-9FD9-4122F0C7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39987-BD17-4F45-8A0C-1DD6ACE1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C1045-2162-403E-A165-58F7EE93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B1FBD-5681-4113-9E73-F92413B9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82E2-0D39-4EFE-BE68-76BA94BA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12D1-5154-46EA-A0A8-B70A2A99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0491-C492-47C5-B3B7-37CC8819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8AFB-9EC9-4101-861C-944B36D4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E14-5C7B-4276-8E93-7622610A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4186-3CF9-4566-BB43-31B7E7D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38AE-F790-4245-8B4A-568C3A31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179C-F115-4AAA-BF0E-CEF6E732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2BB4-05EC-4809-A741-477A50E9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E4CD-3899-4604-B03F-92571761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E6E4-69FB-45D4-8B82-73765448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41EC-D63E-4531-ACFD-A0AD4667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C913-5979-474E-BB07-AA22A2EE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7CE4-4F64-4622-BA61-D3C37F68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4796-E087-4DD1-9291-E70592AD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7E3-A62B-4528-9692-40450D2A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43DA-C71C-4AE7-85FF-35369097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930D-EFD4-42F9-987B-FF21F68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1C30-C5B9-4EAB-8F2F-C99ADD6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F833-169F-49AF-B55D-D75C74D5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54BE-3A85-4CFA-BC20-00E74CB6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FACC-A1A2-4937-A770-ECE172EB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F720-87ED-4E0F-B26B-A7AB33B8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AF55-0396-4BDE-ADEB-3A3A4E1D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EB81-AE6B-4CBA-81BD-A2A08DE0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4D34-5EF5-4647-B592-855F2809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D82-B8EC-4D3E-A39B-05330BFC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DEAF-18BA-4AF7-B108-19A892AD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82815-2DA6-4A86-A3DE-02F95830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2F354-F4D0-4312-88EA-F5A63A8A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A7986-7743-4DA2-9120-67B475B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906E0-2625-467E-9E57-800F3661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E617-6D48-403A-86B1-55F23FC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8E569-1B4E-44C6-8B1B-EA490BC9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4D2C-D0BF-4D6D-8B57-61DD6572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F876E-F43C-4F23-BEFF-A72121BC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4CB1-9D0F-46E7-B3DA-FC7E27BF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575-10F2-4B02-A377-0E8E6184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9F1B-AAA4-497B-9A59-162E264A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26D7B-CCBF-4ADF-9970-6CDD075F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3CFA-A89F-4C3E-A87A-AACE5BF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39DD6-E2D7-4BDA-98AE-DB7CF4B6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FA0FE-DB33-4287-919B-00D0AEC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B5BD5-DA08-4639-B5B9-892AA83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9F0D-75A0-43D8-8CE7-D287436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B26C7-B3E3-4BC7-9492-26110C6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D7E1A-2E93-4F86-8A94-83DDB337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E2E0-35E6-4DF0-9723-53619AF5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720-2CFF-4A8F-B9AB-78992638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1ADFA-662A-4D7A-886C-8372655F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B376-4A07-4489-B5A5-5D72FFDC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87FD6-22AC-4CBB-BCA3-3A207A11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F06C-C07D-4BF5-B521-7CD96F3F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4B2A1-32C7-4C93-9473-35E0C5D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CC27-0893-4623-BE43-1C86C582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BA11A-F013-4E8D-886B-2BDA1A85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9B30F-5F9A-47B4-83F8-4D1B79B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75E4-9AD1-437F-A34D-7933B159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CE7E7-503E-4294-898E-80503A61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588-7721-4D47-AA02-EB6416E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7A19-CEEA-434E-90D6-43D9DEC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2C68D-1971-4018-A4F2-13C276A8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4731E-4F3D-49F7-BA1D-E5343CDB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F536E-678E-4E6C-8D3B-741F2A52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2DD44-DA08-47B0-ABD9-AD5A24E8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4FACF-042E-4BE0-BBF4-913A2B71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D4A0D-69A3-4554-9C01-520A2038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DA3A5-3B61-4E70-88F6-D517BC62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09B8-5ED8-48B9-A6EC-64517C04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5BC1-B2D7-4614-B287-0F680DA5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293-0E08-40D4-BDF4-C386B931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78236-C164-4266-A3FE-D664CF3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8C1D7-3F2D-461C-925D-31728719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9AFBA-C120-40BB-BB61-36C84441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6DD3-D029-4AFE-B891-B8556B6D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3E161-F3B7-4C1D-A120-E9E1C0E8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6807C-A359-4A6D-92B6-6FAB2854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8794C-749B-47F5-B063-F52E9AC1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89491-C583-4784-A062-51E3E494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BC449-A2D4-428E-8CC0-A4FA1A0D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541AD-24F3-47AC-A02F-F53CE9C7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BD6-03C3-4DE1-A425-61286E4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E4B31-4227-41FB-8197-1711EF20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2AFD0-55AC-4C12-93D2-01A045B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D2615-2D20-4565-AC04-EA975EB7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4BFCB-C40B-4468-AF36-41E33AFB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F0567-BDDD-4B53-A0A6-7F1FB87C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2A129-D770-448F-8D40-FD16AFCC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8778F-266E-4905-8983-E9EF9226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099D3-8521-40AA-AD5E-F033576E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E3EA4-421A-46D2-98BB-30386FD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C5D0A-117D-4ECA-9FC9-D1CAA734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1FFA-A3F9-4E11-AF65-010A8D86AB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97B2-11B7-4833-BFF5-88A5463DEA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354-1A67-4891-BEEE-B9510B4FDE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D712-0E10-468A-9CCF-B2A873CF37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8840-AEFC-457D-ABF7-C94CFFF44F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0AFC-7337-444D-828D-27B020E6C4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0143-54F8-4AFD-8D59-711436ACDE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D9B7-B2F6-4C5C-830E-9EBF0D96DD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D7B0-5A11-4587-A607-D9F4C4B497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A92E-18BF-4FE5-92A0-C017129C14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C94D-5650-4AB8-807D-5CDD088BA0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01F0-9288-40F4-9FE6-99E51CCD86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06D-922C-4761-804C-BE81F1A6C8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300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авила поведения в общественных местах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ый ч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857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Детям-пассажирам запрещаетс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лекать водителя разговорами во время движения транспорта и стучать в стекло каби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вать двери транспорта во время его дви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вывать голову и руки из ок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ривлекать излишнего внимания, портить общественного  имуще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ниги нужно беречь</a:t>
            </a:r>
            <a:br>
              <a:rPr sz="4600"/>
            </a:br>
            <a:endParaRPr b="0" lang="en-US" sz="4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21384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книги перегиб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загибать книжные стран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закладывать в книги карандаши и ручки. А как называется вещь, которой необходимо пользоваться при чтении кни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писать и рисовать в книг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читать книги во время 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авила поведения в библиотеке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56840" y="114264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йдя в библиотеку нужно поздороватьс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иблиотеке вести себя тихо, не кричать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выборе книги не хватать все книги подряд, а выбрать по автору или разделу, или назвать библиотекарю название книги или автор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нигами обращаться аккуратно, не вырывать страничк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ив книгу, нужно сказать спасибо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амое главное вовремя возвращать книгу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шелева, Б. В. Поговорим о воспитанности. – М.: Просвещение, 19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скин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. М. От игры  к  знаниям. – М.:  Просвещение,  19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 Михалков «Шел трамвай десятый номер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инки из книги Юлии Соколовой «Правила поведения для малыше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Общественные места</a:t>
            </a:r>
            <a:endParaRPr b="0" lang="en-US" sz="5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500040" y="157176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блиотека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щение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орт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Чтение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ти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а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Проезд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1" name="Прямая со стрелкой 4"/>
          <p:cNvCxnSpPr/>
          <p:nvPr/>
        </p:nvCxnSpPr>
        <p:spPr>
          <a:xfrm>
            <a:off x="3714840" y="2143080"/>
            <a:ext cx="2071800" cy="57240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82" name="Прямая со стрелкой 6"/>
          <p:cNvCxnSpPr/>
          <p:nvPr/>
        </p:nvCxnSpPr>
        <p:spPr>
          <a:xfrm>
            <a:off x="3285720" y="2928960"/>
            <a:ext cx="2715480" cy="16437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83" name="Прямая со стрелкой 8"/>
          <p:cNvCxnSpPr/>
          <p:nvPr/>
        </p:nvCxnSpPr>
        <p:spPr>
          <a:xfrm flipV="1">
            <a:off x="2071440" y="2071080"/>
            <a:ext cx="3858120" cy="18579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84" name="Прямая со стрелкой 10"/>
          <p:cNvCxnSpPr/>
          <p:nvPr/>
        </p:nvCxnSpPr>
        <p:spPr>
          <a:xfrm flipV="1">
            <a:off x="2356920" y="3857040"/>
            <a:ext cx="3644280" cy="9291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Picture 2" descr="F:\Documents and Settings\Зазуся\Рабочий стол\книги\100577а.jpg"/>
          <p:cNvPicPr/>
          <p:nvPr/>
        </p:nvPicPr>
        <p:blipFill>
          <a:blip r:embed="rId1"/>
          <a:stretch/>
        </p:blipFill>
        <p:spPr>
          <a:xfrm>
            <a:off x="1285920" y="1071720"/>
            <a:ext cx="7238880" cy="5357520"/>
          </a:xfrm>
          <a:prstGeom prst="rect">
            <a:avLst/>
          </a:prstGeom>
          <a:ln w="0">
            <a:noFill/>
          </a:ln>
        </p:spPr>
      </p:pic>
      <p:sp>
        <p:nvSpPr>
          <p:cNvPr id="1386" name="Text Box 3"/>
          <p:cNvSpPr/>
          <p:nvPr/>
        </p:nvSpPr>
        <p:spPr>
          <a:xfrm>
            <a:off x="571680" y="714240"/>
            <a:ext cx="8286480" cy="7340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ужно вести себя в гостях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Picture 2" descr="F:\Documents and Settings\Зазуся\Рабочий стол\книги\100577б.jpg"/>
          <p:cNvPicPr/>
          <p:nvPr/>
        </p:nvPicPr>
        <p:blipFill>
          <a:blip r:embed="rId1"/>
          <a:stretch/>
        </p:blipFill>
        <p:spPr>
          <a:xfrm>
            <a:off x="1143000" y="428760"/>
            <a:ext cx="7086600" cy="5779800"/>
          </a:xfrm>
          <a:prstGeom prst="rect">
            <a:avLst/>
          </a:prstGeom>
          <a:ln w="0">
            <a:noFill/>
          </a:ln>
        </p:spPr>
      </p:pic>
      <p:sp>
        <p:nvSpPr>
          <p:cNvPr id="1388" name="Text Box 3"/>
          <p:cNvSpPr/>
          <p:nvPr/>
        </p:nvSpPr>
        <p:spPr>
          <a:xfrm>
            <a:off x="714240" y="0"/>
            <a:ext cx="8143920" cy="11912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 ли гостям, на которых хозяин не обращает вниман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Picture 2" descr="F:\Documents and Settings\Зазуся\Рабочий стол\книги\100564а.jpg"/>
          <p:cNvPicPr/>
          <p:nvPr/>
        </p:nvPicPr>
        <p:blipFill>
          <a:blip r:embed="rId1"/>
          <a:stretch/>
        </p:blipFill>
        <p:spPr>
          <a:xfrm>
            <a:off x="928800" y="285840"/>
            <a:ext cx="7391160" cy="6143400"/>
          </a:xfrm>
          <a:prstGeom prst="rect">
            <a:avLst/>
          </a:prstGeom>
          <a:ln w="0">
            <a:noFill/>
          </a:ln>
        </p:spPr>
      </p:pic>
      <p:sp>
        <p:nvSpPr>
          <p:cNvPr id="1390" name="Text Box 3"/>
          <p:cNvSpPr/>
          <p:nvPr/>
        </p:nvSpPr>
        <p:spPr>
          <a:xfrm>
            <a:off x="214200" y="0"/>
            <a:ext cx="8624880" cy="6883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ешь ли ты вести себя за столом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0076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авила поведения в гостях</a:t>
            </a:r>
            <a:br>
              <a:rPr sz="49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стях нужно быть вежливым, вести себя спокойно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ивать разговор во время еды, но не разговаривать с набитым ртом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жёвывать пищу с закрытым ртом, стараясь есть и пить бесшумно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твлекать внимание гостей только на себя. Не ломать и разбрасывать игрушк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клади локти на стол, не играй во время еды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 пользуйся ножом, вилкой, салфеткой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Picture 2" descr="F:\Documents and Settings\Зазуся\Рабочий стол\книги\100579б.jpg"/>
          <p:cNvPicPr/>
          <p:nvPr/>
        </p:nvPicPr>
        <p:blipFill>
          <a:blip r:embed="rId1"/>
          <a:stretch/>
        </p:blipFill>
        <p:spPr>
          <a:xfrm>
            <a:off x="1295280" y="642960"/>
            <a:ext cx="6934320" cy="5500800"/>
          </a:xfrm>
          <a:prstGeom prst="rect">
            <a:avLst/>
          </a:prstGeom>
          <a:ln w="0">
            <a:noFill/>
          </a:ln>
        </p:spPr>
      </p:pic>
      <p:sp>
        <p:nvSpPr>
          <p:cNvPr id="1394" name="Text Box 3"/>
          <p:cNvSpPr/>
          <p:nvPr/>
        </p:nvSpPr>
        <p:spPr>
          <a:xfrm>
            <a:off x="1214280" y="214200"/>
            <a:ext cx="7710480" cy="7034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ли ведут себя зверят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2" descr="F:\Documents and Settings\Зазуся\Рабочий стол\книги\100571а.jpg"/>
          <p:cNvPicPr/>
          <p:nvPr/>
        </p:nvPicPr>
        <p:blipFill>
          <a:blip r:embed="rId1"/>
          <a:stretch/>
        </p:blipFill>
        <p:spPr>
          <a:xfrm>
            <a:off x="1285920" y="571680"/>
            <a:ext cx="7162920" cy="5929200"/>
          </a:xfrm>
          <a:prstGeom prst="rect">
            <a:avLst/>
          </a:prstGeom>
          <a:ln w="0">
            <a:noFill/>
          </a:ln>
        </p:spPr>
      </p:pic>
      <p:sp>
        <p:nvSpPr>
          <p:cNvPr id="1396" name="Text Box 3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 нужно уступать место в транспорт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Дети обязаны: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2876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ходить в транспорт и выходить из него со стороны тротуара или обочины и только после полной остановки транспор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жаться за поручни в сало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упать билеты у водителя только на остан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ть вежливыми, уступать место пожилым людям, инвалидам и маленьким детям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ходить принято через переднюю дверь, а входить – через задню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исимо от того, опаздываете вы или нет, не расталкивайте других пассажиров локтями, устремляясь к вых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7:00:52Z</dcterms:created>
  <dc:creator>Orion</dc:creator>
  <dc:description/>
  <dc:language>en-US</dc:language>
  <cp:lastModifiedBy>Пользователь</cp:lastModifiedBy>
  <dcterms:modified xsi:type="dcterms:W3CDTF">2016-11-28T15:18:45Z</dcterms:modified>
  <cp:revision>40</cp:revision>
  <dc:subject/>
  <dc:title>Слайд 1</dc:title>
</cp:coreProperties>
</file>