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BCC-42D5-47B3-A9DC-1634DFC1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FB8-B71E-4A0D-9BFE-1FEA0F12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0F0CD-7948-4441-8109-355E355F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33C42-0D36-4812-AD2E-684FFC44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5D84B-E567-4AB2-B2EE-2CC601FF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4A6F3-D4B8-4B93-8050-38B8AA24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00BA7-9D21-492B-A1D0-4F46A231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5A83F-F05D-464A-94D5-5B653611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3AC34-3050-4C7A-87E9-8F404158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6682A-BF54-4C61-8762-8417016A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1ABAB-E127-4B3B-9777-B90BD4D1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CD767-B681-4E8E-AB99-7C725FDD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F59-1543-4A66-96D3-97644C88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2BDA8-57BC-4F54-9BC7-8C6D2C6C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C5DDE-E3CA-4B60-AF08-3178D483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A4F6B-2495-4275-828A-240808A4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9628F-E43B-42A6-BC3D-C46405B0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96D2F-A8BB-48CE-9E8F-8B529789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FC4F6-81A7-4A58-9035-1F2EFA9D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CB1D2-E341-4919-9030-35D38E0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44A12-FD65-4DF4-A7B3-63F8EB48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ABB75-5CF2-4802-B76B-BD4AE344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853DD-F79F-4A26-9D30-2AD9F889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668-0672-478E-B76E-2B24E3D5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813A4-F17C-4388-9B88-CC137899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6F1FE-2105-4149-9BA5-CEA18C8F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40CDA-4120-476C-A9C9-66974E0C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2E48E-DCA5-4938-9D51-45911ADE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06351-57BA-49F2-B0FD-0240D9E5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89399-2F6B-4581-B250-AB58D65B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0F97C-D5E3-4A2A-BF6B-FC64CC96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ADC3F-F867-42E7-8D86-2D8F13F5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ECA53-E257-4499-B355-5C420CA9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741D7-9453-4852-A359-77BF7D22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1E1E-BF90-4F02-8136-D8765119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CB4E0-6429-42DE-84D4-ADE0B108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E9758-C184-47FC-8F6A-DE292277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612AB-9137-471C-9028-25AF8B06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8F200-EFCB-4B2F-8084-3ECA97CF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07075-8D13-46B2-86D3-BDC957D1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C3F6F-13D3-4A11-9CEA-DFC511BC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090BF-95D7-4956-B5BB-FD9B2BD7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07B88-73DB-4332-8EA6-0E1F41F8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E2A64-8B4A-48A7-B5C0-AA3FEDA9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50731-6D48-42C9-97ED-116932F4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6F00-9279-4083-A307-D05D014D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959D5-D489-4258-91D1-98A3AA0E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A1A07-5EED-4473-B63E-BE3F18C5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60583-CCBA-4AD8-993D-D6F39595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48E02-AC2B-41C7-893A-8C6BF24F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DADEB-04E9-4FBF-86DB-9A1EFF53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620F8-87A4-4B32-9B61-1E0D7139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EDD9D-A8BE-415A-8778-5ED5755D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DF911-97D5-4F9B-BC5A-F4FD294C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FC218-C399-4E25-A2F9-ED2C5054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A1DF4-2439-414A-97EE-BD24BDBD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D0B1-D5CF-434D-B3A3-688D1AF7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871D4-3252-46C0-9AAE-DEF94246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C2ADB-0F3A-4A36-9C97-BBF9EB45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6C47D-240D-4DE4-A979-6FF4BF4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74617-24B6-4F92-89A6-CFDB3C13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999FD-7A41-445B-95BC-71D636CC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243D1-B38A-423A-9250-5CF70D59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44C13-BD6D-4377-A239-A5A2A27F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9032-2CDD-4527-8083-29E150DC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79C7-69D3-46EC-A3BE-8BC779FF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645D-1AD6-4092-9823-99208406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90BD-8663-4C02-858E-A8EF710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7CF-348F-4F07-BF75-628F4EF6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5B1E-2B0B-4E4F-96E9-FD7C5DC0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A885-B8DD-4D54-A4C2-E37D053C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FC27-4CF8-49C1-88B8-1623B617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42EF-719B-496A-8E9F-6347BD88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4AA7-EEE0-45FF-B447-53A2D5A6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90C8-A4B5-421E-9477-DC185818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E8EC-74B2-4305-A4A3-09A5FC4C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A8D5-634E-4B8A-B715-C5977FF3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194A-B5AE-4B11-A2E4-704F9CB7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D99D-1C0C-499C-B547-A5CBF7A1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450-B262-4A92-8533-1918992B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4B19-2EA3-40DE-AA81-E615A97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433D-415A-4C6A-80E4-295D0FA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632D-4AC2-48D3-804E-E6C13C77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4882-4FEB-4DC1-9A32-3C81E66E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42D0-BE60-4405-BD72-817B28D7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207E-D8F2-4F2F-8E84-F991E3F4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B457-FA75-4E9B-A63E-B3444677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56C37-52B7-44BB-803E-565C6FE2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96A28-EE3B-4CAF-A8CD-80AEC456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F401-7599-4C33-A327-BE8C4DAA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D95-611F-41BA-8A22-221CF8A6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7674-9CE0-42DD-B5C4-FB2CAB82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648E-4A2C-44D3-B7E3-1F40F474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D3C5A-2E09-46BF-A586-F02B035D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DD5E-6101-49D9-A8C7-46A922C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C58C4-ED78-4267-BC97-AF01984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E6E6-5365-477E-9B6F-204788A3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F80D-85A6-43F4-8D2D-C01CEB61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BBD11-DEC1-493D-80BD-477AB27E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0F2FD-5EE9-4EDB-BA08-565E72B8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1CC2-7FDE-4BE5-B344-653B35ED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38B-A2C7-46BF-9B42-1EC9C1BE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E3E95-13C1-4A5B-B7C9-7D176C6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0B449-7CF0-4304-B8BE-C646D68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5497E-0674-488B-A19E-1F39865D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366A5-ABBC-4164-995E-8AA244AE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B8517-4BE9-41E8-9EBF-3FF91100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D2AE6-BFC9-4787-AE9F-96DCA61F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F37F-1998-4EC3-A8AB-BC374DDD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15203-7A28-4B49-858D-50051283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41D6-8F48-401E-ADCA-AF3F06A9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A6A4D-5C42-4DFE-B8A3-EB1DCFC9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B7E-067D-49A6-B5A8-9AEEF8F9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0E28-C4CE-48E4-80DF-526BB2FE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160DB-E26C-4A0C-AB5E-34D1B535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3BF3A-87BC-413F-872A-1DF1A518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F7BAB-080A-4DC9-BF5F-1DC50DE9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EFC72-8094-4962-ADE3-CAD89C46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E47F-BB2B-4B47-A008-085D5648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E905A-FFE0-4886-B2E3-01751F21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D5336-EA07-4D80-A7CC-76D9E637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59FD-4DFF-4B73-850D-DA92AEBA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1490-FE6A-4C19-A78A-B2DC740C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1D1-9B21-4098-B3C4-8F08D7A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09E73-6FD4-44C7-8974-7506F60D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42937-500F-4C04-9813-E8948C69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2D477-C85D-4F31-A838-781B8015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89E4A-5CC1-4006-8BE7-2BB32BDD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70C40-3B1B-41D2-BC5C-AC37A0B8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A28B9-3215-41AF-9F56-6E1DAFE4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E9A18-00E8-4644-9483-CEE4F948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34953-85B4-46D8-A247-1E834A9C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3EE93-9900-4FE7-846B-B658832F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8DD24-C29B-43E5-ADFF-46E83AA7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EBB-336C-4FC4-A14F-249103EB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4004F-77F7-4CC5-AE37-370F7E84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1D1E9-1BA5-440D-B3E8-940CBF3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93113-B31A-4494-B279-AF003BDC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C56F0-B9B9-4CD1-AAC6-D33F2203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8954B-65C2-4B77-9B9E-2C01ECB5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8EB2A-77B5-4C0E-871E-8FA2A02D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4DF17-65C9-4445-8D33-3970DDE4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0F4CB-29E4-472C-8F74-34B11270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9A83C-6B02-4D33-B4D7-5ECDB793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35979-84D8-4753-944E-9C826549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F0A-FEF1-4FD0-A49D-9F5E7E2E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9BA44-4181-4ACF-82CD-5BD802A1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7E9EF-F3C6-4A60-8F46-7910233C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8CEDA-0631-477E-BEF5-CC84FBF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9E7F1-FCC1-49E0-B4AC-6F44319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58CA2-DAF9-4BAE-9D10-D707541B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C2106-F36B-43F8-A2F9-A3428B4D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97617-CA99-44ED-B950-E2B51323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986BA-516E-46AD-88D1-47CACE13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474D1-0F83-4E67-8053-E78C2DCD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041CC-9334-4EC8-B4A3-A34EE41A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9BCB-03F5-4CCC-A4F9-20BA27A007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0E2-B6D8-4DD5-BFBD-5C02EDC7EC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A2A9-1B82-4E0B-8C23-876DB79133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BED2-2429-40A2-9B4C-E1E8A3722D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AEAA-C592-4E45-9CD2-1EA38B14D7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857C-0CA8-4E15-A851-AA7AD51215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BF62-03C2-4DBE-8723-01A5778627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39A8-28B1-412B-95BF-57E502C557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C4C0-9E18-4CFC-88F6-E318095A70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5307-1FF7-43CC-9756-47924B5AA7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C2EB-6A14-4F11-9B2D-F9E6F5AEE3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FFBC-E289-4EF2-A18D-9330F5941D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92EC-3457-42BE-ACEF-927EA5E16C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300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авила поведения в общественных местах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ый ч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857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Детям-пассажирам запрещаетс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лекать водителя разговорами во время движения транспорта и стучать в стекло каби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вать двери транспорта во время его движ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вывать голову и руки из ок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ривлекать излишнего внимания, портить общественного  имуще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ниги нужно беречь</a:t>
            </a:r>
            <a:br>
              <a:rPr sz="4600"/>
            </a:br>
            <a:endParaRPr b="0" lang="en-US" sz="4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21384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книги перегиб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загибать книжные стран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закладывать в книги карандаши и ручки. А как называется вещь, которой необходимо пользоваться при чтении книг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писать и рисовать в книг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читать книги во время 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авила поведения в библиотеке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456840" y="114264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йдя в библиотеку нужно поздороватьс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иблиотеке вести себя тихо, не кричать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выборе книги не хватать все книги подряд, а выбрать по автору или разделу, или назвать библиотекарю название книги или автор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нигами обращаться аккуратно, не вырывать страничк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ив книгу, нужно сказать спасибо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амое главное вовремя возвращать книгу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шелева, Б. В. Поговорим о воспитанности. – М.: Просвещение, 19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скин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. М. От игры  к  знаниям. – М.:  Просвещение,  19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 Михалков «Шел трамвай десятый номер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инки из книги Юлии Соколовой «Правила поведения для малыше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Общественные места</a:t>
            </a:r>
            <a:endParaRPr b="0" lang="en-US" sz="5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500040" y="157176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блиотека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щение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орт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Чтение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ти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а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Проезд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1" name="Прямая со стрелкой 4"/>
          <p:cNvCxnSpPr/>
          <p:nvPr/>
        </p:nvCxnSpPr>
        <p:spPr>
          <a:xfrm>
            <a:off x="3714840" y="2143080"/>
            <a:ext cx="2071800" cy="57240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82" name="Прямая со стрелкой 6"/>
          <p:cNvCxnSpPr/>
          <p:nvPr/>
        </p:nvCxnSpPr>
        <p:spPr>
          <a:xfrm>
            <a:off x="3285720" y="2928960"/>
            <a:ext cx="2715480" cy="16437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83" name="Прямая со стрелкой 8"/>
          <p:cNvCxnSpPr/>
          <p:nvPr/>
        </p:nvCxnSpPr>
        <p:spPr>
          <a:xfrm flipV="1">
            <a:off x="2071440" y="2071080"/>
            <a:ext cx="3858120" cy="18579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84" name="Прямая со стрелкой 10"/>
          <p:cNvCxnSpPr/>
          <p:nvPr/>
        </p:nvCxnSpPr>
        <p:spPr>
          <a:xfrm flipV="1">
            <a:off x="2356920" y="3857040"/>
            <a:ext cx="3644280" cy="9291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Picture 2" descr="F:\Documents and Settings\Зазуся\Рабочий стол\книги\100577а.jpg"/>
          <p:cNvPicPr/>
          <p:nvPr/>
        </p:nvPicPr>
        <p:blipFill>
          <a:blip r:embed="rId1"/>
          <a:stretch/>
        </p:blipFill>
        <p:spPr>
          <a:xfrm>
            <a:off x="1285920" y="1071720"/>
            <a:ext cx="7238880" cy="5357520"/>
          </a:xfrm>
          <a:prstGeom prst="rect">
            <a:avLst/>
          </a:prstGeom>
          <a:ln w="0">
            <a:noFill/>
          </a:ln>
        </p:spPr>
      </p:pic>
      <p:sp>
        <p:nvSpPr>
          <p:cNvPr id="1386" name="Text Box 3"/>
          <p:cNvSpPr/>
          <p:nvPr/>
        </p:nvSpPr>
        <p:spPr>
          <a:xfrm>
            <a:off x="571680" y="714240"/>
            <a:ext cx="8286480" cy="7340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ужно вести себя в гостях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7" name="Picture 2" descr="F:\Documents and Settings\Зазуся\Рабочий стол\книги\100577б.jpg"/>
          <p:cNvPicPr/>
          <p:nvPr/>
        </p:nvPicPr>
        <p:blipFill>
          <a:blip r:embed="rId1"/>
          <a:stretch/>
        </p:blipFill>
        <p:spPr>
          <a:xfrm>
            <a:off x="1143000" y="428760"/>
            <a:ext cx="7086600" cy="5779800"/>
          </a:xfrm>
          <a:prstGeom prst="rect">
            <a:avLst/>
          </a:prstGeom>
          <a:ln w="0">
            <a:noFill/>
          </a:ln>
        </p:spPr>
      </p:pic>
      <p:sp>
        <p:nvSpPr>
          <p:cNvPr id="1388" name="Text Box 3"/>
          <p:cNvSpPr/>
          <p:nvPr/>
        </p:nvSpPr>
        <p:spPr>
          <a:xfrm>
            <a:off x="714240" y="0"/>
            <a:ext cx="8143920" cy="1191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ли гостям, на которых хозяин не обращает вниман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Picture 2" descr="F:\Documents and Settings\Зазуся\Рабочий стол\книги\100564а.jpg"/>
          <p:cNvPicPr/>
          <p:nvPr/>
        </p:nvPicPr>
        <p:blipFill>
          <a:blip r:embed="rId1"/>
          <a:stretch/>
        </p:blipFill>
        <p:spPr>
          <a:xfrm>
            <a:off x="928800" y="285840"/>
            <a:ext cx="7391160" cy="6143400"/>
          </a:xfrm>
          <a:prstGeom prst="rect">
            <a:avLst/>
          </a:prstGeom>
          <a:ln w="0">
            <a:noFill/>
          </a:ln>
        </p:spPr>
      </p:pic>
      <p:sp>
        <p:nvSpPr>
          <p:cNvPr id="1390" name="Text Box 3"/>
          <p:cNvSpPr/>
          <p:nvPr/>
        </p:nvSpPr>
        <p:spPr>
          <a:xfrm>
            <a:off x="214200" y="0"/>
            <a:ext cx="8624880" cy="6883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ешь ли ты вести себя за столом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0076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авила поведения в гостях</a:t>
            </a:r>
            <a:br>
              <a:rPr sz="49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214200" y="9284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стях нужно быть вежливым, вести себя спокойно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ивать разговор во время еды, но не разговаривать с набитым ртом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жёвывать пищу с закрытым ртом, стараясь есть и пить бесшумно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твлекать внимание гостей только на себя. Не ломать и разбрасывать игрушк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клади локти на стол, не играй во время еды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 пользуйся ножом, вилкой, салфеткой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Picture 2" descr="F:\Documents and Settings\Зазуся\Рабочий стол\книги\100579б.jpg"/>
          <p:cNvPicPr/>
          <p:nvPr/>
        </p:nvPicPr>
        <p:blipFill>
          <a:blip r:embed="rId1"/>
          <a:stretch/>
        </p:blipFill>
        <p:spPr>
          <a:xfrm>
            <a:off x="1295280" y="642960"/>
            <a:ext cx="6934320" cy="5500800"/>
          </a:xfrm>
          <a:prstGeom prst="rect">
            <a:avLst/>
          </a:prstGeom>
          <a:ln w="0">
            <a:noFill/>
          </a:ln>
        </p:spPr>
      </p:pic>
      <p:sp>
        <p:nvSpPr>
          <p:cNvPr id="1394" name="Text Box 3"/>
          <p:cNvSpPr/>
          <p:nvPr/>
        </p:nvSpPr>
        <p:spPr>
          <a:xfrm>
            <a:off x="1214280" y="214200"/>
            <a:ext cx="7710480" cy="7034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 ли ведут себя зверят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2" descr="F:\Documents and Settings\Зазуся\Рабочий стол\книги\100571а.jpg"/>
          <p:cNvPicPr/>
          <p:nvPr/>
        </p:nvPicPr>
        <p:blipFill>
          <a:blip r:embed="rId1"/>
          <a:stretch/>
        </p:blipFill>
        <p:spPr>
          <a:xfrm>
            <a:off x="1285920" y="571680"/>
            <a:ext cx="7162920" cy="5929200"/>
          </a:xfrm>
          <a:prstGeom prst="rect">
            <a:avLst/>
          </a:prstGeom>
          <a:ln w="0">
            <a:noFill/>
          </a:ln>
        </p:spPr>
      </p:pic>
      <p:sp>
        <p:nvSpPr>
          <p:cNvPr id="1396" name="Text Box 3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у нужно уступать место в транспорт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Дети обязаны: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2876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ходить в транспорт и выходить из него со стороны тротуара или обочины и только после полной остановки транспор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жаться за поручни в сало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упать билеты у водителя только на остан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ть вежливыми, уступать место пожилым людям, инвалидам и маленьким детям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ходить принято через переднюю дверь, а входить – через задню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висимо от того, опаздываете вы или нет, не расталкивайте других пассажиров локтями, устремляясь к вых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7:00:52Z</dcterms:created>
  <dc:creator>Orion</dc:creator>
  <dc:description/>
  <dc:language>en-US</dc:language>
  <cp:lastModifiedBy>Пользователь</cp:lastModifiedBy>
  <dcterms:modified xsi:type="dcterms:W3CDTF">2016-11-28T15:18:45Z</dcterms:modified>
  <cp:revision>40</cp:revision>
  <dc:subject/>
  <dc:title>Слайд 1</dc:title>
</cp:coreProperties>
</file>