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8AE-C2FF-462A-A79F-8B6842B2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75A-3764-4909-8564-AE54C410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3EB-3D79-4EF8-AB95-D2581D4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C21-C499-4AB8-9F49-D62AEBE1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AC33-849E-4796-9ECD-CC582078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BF82-7A43-4814-BE71-65659F0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B288-09A4-44D9-8870-D413BC9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6F6-5A0E-4D72-9F35-7EBB93B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2BB-34CB-470D-A974-3EF61E5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FA1-F93E-4614-BA31-616801B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DF54-BAE8-4353-9CCC-9CCEEF7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0E1-A4D8-46B3-9A13-74DC3E0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D7C2-014D-4E6E-B6AD-78C0C86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FAC-DE27-46CC-A0AF-438E235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0D93-2F21-47D2-B78F-88F95FE4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3A8A-8C4D-4F55-AE02-F881032B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CA2F-4D54-4A6D-825D-68A3916A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25DD-A55F-48F1-B5E3-F767F8E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BD80-8C70-4F88-A022-FB8D2FE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7735-B715-4EF1-8016-047AE03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725B-1417-414C-B2BB-53FC15F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B72F-40B0-4039-BE00-1E0498E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9DA-F882-4CD9-AF86-F7A17B5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7F3C-E032-4CFB-91CC-611CB52B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73F2-1D4B-4159-87AF-3161663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8912-855D-47AF-9962-5C60237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2675-99FC-4D15-96A7-54E94A1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3175-84A0-44C9-AC40-C5AD6C71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2713-B1BC-40EA-AF16-FB604E4E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873B-96D7-4B6E-A4DB-3EA6507C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F603-5220-419B-BADA-12CB305A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A79F-6724-4A42-BCA2-80F2691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2A19-61E5-4111-AC08-0C0EB84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32B-7660-41D3-BCF4-53A0438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7EBD-5FCE-4AAD-9695-58526963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AFE4-7718-4BCC-89B6-C0BE07CB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8DD42-F13B-4610-981B-A81D1624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376C-20D5-4D0A-BF81-A86718F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68FF-0C5E-4AEA-94CD-CF85147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34E9-4A67-4F26-B999-64206B3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02B8-1273-4210-9DDD-9684D8D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EA73-F64B-4344-9D38-E5C82F19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E6BD-892B-4DC2-8B78-5AFBC7AC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E4F6-6AA2-426D-9041-4F172EAC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2A-0051-4065-BD88-3C8239C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C95D-5FE6-4E38-8E46-C933373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D0C1-034A-47DE-A4CA-1A11FA7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812D-5FBC-4DDA-ACF0-FDCCE8DC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B9B6-2F45-4E6C-863D-9E9E84E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585B-422B-4807-8C4D-DB2BCC1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606B-B54E-44BE-AC19-ECBF366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06B3-342C-4E6C-9C18-00A8FD4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19BE-CBD7-49F9-9B8E-136D9D4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CB6D-FD48-4761-86B7-79C345D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5D3B-83B8-4F85-AE60-1C30D4E8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6B0-C02E-4E31-9B68-DB256C8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6CD8B-1AAF-4B79-A139-6589AE6F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73D-8A85-49B8-B8CF-9ED2229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116-1159-46DC-8C87-81D282F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4FC-0A97-4650-B996-0C55F52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FFD-0219-429E-8561-62121F79CA3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45C-6415-4B8B-A959-A8F1852C72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62D9-18E0-4707-ABC9-53AB906674B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2206-6F2F-45B5-8078-A4C5A27C12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EC7-F4DD-4AD5-91A8-63AA0CF5C7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4"/>
          <p:cNvSpPr/>
          <p:nvPr/>
        </p:nvSpPr>
        <p:spPr>
          <a:xfrm>
            <a:off x="1332000" y="26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Kirill</a:t>
            </a:r>
            <a:r>
              <a:rPr b="1" lang="en-US" sz="1800" spc="-1" strike="noStrike">
                <a:solidFill>
                  <a:srgbClr val="000000"/>
                </a:solidFill>
                <a:latin typeface="Minion 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1047600" y="1484280"/>
            <a:ext cx="92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oper Std Black"/>
                <a:ea typeface="Aharoni"/>
              </a:rPr>
              <a:t>USUAL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8" descr="4.jpg"/>
          <p:cNvPicPr/>
          <p:nvPr/>
        </p:nvPicPr>
        <p:blipFill>
          <a:blip r:embed="rId1"/>
          <a:stretch/>
        </p:blipFill>
        <p:spPr>
          <a:xfrm>
            <a:off x="250920" y="342900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6"/>
          <p:cNvSpPr/>
          <p:nvPr/>
        </p:nvSpPr>
        <p:spPr>
          <a:xfrm>
            <a:off x="5559840" y="260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Sash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7"/>
          <p:cNvSpPr/>
          <p:nvPr/>
        </p:nvSpPr>
        <p:spPr>
          <a:xfrm>
            <a:off x="6468480" y="1557360"/>
            <a:ext cx="88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USUAL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1477440" y="5157720"/>
            <a:ext cx="110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YESTERDA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1547640" y="5157720"/>
            <a:ext cx="811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5"/>
          <p:cNvSpPr/>
          <p:nvPr/>
        </p:nvSpPr>
        <p:spPr>
          <a:xfrm>
            <a:off x="6443640" y="5157720"/>
            <a:ext cx="79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6" descr="я кирилл.jpg"/>
          <p:cNvPicPr/>
          <p:nvPr/>
        </p:nvPicPr>
        <p:blipFill>
          <a:blip r:embed="rId2"/>
          <a:stretch/>
        </p:blipFill>
        <p:spPr>
          <a:xfrm>
            <a:off x="2916360" y="115920"/>
            <a:ext cx="1244520" cy="17287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7" descr="завтрак.jpg"/>
          <p:cNvPicPr/>
          <p:nvPr/>
        </p:nvPicPr>
        <p:blipFill>
          <a:blip r:embed="rId3"/>
          <a:stretch/>
        </p:blipFill>
        <p:spPr>
          <a:xfrm>
            <a:off x="539640" y="1916280"/>
            <a:ext cx="1511280" cy="138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7.00"/>
          <p:cNvPicPr/>
          <p:nvPr/>
        </p:nvPicPr>
        <p:blipFill>
          <a:blip r:embed="rId4"/>
          <a:stretch/>
        </p:blipFill>
        <p:spPr>
          <a:xfrm>
            <a:off x="250920" y="1989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9" descr="Untitled-1.jpg"/>
          <p:cNvPicPr/>
          <p:nvPr/>
        </p:nvPicPr>
        <p:blipFill>
          <a:blip r:embed="rId5"/>
          <a:stretch/>
        </p:blipFill>
        <p:spPr>
          <a:xfrm>
            <a:off x="755640" y="3429000"/>
            <a:ext cx="936720" cy="1663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8" descr="идет в школу.jpg"/>
          <p:cNvPicPr/>
          <p:nvPr/>
        </p:nvPicPr>
        <p:blipFill>
          <a:blip r:embed="rId6"/>
          <a:stretch/>
        </p:blipFill>
        <p:spPr>
          <a:xfrm>
            <a:off x="2700360" y="1844640"/>
            <a:ext cx="785880" cy="1728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7" descr="8.jpg"/>
          <p:cNvPicPr/>
          <p:nvPr/>
        </p:nvPicPr>
        <p:blipFill>
          <a:blip r:embed="rId7"/>
          <a:stretch/>
        </p:blipFill>
        <p:spPr>
          <a:xfrm>
            <a:off x="212400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0" descr="посуда.jpg"/>
          <p:cNvPicPr/>
          <p:nvPr/>
        </p:nvPicPr>
        <p:blipFill>
          <a:blip r:embed="rId8"/>
          <a:stretch/>
        </p:blipFill>
        <p:spPr>
          <a:xfrm>
            <a:off x="2124000" y="35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0" descr="9.jpg"/>
          <p:cNvPicPr/>
          <p:nvPr/>
        </p:nvPicPr>
        <p:blipFill>
          <a:blip r:embed="rId9"/>
          <a:stretch/>
        </p:blipFill>
        <p:spPr>
          <a:xfrm>
            <a:off x="2124000" y="342900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1" descr="просыпается.jpg"/>
          <p:cNvPicPr/>
          <p:nvPr/>
        </p:nvPicPr>
        <p:blipFill>
          <a:blip r:embed="rId10"/>
          <a:stretch/>
        </p:blipFill>
        <p:spPr>
          <a:xfrm>
            <a:off x="4643280" y="1989000"/>
            <a:ext cx="2089440" cy="1440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8" descr="7.jpg"/>
          <p:cNvPicPr/>
          <p:nvPr/>
        </p:nvPicPr>
        <p:blipFill>
          <a:blip r:embed="rId11"/>
          <a:stretch/>
        </p:blipFill>
        <p:spPr>
          <a:xfrm>
            <a:off x="435600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2" descr="саша.jpg"/>
          <p:cNvPicPr/>
          <p:nvPr/>
        </p:nvPicPr>
        <p:blipFill>
          <a:blip r:embed="rId12"/>
          <a:stretch/>
        </p:blipFill>
        <p:spPr>
          <a:xfrm>
            <a:off x="4643280" y="115920"/>
            <a:ext cx="649440" cy="17906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3" descr="ланч.jpg"/>
          <p:cNvPicPr/>
          <p:nvPr/>
        </p:nvPicPr>
        <p:blipFill>
          <a:blip r:embed="rId13"/>
          <a:stretch/>
        </p:blipFill>
        <p:spPr>
          <a:xfrm>
            <a:off x="7020000" y="198900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0" descr="10.jpg"/>
          <p:cNvPicPr/>
          <p:nvPr/>
        </p:nvPicPr>
        <p:blipFill>
          <a:blip r:embed="rId14"/>
          <a:stretch/>
        </p:blipFill>
        <p:spPr>
          <a:xfrm>
            <a:off x="673272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4" descr="уроки.jpg"/>
          <p:cNvPicPr/>
          <p:nvPr/>
        </p:nvPicPr>
        <p:blipFill>
          <a:blip r:embed="rId15"/>
          <a:stretch/>
        </p:blipFill>
        <p:spPr>
          <a:xfrm>
            <a:off x="4356000" y="3500280"/>
            <a:ext cx="1828800" cy="15130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1" descr="5.jpg"/>
          <p:cNvPicPr/>
          <p:nvPr/>
        </p:nvPicPr>
        <p:blipFill>
          <a:blip r:embed="rId16"/>
          <a:stretch/>
        </p:blipFill>
        <p:spPr>
          <a:xfrm>
            <a:off x="4356000" y="342900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3"/>
          <p:cNvSpPr/>
          <p:nvPr/>
        </p:nvSpPr>
        <p:spPr>
          <a:xfrm>
            <a:off x="6296040" y="5157720"/>
            <a:ext cx="1058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YESTERD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8" descr="ужинает.jpg"/>
          <p:cNvPicPr/>
          <p:nvPr/>
        </p:nvPicPr>
        <p:blipFill>
          <a:blip r:embed="rId17"/>
          <a:stretch/>
        </p:blipFill>
        <p:spPr>
          <a:xfrm>
            <a:off x="6659640" y="3429000"/>
            <a:ext cx="2060640" cy="15843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9" descr="7.jpg"/>
          <p:cNvPicPr/>
          <p:nvPr/>
        </p:nvPicPr>
        <p:blipFill>
          <a:blip r:embed="rId18"/>
          <a:stretch/>
        </p:blipFill>
        <p:spPr>
          <a:xfrm>
            <a:off x="6732720" y="3429000"/>
            <a:ext cx="503280" cy="50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Does your sister mop the floor or cook every 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 plays football every day, doesn’t he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What do you usually do on Sun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0" y="1513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listened to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rea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played a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di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learnt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mad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2"/>
          <p:cNvSpPr/>
          <p:nvPr/>
        </p:nvSpPr>
        <p:spPr>
          <a:xfrm>
            <a:off x="250920" y="2637000"/>
            <a:ext cx="1728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Minion Pro"/>
                <a:ea typeface="Times New Roman"/>
              </a:rPr>
              <a:t>Porridge and fru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4"/>
          <p:cNvSpPr/>
          <p:nvPr/>
        </p:nvSpPr>
        <p:spPr>
          <a:xfrm>
            <a:off x="179280" y="3573360"/>
            <a:ext cx="24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orridge </a:t>
            </a:r>
            <a:r>
              <a:rPr b="1" i="1" lang="en-US" sz="1500" spc="-1" strike="noStrike">
                <a:solidFill>
                  <a:srgbClr val="000000"/>
                </a:solidFill>
                <a:latin typeface="Minion Pro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mi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-10440" y="4508640"/>
            <a:ext cx="21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Sandwiches and mi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2340000" y="263700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us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2049480" y="357336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Natur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2411280" y="450864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M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0"/>
          <p:cNvSpPr/>
          <p:nvPr/>
        </p:nvSpPr>
        <p:spPr>
          <a:xfrm>
            <a:off x="4173480" y="2637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Coo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1"/>
          <p:cNvSpPr/>
          <p:nvPr/>
        </p:nvSpPr>
        <p:spPr>
          <a:xfrm>
            <a:off x="3966120" y="357336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Set th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2"/>
          <p:cNvSpPr/>
          <p:nvPr/>
        </p:nvSpPr>
        <p:spPr>
          <a:xfrm>
            <a:off x="3570120" y="450864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Watered the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3"/>
          <p:cNvSpPr/>
          <p:nvPr/>
        </p:nvSpPr>
        <p:spPr>
          <a:xfrm>
            <a:off x="5806440" y="26370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Fed du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4"/>
          <p:cNvSpPr/>
          <p:nvPr/>
        </p:nvSpPr>
        <p:spPr>
          <a:xfrm>
            <a:off x="5571000" y="357336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layed foot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5"/>
          <p:cNvSpPr/>
          <p:nvPr/>
        </p:nvSpPr>
        <p:spPr>
          <a:xfrm>
            <a:off x="5566680" y="45086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ode a b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6"/>
          <p:cNvSpPr/>
          <p:nvPr/>
        </p:nvSpPr>
        <p:spPr>
          <a:xfrm>
            <a:off x="7536960" y="2637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ead  a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7"/>
          <p:cNvSpPr/>
          <p:nvPr/>
        </p:nvSpPr>
        <p:spPr>
          <a:xfrm>
            <a:off x="7488000" y="357336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Watche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8"/>
          <p:cNvSpPr/>
          <p:nvPr/>
        </p:nvSpPr>
        <p:spPr>
          <a:xfrm>
            <a:off x="7273440" y="443700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layed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          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1"/>
          <p:cNvSpPr/>
          <p:nvPr/>
        </p:nvSpPr>
        <p:spPr>
          <a:xfrm>
            <a:off x="3302640" y="1159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Std Black"/>
              </a:rPr>
              <a:t>KI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4380840" y="1159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Std Black"/>
              </a:rPr>
              <a:t>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29" descr="русскийц.jpg"/>
          <p:cNvPicPr/>
          <p:nvPr/>
        </p:nvPicPr>
        <p:blipFill>
          <a:blip r:embed="rId1"/>
          <a:stretch/>
        </p:blipFill>
        <p:spPr>
          <a:xfrm>
            <a:off x="1908000" y="692280"/>
            <a:ext cx="1656000" cy="12967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0" descr="каша с молоком.jpg"/>
          <p:cNvPicPr/>
          <p:nvPr/>
        </p:nvPicPr>
        <p:blipFill>
          <a:blip r:embed="rId2"/>
          <a:stretch/>
        </p:blipFill>
        <p:spPr>
          <a:xfrm>
            <a:off x="250920" y="1052640"/>
            <a:ext cx="1512720" cy="936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2" descr="накрывает стол.jpg"/>
          <p:cNvPicPr/>
          <p:nvPr/>
        </p:nvPicPr>
        <p:blipFill>
          <a:blip r:embed="rId3"/>
          <a:stretch/>
        </p:blipFill>
        <p:spPr>
          <a:xfrm>
            <a:off x="3635280" y="620640"/>
            <a:ext cx="1795680" cy="13795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4" descr="велик.jpg"/>
          <p:cNvPicPr/>
          <p:nvPr/>
        </p:nvPicPr>
        <p:blipFill>
          <a:blip r:embed="rId4"/>
          <a:stretch/>
        </p:blipFill>
        <p:spPr>
          <a:xfrm>
            <a:off x="5940360" y="476280"/>
            <a:ext cx="1079640" cy="16286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5" descr="Untitled-1.jpg"/>
          <p:cNvPicPr/>
          <p:nvPr/>
        </p:nvPicPr>
        <p:blipFill>
          <a:blip r:embed="rId5"/>
          <a:stretch/>
        </p:blipFill>
        <p:spPr>
          <a:xfrm>
            <a:off x="7451640" y="549360"/>
            <a:ext cx="11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07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08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84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319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 goes to the swimming pool every Tues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71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I play computer games every evening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We do our homework every 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My friend has dinner at 2 pm every 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I don’t walk a dog in the afternoon. I do it in the evening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My brother doesn’t watch TV every day. He watches TV on Saturday and Sun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Do you ride a bike every 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6:16:51Z</dcterms:created>
  <dc:creator>Таня</dc:creator>
  <dc:description/>
  <dc:language>en-US</dc:language>
  <cp:lastModifiedBy>Home</cp:lastModifiedBy>
  <dcterms:modified xsi:type="dcterms:W3CDTF">2016-04-05T19:09:38Z</dcterms:modified>
  <cp:revision>194</cp:revision>
  <dc:subject/>
  <dc:title>Слайд 1</dc:title>
</cp:coreProperties>
</file>