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15E4-932B-4792-9C69-89DA4C44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E8CE-2CC8-48C2-A07E-384C1DB2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25C4-CDF1-404A-BC83-8E4F54B0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60E-F1A5-480A-8618-4951605F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5AA-D585-4C18-82DD-A41063E9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B1EC-D2E2-4CE3-92E0-6339FF17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079C-BCCB-438D-A04C-29339205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F8A-BF6B-4CFA-BC93-D695CDA3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0D5E-98AB-463E-9F08-DD784FDE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6E98-D4AA-499E-979C-50144E93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EA8-6589-4D5D-B7FB-95D4F9E2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05E-AB97-4EFC-A6CA-7A19424B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D057-EEEC-40D7-8340-A7D53284C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3933720"/>
            <a:ext cx="5400360" cy="1068840"/>
          </a:xfrm>
          <a:prstGeom prst="rect">
            <a:avLst/>
          </a:prstGeom>
          <a:solidFill>
            <a:srgbClr val="273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ОДГОТОВИЛА МАСЛЯКОВА Л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ндром дефицита вним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енок имеет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фицит вним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если о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е обращает внимания на детали и допускает ошибки в рабо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с трудом поддерживает внимание в работе и иг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е слушает то, что ему говоря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е в состоянии следовать инструкци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е может организовать игру или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имеет сложности в выполнении заданий, требующих длительной концентрации вним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часто теряет вещ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часто и легко отвлекает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бывает забывчи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перакти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ерактив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 о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вершает суетливые движения руками и ног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асто вскакивает со своего ме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гиперподвижен в ситуациях, когда гиперподвижность неприемле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 может играть в "тихие" иг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сегда находится в движ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чень много гово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мпульсив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бенок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мпульсиве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(т.е. не способен остановиться и подумать, прежде чем заговорить или совершить действие), если о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отвечает на вопрос, не выслушав е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е может дождаться своей очеред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вмешивается в разговоры и игры друг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433080" cy="707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Родителям следу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ледить за соблюдением режима дн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гиперактивного" ребенка (время приема пищи, выполнение домашних заданий, сон), предоставлять ему возможность расходовать избыточную энергию в физических упражнениях, длительных прогулках, беге. Следует также избегать утомления при выполнении заданий, так как при этом может усиливаться гиперактивность. "Гиперактивные" дети чрезвычайно возбудимы, поэтому необходимо исключить или ограничить их участие в мероприятиях, связанных со скоплением большого числа людей. Так как ребенок испытывает сложности в концентр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мания, нужно давать ему только одно задание на определенный промежуток времени. Важен выбор партнеров для игр - друзья ребенка должны быть уравновешенными и спокойным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6858000"/>
            <a:ext cx="822960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5f7f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735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5f1"/>
                </a:solidFill>
                <a:latin typeface="Arial"/>
              </a:rPr>
              <a:t>Непосредственное вним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управляется ничем, кроме  объ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Опосредствованное вним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гулируется с помощью специальных средств, например жестов, слов, указательных зна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Непроизвольное вним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никает в результате воздействия раздражителя , образуется по закону ориентировочного рефлекса и общее для человека и живот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Произвольное вним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е сложное и свойственное только человеку формируется в процессе обучения: в быту, в школе, в труде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десь все просто, нужно поставить цель: "Мне надо быть внимательным, и я заставлю себя быть внимательным, несмотря ни на что", и упорно идти к этой ц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Чувственное вним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преимуществу связано с эмоциями и избирательной работой органов чув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Интеллектуальное вним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язано с сосредоточенностью и направленностью мыс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1fba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35f1"/>
                </a:solidFill>
                <a:latin typeface="Arial"/>
              </a:rPr>
              <a:t>Внимание — избирательная направленность восприятия на тот или иной объект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solidFill>
            <a:srgbClr val="c8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виды внимания-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родное и социально обусловленное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посредственное и опосредствованное внима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произвольное и произвольное внима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увственное и интеллектуальное вним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19:27:57Z</dcterms:created>
  <dc:creator>qwert12</dc:creator>
  <dc:description/>
  <dc:language>en-US</dc:language>
  <cp:lastModifiedBy>qwert12</cp:lastModifiedBy>
  <dcterms:modified xsi:type="dcterms:W3CDTF">2012-06-13T20:22:59Z</dcterms:modified>
  <cp:revision>2</cp:revision>
  <dc:subject/>
  <dc:title>Слайд 1</dc:title>
</cp:coreProperties>
</file>