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B99-E643-4B34-9B76-C9BED235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2CF-981C-44C1-AC75-BF4AC493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BEE-F0AE-4EE1-8523-F3B149DF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CBE-E2BF-4864-ACF6-743E9D3E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261C-17B7-4D30-B684-06DB3FE9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0DDB-D094-490D-A775-04EFB132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5872-710F-4695-AE46-FB7C66C9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1D0C-5F1B-493A-BB56-7B56F0A1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5A47-86A0-4D25-95C3-64DF5AF2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2078-CA3D-431B-8DB6-990617B1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CEC5-B7D1-4FF1-B4DD-A710E02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5AB-80B3-4918-8605-FAF86D42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1BA8-6999-4010-B8B7-3609D19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9C32-12CA-47F0-BEBA-A848EF2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2109-5B29-4A5C-8A48-99602D28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62C-40D6-4ACF-84F3-F7EC95E4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2DDE-512A-4DF4-AB01-C6184B0B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B4E-2970-49BC-87A3-09EFD90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868-D75D-499E-B0BC-B4D8DB57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83B-E30C-4654-B8E5-C442CC1C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B3B-667F-413D-8566-3ABFB5E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F37-ED09-4063-8561-B2180D7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0F8-BBBB-4531-ADFA-0C14B27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4C7-D7C6-4D0F-A952-ACAC9E8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938C-4803-4E62-87EF-96711C4A43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6E3C-588F-4946-82AD-BCC9810400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4f1d11df-426c-4af2-8f2e-1cde1fefb7b3/%5BRUS9_210%5D_%5BIM_283%5D.swf" TargetMode="External"/><Relationship Id="rId2" Type="http://schemas.openxmlformats.org/officeDocument/2006/relationships/hyperlink" Target="http://files.school-collection.edu.ru/dlrstore/4f1d11df-426c-4af2-8f2e-1cde1fefb7b3/%5BRUS9_210%5D_%5BIM_283%5D.sw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2a3c172-155b-442e-ae8b-9dbbf24b2026/%5BRUS9_209%5D_%5BQS_275%5D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 русского языка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Сложноподчиненные предложения с придаточными определительными»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: Сарсенгалиева Ж.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чебный словарь «Придаточные определительны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ttp://files.school-collection.edu.ru/dlrstore/e5acbb4a-5b98-45a1-8aa3-1544cfda8784/%5BRUS9_213%5D_%5BTD_334%5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ест «Придаточные определительные. Расставьте знаки препинания». Вариант 1-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ttp://files.school-collection.edu.ru/dlrstore/f209167d-ae75-409c-9c90-ec036cc78be3/%5BRUS9_213%5D_%5BQS_329%5D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равьте ошиб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Деревья, какие мы посадили тогда возле школы, уже вырос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Я все задачи решил, которые нам задав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Мы въехали в посёлок, который находился в лощине, которая начиналась сразу же за ле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На столе стоял букет роз, аромат которых наполнял комнату, которая имела праздничный ви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упр. 91(1час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используя придаточные определительные, дать определение основы слова, окончания, имени существительного, назывных пред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подготовить сообщение о придаточных определительных по собственному пла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57200" y="38088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Зна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imes New Roman"/>
              </a:rPr>
              <a:t>۰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роение СП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imes New Roman"/>
              </a:rPr>
              <a:t>۰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редство связи между частями СП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imes New Roman"/>
              </a:rPr>
              <a:t>۰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оль указательных слов в СП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imes New Roman"/>
              </a:rPr>
              <a:t>۰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есто придаточного предложения в СП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Узна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imes New Roman"/>
              </a:rPr>
              <a:t>۰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руппы СПП по знач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imes New Roman"/>
              </a:rPr>
              <a:t>۰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ПП с придаточным определитель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Виды подчинительных союзов по стру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2209680"/>
          <a:ext cx="8078760" cy="3657600"/>
        </p:xfrm>
        <a:graphic>
          <a:graphicData uri="http://schemas.openxmlformats.org/drawingml/2006/table">
            <a:tbl>
              <a:tblPr/>
              <a:tblGrid>
                <a:gridCol w="2762280"/>
                <a:gridCol w="2624040"/>
                <a:gridCol w="269244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ост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вой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26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ак как, потому что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ак что и др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6320" y="228600"/>
          <a:ext cx="8915400" cy="6337440"/>
        </p:xfrm>
        <a:graphic>
          <a:graphicData uri="http://schemas.openxmlformats.org/drawingml/2006/table">
            <a:tbl>
              <a:tblPr/>
              <a:tblGrid>
                <a:gridCol w="2057400"/>
                <a:gridCol w="3886200"/>
                <a:gridCol w="29718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… гл.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, (что …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… указ. сл. + сущ.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]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, (который …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]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, (потому что …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когда …),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хотя …),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если),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указ. сл. то…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609480" y="2286000"/>
          <a:ext cx="8229600" cy="335268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8954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точ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ъяснитель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точ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тоятель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е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точ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315720"/>
            <a:ext cx="7954920" cy="12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иды придаточных предлож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активный текст. Придаточные определительные, изъяснительные, обстоятельственны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files.school-collection.edu.ru/dlrstore/4f1d11df-426c-4af2-8f2e-1cde1fefb7b3/%5BRUS9_210%5D_%5BIM_283%5D.swf </a:t>
            </a:r>
            <a:r>
              <a:rPr b="0" lang="ru-RU" sz="4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ОБЛАКО ОБРАТИЛОСЬ В БЕЛУЮ ТУЧУ, КОТОРАЯ ТЯЖЕЛО ПОДНИМАЛАСЬ, РОСЛА И ГЛУХО ВОРЧ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АКУЮ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Щ.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(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КОТОР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БОЛЬШИМИ ШАГАМИ НАПРАВИЛСЯ Я К ДОМУ, ГДЕ ЖИЛА А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АКОМУ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Щ.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(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ГД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УЕДИНЕННЫЙ ДОМИК, КУДА МЫ ПЕРЕЕХАЛИ, НАХОДИЛСЯ ВНУТРИ СА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АКО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Щ.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(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КУ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МАЛЬЧИШКИ ВЫБРАЛИ ТУ ТРОПИНКУ, ЧТО ВЕЛА В ГЛУБИНУ ПАР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АКУЮ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Щ.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(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Ч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1" idx="1"/>
            <a:endCxn id="171" idx="1"/>
          </p:cNvCxnSpPr>
          <p:nvPr/>
        </p:nvCxnSpPr>
        <p:spPr>
          <a:xfrm>
            <a:off x="380520" y="33904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73" name="AutoShape 9"/>
          <p:cNvCxnSpPr>
            <a:stCxn id="171" idx="1"/>
            <a:endCxn id="171" idx="1"/>
          </p:cNvCxnSpPr>
          <p:nvPr/>
        </p:nvCxnSpPr>
        <p:spPr>
          <a:xfrm>
            <a:off x="380520" y="33904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74" name="AutoShape 10"/>
          <p:cNvCxnSpPr>
            <a:stCxn id="171" idx="1"/>
            <a:endCxn id="171" idx="1"/>
          </p:cNvCxnSpPr>
          <p:nvPr/>
        </p:nvCxnSpPr>
        <p:spPr>
          <a:xfrm>
            <a:off x="380520" y="33904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5" name="Line 11"/>
          <p:cNvSpPr/>
          <p:nvPr/>
        </p:nvSpPr>
        <p:spPr>
          <a:xfrm flipV="1">
            <a:off x="1523880" y="1371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1523880" y="13716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2514600" y="1371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 flipV="1">
            <a:off x="1600200" y="2666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16002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2438280" y="2666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 flipV="1">
            <a:off x="160020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16002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2438280" y="4114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V="1">
            <a:off x="1523880" y="5409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>
            <a:off x="15238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7"/>
          <p:cNvSpPr/>
          <p:nvPr/>
        </p:nvSpPr>
        <p:spPr>
          <a:xfrm>
            <a:off x="2438280" y="5410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ое задание «Определите вид придаточного предложения». Вариант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4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files.school-collection.edu.ru/dlrstore/b2a3c172-155b-442e-ae8b-9dbbf24b2026/%5BRUS9_209%5D_%5BQS_275%5D.htm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9480" y="533520"/>
          <a:ext cx="8001000" cy="556236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 Вид придаточног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 На какой вопрос отвечает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 К чему прикрепляется в главном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 Средства связ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. Есть ли указательные слова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. Позиция по отношению к главно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. Схема или пример предлож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Определительно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Какой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К существительном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оюзные слова (который, что, где, куда и др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Да (тот, такой и др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Фиксированная (всегда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яемого сло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й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+/– ук. слово+сущ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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(союзное слово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торый, куда, , где, что…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Line 41"/>
          <p:cNvSpPr/>
          <p:nvPr/>
        </p:nvSpPr>
        <p:spPr>
          <a:xfrm flipV="1">
            <a:off x="6875640" y="3809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6858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754380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2-03-04T13:56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