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6.jpeg" ContentType="image/jpeg"/>
  <Override PartName="/ppt/media/image24.jpeg" ContentType="image/jpeg"/>
  <Override PartName="/ppt/media/image21.jpeg" ContentType="image/jpeg"/>
  <Override PartName="/ppt/media/image20.jpeg" ContentType="image/jpeg"/>
  <Override PartName="/ppt/media/image18.jpeg" ContentType="image/jpeg"/>
  <Override PartName="/ppt/media/image17.png" ContentType="image/png"/>
  <Override PartName="/ppt/media/image32.jpeg" ContentType="image/jpeg"/>
  <Override PartName="/ppt/media/image19.jpeg" ContentType="image/jpeg"/>
  <Override PartName="/ppt/media/image12.jpeg" ContentType="image/jpeg"/>
  <Override PartName="/ppt/media/image37.jpeg" ContentType="image/jpeg"/>
  <Override PartName="/ppt/media/image29.jpeg" ContentType="image/jpeg"/>
  <Override PartName="/ppt/media/image5.png" ContentType="image/png"/>
  <Override PartName="/ppt/media/image8.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34.jpeg" ContentType="image/jpeg"/>
  <Override PartName="/ppt/media/image7.jpeg" ContentType="image/jpeg"/>
  <Override PartName="/ppt/media/image28.jpeg" ContentType="image/jpeg"/>
  <Override PartName="/ppt/media/image6.png" ContentType="image/png"/>
  <Override PartName="/ppt/media/image3.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34C3E-4824-48A0-9B8B-0629A7C65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3B9E0-0461-4992-A117-BB038FC67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DCB02-C5BE-4A5F-A950-D680A42A4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48DE3-AA55-4422-8B1F-A67964843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BFE21-D58D-4D12-ACA6-3DFE1566A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7FA9C-05F4-435C-BE37-B8303F603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028B5-3816-4E6D-82C8-1D05867C9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A54B6-A684-4190-8F8A-836804DA8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26328-B2A1-477B-8621-8E1986094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6359F-803A-4448-BC55-E5DD9B41B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BA92F-0813-421F-87BA-98D156A46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6F0FA-FA24-4337-A465-173B27944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C0A9A-8076-414E-9FE2-0CDC22143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089B9-36B9-472A-A4CE-0AF29677D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99028-4DD3-4F4B-A5AD-4A5375E8B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6FD6E-8964-4B86-8312-56DAC1CCD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21828-51A9-4957-A5E6-F5081C089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F7D2D-F685-4AE0-91BC-2F979B00E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D8AE9-B1C2-42E4-B69D-A1A9C9F8A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3FC7C-7777-42AB-BFD9-C43393D19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BF199-FDE7-4F53-8407-8C5726297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14C4E-F210-44FA-B2A7-649D6E1C6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189AB-0EFB-4E2F-96BF-8A2798507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7B4A4-D2A6-4CE5-89F8-B8916A98B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AC25-C80A-4EF4-9448-BC54C001D62E}"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3DE1-48E8-4453-A5F5-1FA9BF2DA1FA}"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yandex.ru/yandsearch?p=15&amp;ed=1&amp;text=&#1056;&#1040;&#1050;%20&#1043;&#1054;&#1051;&#1054;&#1042;&#1053;&#1054;&#1043;&#1054;%20&#1052;&#1054;&#1047;&#1043;&#1040;%20%20&#1054;&#1058;%20&#1052;&#1054;&#1041;&#1048;&#1051;&#1068;&#1053;&#1054;&#1043;&#1054;%20&#1058;&#1045;&#1051;&#1045;&#1060;&#1054;&#1053;&#1040;&amp;spsite=007-786535&amp;img_url=www.tvcenter.ru%2Fimages%2F0_77_7726_1202365805.jpg&amp;rpt=simage"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images.yandex.ru/yandsearch?p=16&amp;ed=1&amp;text=&#1056;&#1040;&#1050;%20&#1043;&#1054;&#1051;&#1054;&#1042;&#1053;&#1054;&#1043;&#1054;%20&#1052;&#1054;&#1047;&#1043;&#1040;%20%20&#1054;&#1058;%20&#1052;&#1054;&#1041;&#1048;&#1051;&#1068;&#1053;&#1054;&#1043;&#1054;%20&#1058;&#1045;&#1051;&#1045;&#1060;&#1054;&#1053;&#1040;&amp;spsite=003-1006926&amp;img_url=www.vsesmi.ru%2Fnews_images%2F119650.jpg&amp;rpt=simage" TargetMode="External"/><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images.yandex.ru/yandsearch?p=0&amp;ed=1&amp;text=&#1056;&#1040;&#1050;%20&#1043;&#1054;&#1051;&#1054;&#1042;&#1053;&#1054;&#1043;&#1054;%20&#1052;&#1054;&#1047;&#1043;&#1040;%20%20&#1054;&#1058;%20&#1052;&#1054;&#1041;&#1048;&#1051;&#1068;&#1053;&#1054;&#1043;&#1054;%20&#1058;&#1045;&#1051;&#1045;&#1060;&#1054;&#1053;&#1040;&amp;spsite=007-1030992&amp;img_url=mobilemonkey.ru%2F_pu%2F0%2F71156.jpg&amp;rpt=simage" TargetMode="External"/><Relationship Id="rId3" Type="http://schemas.openxmlformats.org/officeDocument/2006/relationships/image" Target="../media/image19.jpeg"/><Relationship Id="rId4" Type="http://schemas.openxmlformats.org/officeDocument/2006/relationships/hyperlink" Target="http://images.yandex.ru/yandsearch?p=2&amp;ed=1&amp;text=&#1056;&#1040;&#1050;%20&#1043;&#1054;&#1051;&#1054;&#1042;&#1053;&#1054;&#1043;&#1054;%20&#1052;&#1054;&#1047;&#1043;&#1040;%20%20&#1054;&#1058;%20&#1052;&#1054;&#1041;&#1048;&#1051;&#1068;&#1053;&#1054;&#1043;&#1054;%20&#1058;&#1045;&#1051;&#1045;&#1060;&#1054;&#1053;&#1040;&amp;spsite=004-1190839&amp;img_url=www.vci.org%2Fimages%2FEPba1.jpg&amp;rpt=simage" TargetMode="External"/><Relationship Id="rId5" Type="http://schemas.openxmlformats.org/officeDocument/2006/relationships/image" Target="../media/image8.jpeg"/><Relationship Id="rId6" Type="http://schemas.openxmlformats.org/officeDocument/2006/relationships/hyperlink" Target="http://images.yandex.ru/yandsearch?p=3&amp;ed=1&amp;text=&#1056;&#1040;&#1050;%20&#1043;&#1054;&#1051;&#1054;&#1042;&#1053;&#1054;&#1043;&#1054;%20&#1052;&#1054;&#1047;&#1043;&#1040;%20%20&#1054;&#1058;%20&#1052;&#1054;&#1041;&#1048;&#1051;&#1068;&#1053;&#1054;&#1043;&#1054;%20&#1058;&#1045;&#1051;&#1045;&#1060;&#1054;&#1053;&#1040;&amp;spsite=004-1490150&amp;img_url=da-med.ru%2Fimg%2Fdisease%2Fbrain-skeleton3.jpg&amp;rpt=simage" TargetMode="External"/><Relationship Id="rId7" Type="http://schemas.openxmlformats.org/officeDocument/2006/relationships/image" Target="../media/image20.jpeg"/><Relationship Id="rId8" Type="http://schemas.openxmlformats.org/officeDocument/2006/relationships/hyperlink" Target="http://images.yandex.ru/yandsearch?p=4&amp;ed=1&amp;text=&#1056;&#1040;&#1050;%20&#1043;&#1054;&#1051;&#1054;&#1042;&#1053;&#1054;&#1043;&#1054;%20&#1052;&#1054;&#1047;&#1043;&#1040;%20%20&#1054;&#1058;%20&#1052;&#1054;&#1041;&#1048;&#1051;&#1068;&#1053;&#1054;&#1043;&#1054;%20&#1058;&#1045;&#1051;&#1045;&#1060;&#1054;&#1053;&#1040;&amp;spsite=011-1170976&amp;img_url=homotomia.by.ru%2Fbook%2Fanatomia%2FC.N.S%2FCent_nervn_sis_clip_image012.jpg&amp;rpt=simage" TargetMode="External"/><Relationship Id="rId9" Type="http://schemas.openxmlformats.org/officeDocument/2006/relationships/image" Target="../media/image10.jpeg"/><Relationship Id="rId10" Type="http://schemas.openxmlformats.org/officeDocument/2006/relationships/hyperlink" Target="http://images.yandex.ru/yandsearch?p=9&amp;ed=1&amp;text=&#1056;&#1040;&#1050;%20&#1043;&#1054;&#1051;&#1054;&#1042;&#1053;&#1054;&#1043;&#1054;%20&#1052;&#1054;&#1047;&#1043;&#1040;%20%20&#1054;&#1058;%20&#1052;&#1054;&#1041;&#1048;&#1051;&#1068;&#1053;&#1054;&#1043;&#1054;%20&#1058;&#1045;&#1051;&#1045;&#1060;&#1054;&#1053;&#1040;&amp;spsite=002-851990&amp;img_url=www.moskvamed.ru%2Fmri-head.jpg&amp;rpt=simage" TargetMode="External"/><Relationship Id="rId11" Type="http://schemas.openxmlformats.org/officeDocument/2006/relationships/image" Target="../media/image21.jpeg"/><Relationship Id="rId12" Type="http://schemas.openxmlformats.org/officeDocument/2006/relationships/hyperlink" Target="http://images.yandex.ru/yandsearch?p=10&amp;ed=1&amp;text=&#1056;&#1040;&#1050;%20&#1043;&#1054;&#1051;&#1054;&#1042;&#1053;&#1054;&#1043;&#1054;%20&#1052;&#1054;&#1047;&#1043;&#1040;%20%20&#1054;&#1058;%20&#1052;&#1054;&#1041;&#1048;&#1051;&#1068;&#1053;&#1054;&#1043;&#1054;%20&#1058;&#1045;&#1051;&#1045;&#1060;&#1054;&#1053;&#1040;&amp;spsite=001-697137&amp;img_url=www.thg.ru%2Ftechnews%2Fimages%2F20050817-brain.jpg&amp;rpt=simage" TargetMode="External"/><Relationship Id="rId13" Type="http://schemas.openxmlformats.org/officeDocument/2006/relationships/image" Target="../media/image22.jpeg"/><Relationship Id="rId14" Type="http://schemas.openxmlformats.org/officeDocument/2006/relationships/hyperlink" Target="http://images.yandex.ru/yandsearch?p=13&amp;ed=1&amp;text=&#1056;&#1040;&#1050;%20&#1043;&#1054;&#1051;&#1054;&#1042;&#1053;&#1054;&#1043;&#1054;%20&#1052;&#1054;&#1047;&#1043;&#1040;%20%20&#1054;&#1058;%20&#1052;&#1054;&#1041;&#1048;&#1051;&#1068;&#1053;&#1054;&#1043;&#1054;%20&#1058;&#1045;&#1051;&#1045;&#1060;&#1054;&#1053;&#1040;&amp;spsite=forum.rapprotest.ru&amp;img_url=old.consilium-medicum.com%2Fmedia%2Fonkology%2F05_02%2F67_4.jpg&amp;rpt=simage" TargetMode="External"/><Relationship Id="rId15" Type="http://schemas.openxmlformats.org/officeDocument/2006/relationships/image" Target="../media/image23.jpeg"/><Relationship Id="rId16" Type="http://schemas.openxmlformats.org/officeDocument/2006/relationships/hyperlink" Target="http://images.yandex.ru/yandsearch?p=14&amp;ed=1&amp;text=&#1056;&#1040;&#1050;%20&#1043;&#1054;&#1051;&#1054;&#1042;&#1053;&#1054;&#1043;&#1054;%20&#1052;&#1054;&#1047;&#1043;&#1040;%20%20&#1054;&#1058;%20&#1052;&#1054;&#1041;&#1048;&#1051;&#1068;&#1053;&#1054;&#1043;&#1054;%20&#1058;&#1045;&#1051;&#1045;&#1060;&#1054;&#1053;&#1040;&amp;spsite=010-383471&amp;img_url=www.gizmos.pl%2Fimg%2Fkomorkawogniu.jpg&amp;rpt=simage" TargetMode="External"/><Relationship Id="rId17" Type="http://schemas.openxmlformats.org/officeDocument/2006/relationships/image" Target="../media/image24.jpeg"/><Relationship Id="rId18" Type="http://schemas.openxmlformats.org/officeDocument/2006/relationships/hyperlink" Target="http://images.yandex.ru/yandsearch?p=17&amp;ed=1&amp;text=&#1056;&#1040;&#1050;%20&#1043;&#1054;&#1051;&#1054;&#1042;&#1053;&#1054;&#1043;&#1054;%20&#1052;&#1054;&#1047;&#1043;&#1040;%20%20&#1054;&#1058;%20&#1052;&#1054;&#1041;&#1048;&#1051;&#1068;&#1053;&#1054;&#1043;&#1054;%20&#1058;&#1045;&#1051;&#1045;&#1060;&#1054;&#1053;&#1040;&amp;spsite=004-627684&amp;img_url=www.bookin.org.ru%2Fbooks%2Fimg%2F910614023.jpg&amp;rpt=simage" TargetMode="External"/><Relationship Id="rId19" Type="http://schemas.openxmlformats.org/officeDocument/2006/relationships/image" Target="../media/image25.jpeg"/><Relationship Id="rId20" Type="http://schemas.openxmlformats.org/officeDocument/2006/relationships/hyperlink" Target="http://images.yandex.ru/yandsearch?p=19&amp;ed=1&amp;text=&#1056;&#1040;&#1050;%20&#1043;&#1054;&#1051;&#1054;&#1042;&#1053;&#1054;&#1043;&#1054;%20&#1052;&#1054;&#1047;&#1043;&#1040;%20%20&#1054;&#1058;%20&#1052;&#1054;&#1041;&#1048;&#1051;&#1068;&#1053;&#1054;&#1043;&#1054;%20&#1058;&#1045;&#1051;&#1045;&#1060;&#1054;&#1053;&#1040;&amp;spsite=002-973307&amp;img_url=allday.ru%2Fuploads%2Fposts%2F2008-10%2F1222830061_child_14.jpg&amp;rpt=simage" TargetMode="External"/><Relationship Id="rId21" Type="http://schemas.openxmlformats.org/officeDocument/2006/relationships/image" Target="../media/image26.jpeg"/><Relationship Id="rId22" Type="http://schemas.openxmlformats.org/officeDocument/2006/relationships/hyperlink" Target="http://images.yandex.ru/yandsearch?p=20&amp;ed=1&amp;text=&#1056;&#1040;&#1050;%20&#1043;&#1054;&#1051;&#1054;&#1042;&#1053;&#1054;&#1043;&#1054;%20&#1052;&#1054;&#1047;&#1043;&#1040;%20%20&#1054;&#1058;%20&#1052;&#1054;&#1041;&#1048;&#1051;&#1068;&#1053;&#1054;&#1043;&#1054;%20&#1058;&#1045;&#1051;&#1045;&#1060;&#1054;&#1053;&#1040;&amp;spsite=011-1044761&amp;img_url=allday.ru%2Fuploads%2Fposts%2F2008-10%2F1222830012_child_13.jpg&amp;rpt=simage" TargetMode="External"/><Relationship Id="rId23" Type="http://schemas.openxmlformats.org/officeDocument/2006/relationships/image" Target="../media/image27.jpeg"/><Relationship Id="rId24" Type="http://schemas.openxmlformats.org/officeDocument/2006/relationships/hyperlink" Target="http://images.yandex.ru/yandsearch?p=21&amp;ed=1&amp;text=&#1056;&#1040;&#1050;%20&#1043;&#1054;&#1051;&#1054;&#1042;&#1053;&#1054;&#1043;&#1054;%20&#1052;&#1054;&#1047;&#1043;&#1040;%20%20&#1054;&#1058;%20&#1052;&#1054;&#1041;&#1048;&#1051;&#1068;&#1053;&#1054;&#1043;&#1054;%20&#1058;&#1045;&#1051;&#1045;&#1060;&#1054;&#1053;&#1040;&amp;spsite=004-1357189&amp;img_url=poletx.char.ru%2Fbooks%2F_j25000393543.jpg&amp;rpt=simage" TargetMode="External"/><Relationship Id="rId25" Type="http://schemas.openxmlformats.org/officeDocument/2006/relationships/image" Target="../media/image28.jpeg"/><Relationship Id="rId26" Type="http://schemas.openxmlformats.org/officeDocument/2006/relationships/hyperlink" Target="http://images.yandex.ru/yandsearch?p=23&amp;ed=1&amp;text=&#1056;&#1040;&#1050;%20&#1043;&#1054;&#1051;&#1054;&#1042;&#1053;&#1054;&#1043;&#1054;%20&#1052;&#1054;&#1047;&#1043;&#1040;%20%20&#1054;&#1058;%20&#1052;&#1054;&#1041;&#1048;&#1051;&#1068;&#1053;&#1054;&#1043;&#1054;%20&#1058;&#1045;&#1051;&#1045;&#1060;&#1054;&#1053;&#1040;&amp;spsite=001-521804&amp;img_url=media.damochka.ru%2Fimages%2Fdnevnik%2F776%2F773776%2F3.1211614925.jpg&amp;rpt=simage" TargetMode="External"/><Relationship Id="rId27" Type="http://schemas.openxmlformats.org/officeDocument/2006/relationships/image" Target="../media/image29.jpeg"/><Relationship Id="rId28" Type="http://schemas.openxmlformats.org/officeDocument/2006/relationships/hyperlink" Target="http://images.yandex.ru/yandsearch?p=24&amp;ed=1&amp;text=&#1056;&#1040;&#1050;%20&#1043;&#1054;&#1051;&#1054;&#1042;&#1053;&#1054;&#1043;&#1054;%20&#1052;&#1054;&#1047;&#1043;&#1040;%20%20&#1054;&#1058;%20&#1052;&#1054;&#1041;&#1048;&#1051;&#1068;&#1053;&#1054;&#1043;&#1054;%20&#1058;&#1045;&#1051;&#1045;&#1060;&#1054;&#1053;&#1040;&amp;spsite=011-482571&amp;img_url=www.portal.lg.ua%2Fimages%2Fstories%2Fnews%2Fmed%2F2975.jpg&amp;rpt=simage" TargetMode="External"/><Relationship Id="rId29" Type="http://schemas.openxmlformats.org/officeDocument/2006/relationships/image" Target="../media/image30.jpeg"/><Relationship Id="rId3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yandex.ru/yandsearch?p=1&amp;ed=1&amp;text=&#1056;&#1040;&#1050;%20&#1043;&#1054;&#1051;&#1054;&#1042;&#1053;&#1054;&#1043;&#1054;%20&#1052;&#1054;&#1047;&#1043;&#1040;%20%20&#1054;&#1058;%20&#1052;&#1054;&#1041;&#1048;&#1051;&#1068;&#1053;&#1054;&#1043;&#1054;%20&#1058;&#1045;&#1051;&#1045;&#1060;&#1054;&#1053;&#1040;&amp;spsite=001-649897&amp;img_url=www.medtrust.ru%2Fi%2Fu%2F1170323975468__talking-phone.jpg&amp;rpt=simage" TargetMode="External"/><Relationship Id="rId2" Type="http://schemas.openxmlformats.org/officeDocument/2006/relationships/image" Target="../media/image31.jpeg"/><Relationship Id="rId3" Type="http://schemas.openxmlformats.org/officeDocument/2006/relationships/hyperlink" Target="http://images.yandex.ru/yandsearch?p=7&amp;ed=1&amp;text=&#1056;&#1040;&#1050;%20&#1043;&#1054;&#1051;&#1054;&#1042;&#1053;&#1054;&#1043;&#1054;%20&#1052;&#1054;&#1047;&#1043;&#1040;%20%20&#1054;&#1058;%20&#1052;&#1054;&#1041;&#1048;&#1051;&#1068;&#1053;&#1054;&#1043;&#1054;%20&#1058;&#1045;&#1051;&#1045;&#1060;&#1054;&#1053;&#1040;&amp;spsite=www.med74.ru&amp;img_url=art5.karelia.ru%2Fphoto%2F16%2F166%2F20357.jpg&amp;rpt=simage" TargetMode="External"/><Relationship Id="rId4" Type="http://schemas.openxmlformats.org/officeDocument/2006/relationships/image" Target="../media/image32.jpeg"/><Relationship Id="rId5" Type="http://schemas.openxmlformats.org/officeDocument/2006/relationships/hyperlink" Target="http://images.yandex.ru/yandsearch?p=16&amp;ed=1&amp;text=&#1056;&#1040;&#1050;%20&#1043;&#1054;&#1051;&#1054;&#1042;&#1053;&#1054;&#1043;&#1054;%20&#1052;&#1054;&#1047;&#1043;&#1040;%20%20&#1054;&#1058;%20&#1052;&#1054;&#1041;&#1048;&#1051;&#1068;&#1053;&#1054;&#1043;&#1054;%20&#1058;&#1045;&#1051;&#1045;&#1060;&#1054;&#1053;&#1040;&amp;spsite=003-1006926&amp;img_url=www.vsesmi.ru%2Fnews_images%2F119650.jpg&amp;rpt=simage" TargetMode="External"/><Relationship Id="rId6" Type="http://schemas.openxmlformats.org/officeDocument/2006/relationships/image" Target="../media/image15.jpeg"/><Relationship Id="rId7" Type="http://schemas.openxmlformats.org/officeDocument/2006/relationships/hyperlink" Target="http://images.yandex.ru/yandsearch?p=8&amp;ed=1&amp;text=&#1056;&#1040;&#1050;%20&#1043;&#1054;&#1051;&#1054;&#1042;&#1053;&#1054;&#1043;&#1054;%20&#1052;&#1054;&#1047;&#1043;&#1040;%20%20&#1054;&#1058;%20&#1052;&#1054;&#1041;&#1048;&#1051;&#1068;&#1053;&#1054;&#1043;&#1054;%20&#1058;&#1045;&#1051;&#1045;&#1060;&#1054;&#1053;&#1040;&amp;spsite=014-457029&amp;img_url=uralpress.ru%2Fshow_thumbinail.php%3Fw%3D768%26image%3Dimg%2F86890_mobile_1.jpg&amp;rpt=simage" TargetMode="External"/><Relationship Id="rId8" Type="http://schemas.openxmlformats.org/officeDocument/2006/relationships/image" Target="../media/image33.jpeg"/><Relationship Id="rId9" Type="http://schemas.openxmlformats.org/officeDocument/2006/relationships/hyperlink" Target="http://images.yandex.ru/yandsearch?p=18&amp;ed=1&amp;text=&#1056;&#1040;&#1050;%20&#1043;&#1054;&#1051;&#1054;&#1042;&#1053;&#1054;&#1043;&#1054;%20&#1052;&#1054;&#1047;&#1043;&#1040;%20%20&#1054;&#1058;%20&#1052;&#1054;&#1041;&#1048;&#1051;&#1068;&#1053;&#1054;&#1043;&#1054;%20&#1058;&#1045;&#1051;&#1045;&#1060;&#1054;&#1053;&#1040;&amp;spsite=001-580389&amp;img_url=img.ria.ua%2Fphotos%2Fria%2Fnews_common%2F7%2F792%2F79248%2F79248m.jpg&amp;rpt=simage" TargetMode="External"/><Relationship Id="rId10" Type="http://schemas.openxmlformats.org/officeDocument/2006/relationships/image" Target="../media/image34.jpeg"/><Relationship Id="rId11" Type="http://schemas.openxmlformats.org/officeDocument/2006/relationships/hyperlink" Target="http://images.yandex.ru/yandsearch?p=22&amp;ed=1&amp;text=&#1056;&#1040;&#1050;%20&#1043;&#1054;&#1051;&#1054;&#1042;&#1053;&#1054;&#1043;&#1054;%20&#1052;&#1054;&#1047;&#1043;&#1040;%20%20&#1054;&#1058;%20&#1052;&#1054;&#1041;&#1048;&#1051;&#1068;&#1053;&#1054;&#1043;&#1054;%20&#1058;&#1045;&#1051;&#1045;&#1060;&#1054;&#1053;&#1040;&amp;spsite=www.psychology-guide.ru&amp;img_url=www.svoypsycholog.ru%2Fdata%2Fupload%2Fpublication%2Fmain%2Fru%2F704%2Fdavidovazoa-b.jpg&amp;rpt=simage" TargetMode="External"/><Relationship Id="rId12" Type="http://schemas.openxmlformats.org/officeDocument/2006/relationships/image" Target="../media/image35.jpeg"/><Relationship Id="rId13" Type="http://schemas.openxmlformats.org/officeDocument/2006/relationships/hyperlink" Target="http://images.yandex.ru/yandsearch?p=15&amp;ed=1&amp;text=&#1056;&#1040;&#1050;%20&#1043;&#1054;&#1051;&#1054;&#1042;&#1053;&#1054;&#1043;&#1054;%20&#1052;&#1054;&#1047;&#1043;&#1040;%20%20&#1054;&#1058;%20&#1052;&#1054;&#1041;&#1048;&#1051;&#1068;&#1053;&#1054;&#1043;&#1054;%20&#1058;&#1045;&#1051;&#1045;&#1060;&#1054;&#1053;&#1040;&amp;spsite=007-786535&amp;img_url=www.tvcenter.ru%2Fimages%2F0_77_7726_1202365805.jpg&amp;rpt=simage" TargetMode="External"/><Relationship Id="rId14" Type="http://schemas.openxmlformats.org/officeDocument/2006/relationships/image" Target="../media/image13.jpeg"/><Relationship Id="rId15" Type="http://schemas.openxmlformats.org/officeDocument/2006/relationships/image" Target="../media/image36.jpeg"/><Relationship Id="rId16" Type="http://schemas.openxmlformats.org/officeDocument/2006/relationships/image" Target="../media/image37.jpeg"/><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mages.yandex.ru/yandsearch?p=2&amp;ed=1&amp;text=&#1056;&#1040;&#1050;%20&#1043;&#1054;&#1051;&#1054;&#1042;&#1053;&#1054;&#1043;&#1054;%20&#1052;&#1054;&#1047;&#1043;&#1040;%20%20&#1054;&#1058;%20&#1052;&#1054;&#1041;&#1048;&#1051;&#1068;&#1053;&#1054;&#1043;&#1054;%20&#1058;&#1045;&#1051;&#1045;&#1060;&#1054;&#1053;&#1040;&amp;spsite=004-1190839&amp;img_url=www.vci.org%2Fimages%2FEPba1.jpg&amp;rpt=simage"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0" name="" descr="Девушка с мобильным телефоном"/>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179280" y="0"/>
            <a:ext cx="87138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987280" y="277920"/>
            <a:ext cx="5699160" cy="624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Но с другой стороны:</a:t>
            </a:r>
            <a:br>
              <a:rPr sz="2000"/>
            </a:br>
            <a:r>
              <a:rPr b="0" lang="en-US" sz="4000" spc="-1" strike="noStrike">
                <a:solidFill>
                  <a:srgbClr val="c4c3aa"/>
                </a:solidFill>
                <a:latin typeface="Arial"/>
              </a:rPr>
              <a:t>    </a:t>
            </a:r>
            <a:r>
              <a:rPr b="0" lang="en-US" sz="2000" spc="-1" strike="noStrike">
                <a:solidFill>
                  <a:srgbClr val="ff0000"/>
                </a:solidFill>
                <a:latin typeface="Arial"/>
              </a:rPr>
              <a:t>Так, совсем недавно (28.06.00) Всемирная Организация Здравоохранения опубликовала свои рекомендации по вопросу безопасности сотовых телефонов</a:t>
            </a:r>
            <a:r>
              <a:rPr b="0" lang="en-US" sz="4000" spc="-1" strike="noStrike">
                <a:solidFill>
                  <a:srgbClr val="ff0000"/>
                </a:solidFill>
                <a:latin typeface="Arial"/>
              </a:rPr>
              <a:t> </a:t>
            </a:r>
            <a:br>
              <a:rPr sz="4000"/>
            </a:br>
            <a:r>
              <a:rPr b="0" lang="en-US" sz="2000" spc="-1" strike="noStrike">
                <a:solidFill>
                  <a:srgbClr val="ff0000"/>
                </a:solidFill>
                <a:latin typeface="Arial"/>
              </a:rPr>
              <a:t>В рекомендациях отмечается, что на сегодняшний день нет убедительных доказательств о связи использования мобильных телефонов с развитием раковых или других серьезных заболеваний.</a:t>
            </a:r>
            <a:r>
              <a:rPr b="0" lang="en-US" sz="4000" spc="-1" strike="noStrike">
                <a:solidFill>
                  <a:srgbClr val="ff0000"/>
                </a:solidFill>
                <a:latin typeface="Arial"/>
              </a:rPr>
              <a:t> </a:t>
            </a:r>
            <a:br>
              <a:rPr sz="4000"/>
            </a:br>
            <a:r>
              <a:rPr b="0" lang="en-US" sz="4000" spc="-1" strike="noStrike">
                <a:solidFill>
                  <a:srgbClr val="ff0000"/>
                </a:solidFill>
                <a:latin typeface="Arial"/>
              </a:rPr>
              <a:t> </a:t>
            </a:r>
            <a:r>
              <a:rPr b="0" lang="en-US" sz="2000" spc="-1" strike="noStrike">
                <a:solidFill>
                  <a:srgbClr val="ff0000"/>
                </a:solidFill>
                <a:latin typeface="Arial"/>
              </a:rPr>
              <a:t>Негативные эффекты вроде замедления времени реакции или расстройств сна также признаны не подтвержденными научно. Таким образом, в рекомендациях указано, что никакие особые меры безопасности по отношению к сотовым телефонам применяться не</a:t>
            </a:r>
            <a:r>
              <a:rPr b="0" lang="en-US" sz="4000" spc="-1" strike="noStrike">
                <a:solidFill>
                  <a:srgbClr val="ff0000"/>
                </a:solidFill>
                <a:latin typeface="Arial"/>
              </a:rPr>
              <a:t> </a:t>
            </a:r>
            <a:r>
              <a:rPr b="0" lang="en-US" sz="2000" spc="-1" strike="noStrike">
                <a:solidFill>
                  <a:srgbClr val="ff0000"/>
                </a:solidFill>
                <a:latin typeface="Arial"/>
              </a:rPr>
              <a:t>должны.</a:t>
            </a:r>
            <a:r>
              <a:rPr b="0" lang="en-US" sz="4000" spc="-1" strike="noStrike">
                <a:solidFill>
                  <a:srgbClr val="c4c3aa"/>
                </a:solidFill>
                <a:latin typeface="Arial"/>
              </a:rPr>
              <a:t> </a:t>
            </a:r>
            <a:endParaRPr b="0" lang="en-US" sz="4000" spc="-1" strike="noStrike">
              <a:solidFill>
                <a:srgbClr val="c4c3aa"/>
              </a:solidFill>
              <a:latin typeface="Arial"/>
            </a:endParaRPr>
          </a:p>
        </p:txBody>
      </p:sp>
      <p:pic>
        <p:nvPicPr>
          <p:cNvPr id="353" name="" descr=""/>
          <p:cNvPicPr/>
          <p:nvPr/>
        </p:nvPicPr>
        <p:blipFill>
          <a:blip r:embed="rId1"/>
          <a:stretch/>
        </p:blipFill>
        <p:spPr>
          <a:xfrm>
            <a:off x="395280" y="260280"/>
            <a:ext cx="2413080" cy="2413080"/>
          </a:xfrm>
          <a:prstGeom prst="rect">
            <a:avLst/>
          </a:prstGeom>
          <a:ln w="0">
            <a:noFill/>
          </a:ln>
        </p:spPr>
      </p:pic>
      <p:pic>
        <p:nvPicPr>
          <p:cNvPr id="354" name="" descr="">
            <a:hlinkClick r:id="rId2"/>
          </p:cNvPr>
          <p:cNvPicPr/>
          <p:nvPr/>
        </p:nvPicPr>
        <p:blipFill>
          <a:blip r:embed="rId3"/>
          <a:stretch/>
        </p:blipFill>
        <p:spPr>
          <a:xfrm>
            <a:off x="395280" y="3213000"/>
            <a:ext cx="2376360" cy="288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2916000" y="404640"/>
            <a:ext cx="5770440" cy="572616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В то же время последние исследования в Японии показали, что использование мобильных телефонов не приводит к образованию раковых опухолей.</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en-US" sz="2000" spc="-1" strike="noStrike">
                <a:solidFill>
                  <a:srgbClr val="ff0000"/>
                </a:solidFill>
                <a:latin typeface="Verdana"/>
              </a:rPr>
              <a:t>Медики обследовали 683 здоровых человека и 322 пациента, больных распространенными раковыми опухолями мозга. Изучив влияние уровней радиации на различные части мозга, ученые Токийского женского медицинского университета сделали однозначный вывод: увеличения возможности возникновения рака мозга среди постоянных пользователей мобильных телефонов не существует.</a:t>
            </a:r>
            <a:endParaRPr b="0" lang="en-US" sz="2000" spc="-1" strike="noStrike">
              <a:solidFill>
                <a:srgbClr val="ffffff"/>
              </a:solidFill>
              <a:latin typeface="Verdana"/>
            </a:endParaRPr>
          </a:p>
        </p:txBody>
      </p:sp>
      <p:pic>
        <p:nvPicPr>
          <p:cNvPr id="356" name="" descr=""/>
          <p:cNvPicPr/>
          <p:nvPr/>
        </p:nvPicPr>
        <p:blipFill>
          <a:blip r:embed="rId1"/>
          <a:stretch/>
        </p:blipFill>
        <p:spPr>
          <a:xfrm>
            <a:off x="250920" y="404640"/>
            <a:ext cx="2733480" cy="4705560"/>
          </a:xfrm>
          <a:prstGeom prst="rect">
            <a:avLst/>
          </a:prstGeom>
          <a:ln w="0">
            <a:noFill/>
          </a:ln>
        </p:spPr>
      </p:pic>
      <p:pic>
        <p:nvPicPr>
          <p:cNvPr id="357" name="" descr="">
            <a:hlinkClick r:id="rId2"/>
          </p:cNvPr>
          <p:cNvPicPr/>
          <p:nvPr/>
        </p:nvPicPr>
        <p:blipFill>
          <a:blip r:embed="rId3"/>
          <a:stretch/>
        </p:blipFill>
        <p:spPr>
          <a:xfrm>
            <a:off x="5651640" y="4508640"/>
            <a:ext cx="3095640" cy="216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95280" y="0"/>
            <a:ext cx="83534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68360" y="404640"/>
            <a:ext cx="8229600" cy="5654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При выполнении проектно – исследовательской работы на тему: «Влияние мобильного телефона на здоровье человека» я на основании исследований, проведенных учеными, попыталась определить как влияет мобильный телефон на здоровье человека. Однозначного ответа на этот вопрос дать нельзя. Выводы ученых противоречивы. </a:t>
            </a:r>
            <a:endParaRPr b="0" lang="en-US" sz="2000" spc="-1" strike="noStrike">
              <a:solidFill>
                <a:srgbClr val="ffffff"/>
              </a:solidFill>
              <a:latin typeface="Verdana"/>
            </a:endParaRPr>
          </a:p>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Но одно я выяснила точно: электромагнитные волны, идущие от телефона, оказывают отрицательное воздействие на детский организм. Если на взрослого человека небольшая доза облучения ни окажет никакого влияния, то для ребенка даже малая доза облучения вредна. Поэтому лучше не рисковать и постараться ограничить пользование ребенка мобильным телефоном.</a:t>
            </a:r>
            <a:endParaRPr b="0" lang="en-US" sz="2000" spc="-1" strike="noStrike">
              <a:solidFill>
                <a:srgbClr val="ffffff"/>
              </a:solidFill>
              <a:latin typeface="Verdana"/>
            </a:endParaRPr>
          </a:p>
        </p:txBody>
      </p:sp>
      <p:sp>
        <p:nvSpPr>
          <p:cNvPr id="360" name=""/>
          <p:cNvSpPr txBox="1"/>
          <p:nvPr/>
        </p:nvSpPr>
        <p:spPr>
          <a:xfrm>
            <a:off x="2340000" y="260280"/>
            <a:ext cx="4392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Вывод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0" y="2060640"/>
            <a:ext cx="2268360" cy="1439640"/>
          </a:xfrm>
          <a:prstGeom prst="rect">
            <a:avLst/>
          </a:prstGeom>
          <a:ln w="0">
            <a:noFill/>
          </a:ln>
        </p:spPr>
      </p:pic>
      <p:sp>
        <p:nvSpPr>
          <p:cNvPr id="362" name=""/>
          <p:cNvSpPr/>
          <p:nvPr/>
        </p:nvSpPr>
        <p:spPr>
          <a:xfrm>
            <a:off x="0" y="0"/>
            <a:ext cx="8869320" cy="360"/>
          </a:xfrm>
          <a:prstGeom prst="rect">
            <a:avLst/>
          </a:prstGeom>
          <a:noFill/>
          <a:ln w="0">
            <a:noFill/>
          </a:ln>
        </p:spPr>
        <p:style>
          <a:lnRef idx="0"/>
          <a:fillRef idx="0"/>
          <a:effectRef idx="0"/>
          <a:fontRef idx="minor"/>
        </p:style>
        <p:txBody>
          <a:bodyPr wrap="none" lIns="4294797480" rIns="4294957680" tIns="-4294957320" bIns="-78840" anchor="ctr">
            <a:spAutoFit/>
          </a:bodyPr>
          <a:p>
            <a:endParaRPr b="0" lang="en-US" sz="1800" spc="-1" strike="noStrike">
              <a:solidFill>
                <a:srgbClr val="ffffff"/>
              </a:solidFill>
              <a:latin typeface="Arial"/>
            </a:endParaRPr>
          </a:p>
        </p:txBody>
      </p:sp>
      <p:sp>
        <p:nvSpPr>
          <p:cNvPr id="363" name=""/>
          <p:cNvSpPr/>
          <p:nvPr/>
        </p:nvSpPr>
        <p:spPr>
          <a:xfrm>
            <a:off x="0" y="0"/>
            <a:ext cx="9144000" cy="360"/>
          </a:xfrm>
          <a:prstGeom prst="rect">
            <a:avLst/>
          </a:prstGeom>
          <a:noFill/>
          <a:ln w="0">
            <a:noFill/>
          </a:ln>
        </p:spPr>
        <p:style>
          <a:lnRef idx="0"/>
          <a:fillRef idx="0"/>
          <a:effectRef idx="0"/>
          <a:fontRef idx="minor"/>
        </p:style>
        <p:txBody>
          <a:bodyPr wrap="none" lIns="4294797480" rIns="4294957680" tIns="-4294957320" bIns="360" anchor="ctr">
            <a:spAutoFit/>
          </a:bodyPr>
          <a:p>
            <a:endParaRPr b="0" lang="en-US" sz="1800" spc="-1" strike="noStrike">
              <a:solidFill>
                <a:srgbClr val="ffffff"/>
              </a:solidFill>
              <a:latin typeface="Arial"/>
            </a:endParaRPr>
          </a:p>
        </p:txBody>
      </p:sp>
      <p:pic>
        <p:nvPicPr>
          <p:cNvPr id="364" name="" descr="">
            <a:hlinkClick r:id="rId2"/>
          </p:cNvPr>
          <p:cNvPicPr/>
          <p:nvPr/>
        </p:nvPicPr>
        <p:blipFill>
          <a:blip r:embed="rId3"/>
          <a:stretch/>
        </p:blipFill>
        <p:spPr>
          <a:xfrm>
            <a:off x="0" y="0"/>
            <a:ext cx="2268360" cy="1989000"/>
          </a:xfrm>
          <a:prstGeom prst="rect">
            <a:avLst/>
          </a:prstGeom>
          <a:ln w="0">
            <a:noFill/>
          </a:ln>
        </p:spPr>
      </p:pic>
      <p:pic>
        <p:nvPicPr>
          <p:cNvPr id="365" name="" descr="">
            <a:hlinkClick r:id="rId4"/>
          </p:cNvPr>
          <p:cNvPicPr/>
          <p:nvPr/>
        </p:nvPicPr>
        <p:blipFill>
          <a:blip r:embed="rId5"/>
          <a:stretch/>
        </p:blipFill>
        <p:spPr>
          <a:xfrm>
            <a:off x="0" y="3500280"/>
            <a:ext cx="2340000" cy="1441440"/>
          </a:xfrm>
          <a:prstGeom prst="rect">
            <a:avLst/>
          </a:prstGeom>
          <a:ln w="0">
            <a:noFill/>
          </a:ln>
        </p:spPr>
      </p:pic>
      <p:pic>
        <p:nvPicPr>
          <p:cNvPr id="366" name="" descr="">
            <a:hlinkClick r:id="rId6"/>
          </p:cNvPr>
          <p:cNvPicPr/>
          <p:nvPr/>
        </p:nvPicPr>
        <p:blipFill>
          <a:blip r:embed="rId7"/>
          <a:stretch/>
        </p:blipFill>
        <p:spPr>
          <a:xfrm>
            <a:off x="7020000" y="2708280"/>
            <a:ext cx="1944720" cy="1800360"/>
          </a:xfrm>
          <a:prstGeom prst="rect">
            <a:avLst/>
          </a:prstGeom>
          <a:ln w="0">
            <a:noFill/>
          </a:ln>
        </p:spPr>
      </p:pic>
      <p:pic>
        <p:nvPicPr>
          <p:cNvPr id="367" name="" descr="">
            <a:hlinkClick r:id="rId8"/>
          </p:cNvPr>
          <p:cNvPicPr/>
          <p:nvPr/>
        </p:nvPicPr>
        <p:blipFill>
          <a:blip r:embed="rId9"/>
          <a:stretch/>
        </p:blipFill>
        <p:spPr>
          <a:xfrm>
            <a:off x="6588000" y="0"/>
            <a:ext cx="2556000" cy="2637000"/>
          </a:xfrm>
          <a:prstGeom prst="rect">
            <a:avLst/>
          </a:prstGeom>
          <a:ln w="0">
            <a:noFill/>
          </a:ln>
        </p:spPr>
      </p:pic>
      <p:pic>
        <p:nvPicPr>
          <p:cNvPr id="368" name="" descr="">
            <a:hlinkClick r:id="rId10"/>
          </p:cNvPr>
          <p:cNvPicPr/>
          <p:nvPr/>
        </p:nvPicPr>
        <p:blipFill>
          <a:blip r:embed="rId11"/>
          <a:stretch/>
        </p:blipFill>
        <p:spPr>
          <a:xfrm>
            <a:off x="1979640" y="4941720"/>
            <a:ext cx="1859040" cy="1916280"/>
          </a:xfrm>
          <a:prstGeom prst="rect">
            <a:avLst/>
          </a:prstGeom>
          <a:ln w="0">
            <a:noFill/>
          </a:ln>
        </p:spPr>
      </p:pic>
      <p:pic>
        <p:nvPicPr>
          <p:cNvPr id="369" name="" descr="">
            <a:hlinkClick r:id="rId12"/>
          </p:cNvPr>
          <p:cNvPicPr/>
          <p:nvPr/>
        </p:nvPicPr>
        <p:blipFill>
          <a:blip r:embed="rId13"/>
          <a:stretch/>
        </p:blipFill>
        <p:spPr>
          <a:xfrm>
            <a:off x="2484360" y="189000"/>
            <a:ext cx="990720" cy="1228680"/>
          </a:xfrm>
          <a:prstGeom prst="rect">
            <a:avLst/>
          </a:prstGeom>
          <a:ln w="0">
            <a:noFill/>
          </a:ln>
        </p:spPr>
      </p:pic>
      <p:pic>
        <p:nvPicPr>
          <p:cNvPr id="370" name="" descr="">
            <a:hlinkClick r:id="rId14"/>
          </p:cNvPr>
          <p:cNvPicPr/>
          <p:nvPr/>
        </p:nvPicPr>
        <p:blipFill>
          <a:blip r:embed="rId15"/>
          <a:stretch/>
        </p:blipFill>
        <p:spPr>
          <a:xfrm>
            <a:off x="0" y="5013360"/>
            <a:ext cx="1908000" cy="1844640"/>
          </a:xfrm>
          <a:prstGeom prst="rect">
            <a:avLst/>
          </a:prstGeom>
          <a:ln w="0">
            <a:noFill/>
          </a:ln>
        </p:spPr>
      </p:pic>
      <p:pic>
        <p:nvPicPr>
          <p:cNvPr id="371" name="" descr="">
            <a:hlinkClick r:id="rId16"/>
          </p:cNvPr>
          <p:cNvPicPr/>
          <p:nvPr/>
        </p:nvPicPr>
        <p:blipFill>
          <a:blip r:embed="rId17"/>
          <a:stretch/>
        </p:blipFill>
        <p:spPr>
          <a:xfrm>
            <a:off x="4716360" y="2205000"/>
            <a:ext cx="1276560" cy="961920"/>
          </a:xfrm>
          <a:prstGeom prst="rect">
            <a:avLst/>
          </a:prstGeom>
          <a:ln w="0">
            <a:noFill/>
          </a:ln>
        </p:spPr>
      </p:pic>
      <p:pic>
        <p:nvPicPr>
          <p:cNvPr id="372" name="" descr="">
            <a:hlinkClick r:id="rId18"/>
          </p:cNvPr>
          <p:cNvPicPr/>
          <p:nvPr/>
        </p:nvPicPr>
        <p:blipFill>
          <a:blip r:embed="rId19"/>
          <a:stretch/>
        </p:blipFill>
        <p:spPr>
          <a:xfrm>
            <a:off x="2627280" y="1700280"/>
            <a:ext cx="847800" cy="1342800"/>
          </a:xfrm>
          <a:prstGeom prst="rect">
            <a:avLst/>
          </a:prstGeom>
          <a:ln w="0">
            <a:noFill/>
          </a:ln>
        </p:spPr>
      </p:pic>
      <p:pic>
        <p:nvPicPr>
          <p:cNvPr id="373" name="" descr="">
            <a:hlinkClick r:id="rId20"/>
          </p:cNvPr>
          <p:cNvPicPr/>
          <p:nvPr/>
        </p:nvPicPr>
        <p:blipFill>
          <a:blip r:embed="rId21"/>
          <a:stretch/>
        </p:blipFill>
        <p:spPr>
          <a:xfrm>
            <a:off x="2556000" y="3141720"/>
            <a:ext cx="2087280" cy="1655640"/>
          </a:xfrm>
          <a:prstGeom prst="rect">
            <a:avLst/>
          </a:prstGeom>
          <a:ln w="0">
            <a:noFill/>
          </a:ln>
        </p:spPr>
      </p:pic>
      <p:pic>
        <p:nvPicPr>
          <p:cNvPr id="374" name="" descr="">
            <a:hlinkClick r:id="rId22"/>
          </p:cNvPr>
          <p:cNvPicPr/>
          <p:nvPr/>
        </p:nvPicPr>
        <p:blipFill>
          <a:blip r:embed="rId23"/>
          <a:stretch/>
        </p:blipFill>
        <p:spPr>
          <a:xfrm>
            <a:off x="3780000" y="0"/>
            <a:ext cx="2705040" cy="1916280"/>
          </a:xfrm>
          <a:prstGeom prst="rect">
            <a:avLst/>
          </a:prstGeom>
          <a:ln w="0">
            <a:noFill/>
          </a:ln>
        </p:spPr>
      </p:pic>
      <p:pic>
        <p:nvPicPr>
          <p:cNvPr id="375" name="" descr="">
            <a:hlinkClick r:id="rId24"/>
          </p:cNvPr>
          <p:cNvPicPr/>
          <p:nvPr/>
        </p:nvPicPr>
        <p:blipFill>
          <a:blip r:embed="rId25"/>
          <a:stretch/>
        </p:blipFill>
        <p:spPr>
          <a:xfrm>
            <a:off x="5003640" y="3500280"/>
            <a:ext cx="1944720" cy="3357720"/>
          </a:xfrm>
          <a:prstGeom prst="rect">
            <a:avLst/>
          </a:prstGeom>
          <a:ln w="0">
            <a:noFill/>
          </a:ln>
        </p:spPr>
      </p:pic>
      <p:pic>
        <p:nvPicPr>
          <p:cNvPr id="376" name="" descr="">
            <a:hlinkClick r:id="rId26"/>
          </p:cNvPr>
          <p:cNvPicPr/>
          <p:nvPr/>
        </p:nvPicPr>
        <p:blipFill>
          <a:blip r:embed="rId27"/>
          <a:stretch/>
        </p:blipFill>
        <p:spPr>
          <a:xfrm>
            <a:off x="7020000" y="4581360"/>
            <a:ext cx="2124000" cy="2276640"/>
          </a:xfrm>
          <a:prstGeom prst="rect">
            <a:avLst/>
          </a:prstGeom>
          <a:ln w="0">
            <a:noFill/>
          </a:ln>
        </p:spPr>
      </p:pic>
      <p:pic>
        <p:nvPicPr>
          <p:cNvPr id="377" name="" descr="">
            <a:hlinkClick r:id="rId28"/>
          </p:cNvPr>
          <p:cNvPicPr/>
          <p:nvPr/>
        </p:nvPicPr>
        <p:blipFill>
          <a:blip r:embed="rId29"/>
          <a:stretch/>
        </p:blipFill>
        <p:spPr>
          <a:xfrm>
            <a:off x="3924360" y="5572080"/>
            <a:ext cx="981000" cy="128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78" name="" descr="">
            <a:hlinkClick r:id="rId1"/>
          </p:cNvPr>
          <p:cNvPicPr/>
          <p:nvPr/>
        </p:nvPicPr>
        <p:blipFill>
          <a:blip r:embed="rId2"/>
          <a:stretch/>
        </p:blipFill>
        <p:spPr>
          <a:xfrm>
            <a:off x="0" y="0"/>
            <a:ext cx="2771640" cy="2565360"/>
          </a:xfrm>
          <a:prstGeom prst="rect">
            <a:avLst/>
          </a:prstGeom>
          <a:ln w="0">
            <a:noFill/>
          </a:ln>
        </p:spPr>
      </p:pic>
      <p:pic>
        <p:nvPicPr>
          <p:cNvPr id="379" name="" descr="">
            <a:hlinkClick r:id="rId3"/>
          </p:cNvPr>
          <p:cNvPicPr/>
          <p:nvPr/>
        </p:nvPicPr>
        <p:blipFill>
          <a:blip r:embed="rId4"/>
          <a:stretch/>
        </p:blipFill>
        <p:spPr>
          <a:xfrm>
            <a:off x="6443640" y="4437000"/>
            <a:ext cx="2700360" cy="2421000"/>
          </a:xfrm>
          <a:prstGeom prst="rect">
            <a:avLst/>
          </a:prstGeom>
          <a:ln w="0">
            <a:noFill/>
          </a:ln>
        </p:spPr>
      </p:pic>
      <p:pic>
        <p:nvPicPr>
          <p:cNvPr id="380" name="" descr="">
            <a:hlinkClick r:id="rId5"/>
          </p:cNvPr>
          <p:cNvPicPr/>
          <p:nvPr/>
        </p:nvPicPr>
        <p:blipFill>
          <a:blip r:embed="rId6"/>
          <a:stretch/>
        </p:blipFill>
        <p:spPr>
          <a:xfrm>
            <a:off x="6948360" y="2781360"/>
            <a:ext cx="1886040" cy="1404720"/>
          </a:xfrm>
          <a:prstGeom prst="rect">
            <a:avLst/>
          </a:prstGeom>
          <a:ln w="0">
            <a:noFill/>
          </a:ln>
        </p:spPr>
      </p:pic>
      <p:pic>
        <p:nvPicPr>
          <p:cNvPr id="381" name="" descr="">
            <a:hlinkClick r:id="rId7"/>
          </p:cNvPr>
          <p:cNvPicPr/>
          <p:nvPr/>
        </p:nvPicPr>
        <p:blipFill>
          <a:blip r:embed="rId8"/>
          <a:stretch/>
        </p:blipFill>
        <p:spPr>
          <a:xfrm>
            <a:off x="0" y="4365720"/>
            <a:ext cx="2843280" cy="2492280"/>
          </a:xfrm>
          <a:prstGeom prst="rect">
            <a:avLst/>
          </a:prstGeom>
          <a:ln w="0">
            <a:noFill/>
          </a:ln>
        </p:spPr>
      </p:pic>
      <p:pic>
        <p:nvPicPr>
          <p:cNvPr id="382" name="" descr="">
            <a:hlinkClick r:id="rId9"/>
          </p:cNvPr>
          <p:cNvPicPr/>
          <p:nvPr/>
        </p:nvPicPr>
        <p:blipFill>
          <a:blip r:embed="rId10"/>
          <a:stretch/>
        </p:blipFill>
        <p:spPr>
          <a:xfrm>
            <a:off x="395280" y="2781360"/>
            <a:ext cx="1582920" cy="1368360"/>
          </a:xfrm>
          <a:prstGeom prst="rect">
            <a:avLst/>
          </a:prstGeom>
          <a:ln w="0">
            <a:noFill/>
          </a:ln>
        </p:spPr>
      </p:pic>
      <p:pic>
        <p:nvPicPr>
          <p:cNvPr id="383" name="" descr="">
            <a:hlinkClick r:id="rId11"/>
          </p:cNvPr>
          <p:cNvPicPr/>
          <p:nvPr/>
        </p:nvPicPr>
        <p:blipFill>
          <a:blip r:embed="rId12"/>
          <a:stretch/>
        </p:blipFill>
        <p:spPr>
          <a:xfrm>
            <a:off x="3851280" y="5157720"/>
            <a:ext cx="1368360" cy="1700280"/>
          </a:xfrm>
          <a:prstGeom prst="rect">
            <a:avLst/>
          </a:prstGeom>
          <a:ln w="0">
            <a:noFill/>
          </a:ln>
        </p:spPr>
      </p:pic>
      <p:pic>
        <p:nvPicPr>
          <p:cNvPr id="384" name="" descr="">
            <a:hlinkClick r:id="rId13"/>
          </p:cNvPr>
          <p:cNvPicPr/>
          <p:nvPr/>
        </p:nvPicPr>
        <p:blipFill>
          <a:blip r:embed="rId14"/>
          <a:stretch/>
        </p:blipFill>
        <p:spPr>
          <a:xfrm>
            <a:off x="3780000" y="1484280"/>
            <a:ext cx="1152360" cy="1513080"/>
          </a:xfrm>
          <a:prstGeom prst="rect">
            <a:avLst/>
          </a:prstGeom>
          <a:ln w="0">
            <a:noFill/>
          </a:ln>
        </p:spPr>
      </p:pic>
      <p:pic>
        <p:nvPicPr>
          <p:cNvPr id="385" name="" descr=""/>
          <p:cNvPicPr/>
          <p:nvPr/>
        </p:nvPicPr>
        <p:blipFill>
          <a:blip r:embed="rId15"/>
          <a:stretch/>
        </p:blipFill>
        <p:spPr>
          <a:xfrm>
            <a:off x="3780000" y="3141720"/>
            <a:ext cx="1439640" cy="1942920"/>
          </a:xfrm>
          <a:prstGeom prst="rect">
            <a:avLst/>
          </a:prstGeom>
          <a:ln w="0">
            <a:noFill/>
          </a:ln>
        </p:spPr>
      </p:pic>
      <p:pic>
        <p:nvPicPr>
          <p:cNvPr id="386" name="" descr=""/>
          <p:cNvPicPr/>
          <p:nvPr/>
        </p:nvPicPr>
        <p:blipFill>
          <a:blip r:embed="rId16"/>
          <a:stretch/>
        </p:blipFill>
        <p:spPr>
          <a:xfrm>
            <a:off x="6516720" y="0"/>
            <a:ext cx="2627280" cy="2421000"/>
          </a:xfrm>
          <a:prstGeom prst="rect">
            <a:avLst/>
          </a:prstGeom>
          <a:ln w="0">
            <a:noFill/>
          </a:ln>
        </p:spPr>
      </p:pic>
      <p:sp>
        <p:nvSpPr>
          <p:cNvPr id="387" name=""/>
          <p:cNvSpPr txBox="1"/>
          <p:nvPr/>
        </p:nvSpPr>
        <p:spPr>
          <a:xfrm>
            <a:off x="2987640" y="189000"/>
            <a:ext cx="2664000" cy="129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или</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1" name=""/>
          <p:cNvSpPr txBox="1"/>
          <p:nvPr/>
        </p:nvSpPr>
        <p:spPr>
          <a:xfrm>
            <a:off x="539640" y="1052640"/>
            <a:ext cx="8280360" cy="28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Влияние мобильного телефона на</a:t>
            </a:r>
            <a:endParaRPr b="0" lang="en-US" sz="1800" spc="1" strike="noStrike">
              <a:ln w="9360">
                <a:solidFill>
                  <a:srgbClr val="000000"/>
                </a:solidFill>
                <a:miter/>
              </a:ln>
              <a:solidFill>
                <a:srgbClr val="ff0000"/>
              </a:solidFill>
              <a:latin typeface="Impact"/>
              <a:ea typeface="Impact"/>
            </a:endParaRPr>
          </a:p>
        </p:txBody>
      </p:sp>
      <p:sp>
        <p:nvSpPr>
          <p:cNvPr id="332" name=""/>
          <p:cNvSpPr txBox="1"/>
          <p:nvPr/>
        </p:nvSpPr>
        <p:spPr>
          <a:xfrm>
            <a:off x="1258920" y="3429000"/>
            <a:ext cx="6553080" cy="2016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здоровье человека</a:t>
            </a:r>
            <a:endParaRPr b="0" lang="en-US" sz="1800" spc="1" strike="noStrike">
              <a:ln w="9360">
                <a:solidFill>
                  <a:srgbClr val="000000"/>
                </a:solidFill>
                <a:miter/>
              </a:ln>
              <a:solidFill>
                <a:srgbClr val="ff0000"/>
              </a:solidFill>
              <a:latin typeface="Impact"/>
              <a:ea typeface="Impact"/>
            </a:endParaRPr>
          </a:p>
        </p:txBody>
      </p:sp>
      <p:sp>
        <p:nvSpPr>
          <p:cNvPr id="333" name=""/>
          <p:cNvSpPr txBox="1"/>
          <p:nvPr/>
        </p:nvSpPr>
        <p:spPr>
          <a:xfrm>
            <a:off x="826920" y="260280"/>
            <a:ext cx="779148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4303641" blurRad="0" rotWithShape="0">
                    <a:srgbClr val="4d4d4d">
                      <a:alpha val="80000"/>
                    </a:srgbClr>
                  </a:outerShdw>
                </a:effectLst>
                <a:latin typeface="Arial"/>
              </a:rPr>
              <a:t>Исследовательская работа по теме:</a:t>
            </a:r>
            <a:endParaRPr b="0" lang="en-US" sz="1800" spc="1" strike="noStrike">
              <a:ln w="0">
                <a:noFill/>
              </a:ln>
              <a:solidFill>
                <a:srgbClr val="00ff00"/>
              </a:soli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5195880" y="0"/>
            <a:ext cx="3948120" cy="6858000"/>
          </a:xfrm>
          <a:prstGeom prst="rect">
            <a:avLst/>
          </a:prstGeom>
          <a:ln w="0">
            <a:noFill/>
          </a:ln>
        </p:spPr>
      </p:pic>
      <p:sp>
        <p:nvSpPr>
          <p:cNvPr id="335"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39640" y="189000"/>
            <a:ext cx="4186440" cy="576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АВТОР ПРОЕКТА</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еница </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МОУ Ростошинской</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ОШ</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0 класса</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тебунова </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ветлана</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Евгеньевн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5867280" y="0"/>
            <a:ext cx="3276720" cy="6858000"/>
          </a:xfrm>
          <a:prstGeom prst="rect">
            <a:avLst/>
          </a:prstGeom>
          <a:ln w="0">
            <a:noFill/>
          </a:ln>
        </p:spPr>
      </p:pic>
      <p:sp>
        <p:nvSpPr>
          <p:cNvPr id="338" name=""/>
          <p:cNvSpPr/>
          <p:nvPr/>
        </p:nvSpPr>
        <p:spPr>
          <a:xfrm>
            <a:off x="950760" y="635040"/>
            <a:ext cx="3837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уководитель проект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Учитель физик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МОУ Ростошинской СОШ</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тебунова Ольга Анатольевн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Arial"/>
              </a:rPr>
              <a:t>Влияние мобильного телефона на здоровье человека</a:t>
            </a:r>
            <a:endParaRPr b="0" lang="en-US" sz="4700" spc="-1" strike="noStrike">
              <a:solidFill>
                <a:srgbClr val="c4c3aa"/>
              </a:solidFill>
              <a:latin typeface="Arial"/>
            </a:endParaRPr>
          </a:p>
        </p:txBody>
      </p:sp>
      <p:pic>
        <p:nvPicPr>
          <p:cNvPr id="340" name="" descr=""/>
          <p:cNvPicPr/>
          <p:nvPr/>
        </p:nvPicPr>
        <p:blipFill>
          <a:blip r:embed="rId1"/>
          <a:stretch/>
        </p:blipFill>
        <p:spPr>
          <a:xfrm>
            <a:off x="2700360" y="3645000"/>
            <a:ext cx="4030560" cy="306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Verdana"/>
              </a:rPr>
              <a:t>    </a:t>
            </a:r>
            <a:r>
              <a:rPr b="1" i="1" lang="en-US" sz="4400" spc="-1" strike="noStrike">
                <a:solidFill>
                  <a:srgbClr val="ffff00"/>
                </a:solidFill>
                <a:latin typeface="Verdana"/>
              </a:rPr>
              <a:t>Определить влияние мобильного телефона на здоровье человека</a:t>
            </a:r>
            <a:endParaRPr b="0" lang="en-US" sz="4400" spc="-1" strike="noStrike">
              <a:solidFill>
                <a:srgbClr val="ffffff"/>
              </a:solidFill>
              <a:latin typeface="Verdana"/>
            </a:endParaRPr>
          </a:p>
        </p:txBody>
      </p:sp>
      <p:sp>
        <p:nvSpPr>
          <p:cNvPr id="342" name=""/>
          <p:cNvSpPr txBox="1"/>
          <p:nvPr/>
        </p:nvSpPr>
        <p:spPr>
          <a:xfrm>
            <a:off x="3132000" y="765000"/>
            <a:ext cx="266400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Цель:</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609480" indent="-6094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rPr>
              <a:t>Мобильный телефон  отрицательно воздействует на организм человека и может вызывать различные заболевания.</a:t>
            </a:r>
            <a:endParaRPr b="0" lang="en-US" sz="2400" spc="-1" strike="noStrike">
              <a:solidFill>
                <a:srgbClr val="ffffff"/>
              </a:solidFill>
              <a:latin typeface="Verdana"/>
            </a:endParaRPr>
          </a:p>
          <a:p>
            <a:pPr marL="609480" indent="-6094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rPr>
              <a:t>Мобильный телефон положительно влияет на здоровье человека и приносит пользу. Пользуясь телефоном, можно улучшить свое здоровье.</a:t>
            </a:r>
            <a:endParaRPr b="0" lang="en-US" sz="2400" spc="-1" strike="noStrike">
              <a:solidFill>
                <a:srgbClr val="ffffff"/>
              </a:solidFill>
              <a:latin typeface="Verdana"/>
            </a:endParaRPr>
          </a:p>
          <a:p>
            <a:pPr marL="609480" indent="-6094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rPr>
              <a:t>Мобильный  телефон не оказывает никакого влияния на здоровье человека. Телефон безопасен.</a:t>
            </a:r>
            <a:r>
              <a:rPr b="0" lang="en-US" sz="2400" spc="-1" strike="noStrike">
                <a:solidFill>
                  <a:srgbClr val="ffff00"/>
                </a:solidFill>
                <a:latin typeface="Verdana"/>
              </a:rPr>
              <a:t> </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4" name=""/>
          <p:cNvSpPr txBox="1"/>
          <p:nvPr/>
        </p:nvSpPr>
        <p:spPr>
          <a:xfrm>
            <a:off x="2411280" y="189000"/>
            <a:ext cx="3816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Гипотез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916000" y="277560"/>
            <a:ext cx="5770440" cy="610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После длительного разговора по телефону начинаются головные боли. Вот что по этому поводу считает доцент МГУ Анатолий Королев: «Как показали исследования, когда человек разговаривает по мобильному телефону, его мозг подвергается «локальному» перегреву. В тканях головного мозга есть отдельные микроскопические участки, способные поглотить довольно большую дозу электромагнитного излучения, под действием которого происходит тепловой перегрев, что может привести к раку мозга.</a:t>
            </a:r>
            <a:r>
              <a:rPr b="0" lang="en-US" sz="2000" spc="-1" strike="noStrike">
                <a:solidFill>
                  <a:srgbClr val="c4c3aa"/>
                </a:solidFill>
                <a:latin typeface="Arial"/>
              </a:rPr>
              <a:t> </a:t>
            </a:r>
            <a:endParaRPr b="0" lang="en-US" sz="2000" spc="-1" strike="noStrike">
              <a:solidFill>
                <a:srgbClr val="c4c3aa"/>
              </a:solidFill>
              <a:latin typeface="Arial"/>
            </a:endParaRPr>
          </a:p>
        </p:txBody>
      </p:sp>
      <p:pic>
        <p:nvPicPr>
          <p:cNvPr id="346" name="" descr=""/>
          <p:cNvPicPr/>
          <p:nvPr/>
        </p:nvPicPr>
        <p:blipFill>
          <a:blip r:embed="rId1"/>
          <a:stretch/>
        </p:blipFill>
        <p:spPr>
          <a:xfrm>
            <a:off x="395280" y="260280"/>
            <a:ext cx="2413080" cy="3365640"/>
          </a:xfrm>
          <a:prstGeom prst="rect">
            <a:avLst/>
          </a:prstGeom>
          <a:ln w="0">
            <a:noFill/>
          </a:ln>
        </p:spPr>
      </p:pic>
      <p:pic>
        <p:nvPicPr>
          <p:cNvPr id="347" name="" descr="">
            <a:hlinkClick r:id="rId2"/>
          </p:cNvPr>
          <p:cNvPicPr/>
          <p:nvPr/>
        </p:nvPicPr>
        <p:blipFill>
          <a:blip r:embed="rId3"/>
          <a:stretch/>
        </p:blipFill>
        <p:spPr>
          <a:xfrm>
            <a:off x="395280" y="4076640"/>
            <a:ext cx="2376360" cy="165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132000" y="333360"/>
            <a:ext cx="5492880" cy="612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Кроме того, исследования показали, что воздействие сигналов мобильного телефона в течение всего пяти минут заставляет клетки человека  делиться. Этот процесс происходит при росте или восстановлении тканей, но в то же время он может стать причиной  развития раковых заболеваний.</a:t>
            </a:r>
            <a:br>
              <a:rPr sz="2400"/>
            </a:br>
            <a:br>
              <a:rPr sz="2400"/>
            </a:br>
            <a:r>
              <a:rPr b="0" lang="en-US" sz="2400" spc="-1" strike="noStrike">
                <a:solidFill>
                  <a:srgbClr val="0000ff"/>
                </a:solidFill>
                <a:latin typeface="Arial"/>
              </a:rPr>
              <a:t>Также те, кто пользуется телефоном около 30 минут ежедневно, повышает вероятность потери памяти почти в 2 раза,  по сравнению с теми, кто ограничивается 2 минутами в день.</a:t>
            </a:r>
            <a:r>
              <a:rPr b="0" lang="en-US" sz="2400" spc="-1" strike="noStrike">
                <a:solidFill>
                  <a:srgbClr val="c4c3aa"/>
                </a:solidFill>
                <a:latin typeface="Arial"/>
              </a:rPr>
              <a:t> </a:t>
            </a:r>
            <a:endParaRPr b="0" lang="en-US" sz="2400" spc="-1" strike="noStrike">
              <a:solidFill>
                <a:srgbClr val="c4c3aa"/>
              </a:solidFill>
              <a:latin typeface="Arial"/>
            </a:endParaRPr>
          </a:p>
        </p:txBody>
      </p:sp>
      <p:pic>
        <p:nvPicPr>
          <p:cNvPr id="349" name="" descr=""/>
          <p:cNvPicPr/>
          <p:nvPr/>
        </p:nvPicPr>
        <p:blipFill>
          <a:blip r:embed="rId1"/>
          <a:stretch/>
        </p:blipFill>
        <p:spPr>
          <a:xfrm>
            <a:off x="324000" y="333360"/>
            <a:ext cx="2663640" cy="2879640"/>
          </a:xfrm>
          <a:prstGeom prst="rect">
            <a:avLst/>
          </a:prstGeom>
          <a:ln w="0">
            <a:noFill/>
          </a:ln>
        </p:spPr>
      </p:pic>
      <p:pic>
        <p:nvPicPr>
          <p:cNvPr id="350" name="" descr=""/>
          <p:cNvPicPr/>
          <p:nvPr/>
        </p:nvPicPr>
        <p:blipFill>
          <a:blip r:embed="rId2"/>
          <a:stretch/>
        </p:blipFill>
        <p:spPr>
          <a:xfrm>
            <a:off x="324000" y="3716280"/>
            <a:ext cx="26636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9T11:56:39Z</dcterms:created>
  <dc:creator>User</dc:creator>
  <dc:description/>
  <dc:language>en-US</dc:language>
  <cp:lastModifiedBy>user</cp:lastModifiedBy>
  <dcterms:modified xsi:type="dcterms:W3CDTF">2009-10-29T08:00:07Z</dcterms:modified>
  <cp:revision>8</cp:revision>
  <dc:subject/>
  <dc:title>Слайд 1</dc:title>
</cp:coreProperties>
</file>