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42E-99DE-4B42-A42C-47AFCCF8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F68-DED1-4472-B522-E7C12EF4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446-9D04-4DC9-B880-A88FA7E7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CD4-E4D0-4E12-8392-22A93D2D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3FE1-2307-47E2-B318-31BE43C2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9113-350C-4F5F-BFEB-C44E9A4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50F0-F0F3-4C6D-9476-4DD968C2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5AF-8B3A-447B-B08F-AB94D50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EE7-7825-422F-9E7D-0F78E6B1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2A55-851B-4BF0-8AEE-27BFD4A4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36D4-FB94-4C57-8E19-82ABE846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8BD-2C00-477F-BA25-BAF0532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A33D-67E8-4DAF-B4A0-159CBB7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1634-8262-4305-98CB-AA4271C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A58-DA83-464E-A359-AE089BE2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85C-3B11-4CE3-8B17-48B49B9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AF1-B84E-4979-B8FD-9F7F9327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6A7-8C2F-4C8F-883C-E0182089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50B-D277-42A8-9B52-830F83A7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2FD-2AEC-4343-9716-E9C16A5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621-12B4-43F7-AC11-436BC3D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CA8-29FE-4AEB-A9DB-A30DA33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C99-EAEC-4122-91B0-01CDEA9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320-A069-4ABC-A6BF-86DD92E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BE6A-B118-4EC9-BA3B-0ACBFD25EF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D89-B3DA-47B0-AFAD-82DECC8585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as Thema: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Eine Sprache, die jeder versteht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as  Ziel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“ Die Sprache der Musik verstehen lernen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учитель  иностранных языков высшей квалификационной категории  Песоцкая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uf Wiederseh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Musikrichtungen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ksmus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                                       Mir  ge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t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ische Mus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724280" y="1676520"/>
            <a:ext cx="457200" cy="4190760"/>
          </a:xfrm>
          <a:custGeom>
            <a:avLst/>
            <a:gdLst>
              <a:gd name="textAreaLeft" fmla="*/ 0 w 457200"/>
              <a:gd name="textAreaRight" fmla="*/ 164880 w 4572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kinstrumen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Harfe                                           die Gitar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Cello                                          die Gei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Trompete                                    die F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Klarinette                                    der Kontra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 Trommel                                     das 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s Saxophon                                  das Kl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so: 1. Saiteninstumente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струнны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Biasinstumente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духовы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laginstumente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ударны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steninstumente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лавишны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Новый рисунок"/>
          <p:cNvPicPr/>
          <p:nvPr/>
        </p:nvPicPr>
        <p:blipFill>
          <a:blip r:embed="rId7"/>
          <a:stretch/>
        </p:blipFill>
        <p:spPr>
          <a:xfrm>
            <a:off x="2209680" y="68580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8"/>
          <a:stretch/>
        </p:blipFill>
        <p:spPr>
          <a:xfrm>
            <a:off x="2590920" y="16765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9"/>
          <a:stretch/>
        </p:blipFill>
        <p:spPr>
          <a:xfrm>
            <a:off x="723888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10"/>
          <a:stretch/>
        </p:blipFill>
        <p:spPr>
          <a:xfrm>
            <a:off x="7924680" y="152388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11"/>
          <a:stretch/>
        </p:blipFill>
        <p:spPr>
          <a:xfrm>
            <a:off x="2971800" y="2438280"/>
            <a:ext cx="1905120" cy="3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"/>
          <p:cNvPicPr/>
          <p:nvPr/>
        </p:nvPicPr>
        <p:blipFill>
          <a:blip r:embed="rId12"/>
          <a:stretch/>
        </p:blipFill>
        <p:spPr>
          <a:xfrm>
            <a:off x="3048120" y="320040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/>
          <p:cNvPicPr/>
          <p:nvPr/>
        </p:nvPicPr>
        <p:blipFill>
          <a:blip r:embed="rId13"/>
          <a:stretch/>
        </p:blipFill>
        <p:spPr>
          <a:xfrm>
            <a:off x="8153280" y="29718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14"/>
          <a:stretch/>
        </p:blipFill>
        <p:spPr>
          <a:xfrm>
            <a:off x="3200400" y="380988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15"/>
          <a:stretch/>
        </p:blipFill>
        <p:spPr>
          <a:xfrm>
            <a:off x="7848720" y="388620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16"/>
          <a:stretch/>
        </p:blipFill>
        <p:spPr>
          <a:xfrm>
            <a:off x="3276720" y="472428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17"/>
          <a:stretch/>
        </p:blipFill>
        <p:spPr>
          <a:xfrm>
            <a:off x="7848720" y="47242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18"/>
          <a:stretch/>
        </p:blipFill>
        <p:spPr>
          <a:xfrm>
            <a:off x="7086600" y="2438280"/>
            <a:ext cx="16714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um h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n wir Musi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c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ser Ieben s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 und rei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k bewegt die Menschen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cht Stimmu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k mach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a</a:t>
            </a:r>
            <a:r>
              <a:rPr b="1" lang="el-GR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β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ist wichtig, die Sprache der Musik verstehen zu 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n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k gern haben –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бить музыку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usik gern. Und du?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t du Musik g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arum? 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lassische Musik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eg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zum Nachdenke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nd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ä</a:t>
            </a:r>
            <a:r>
              <a:rPr b="1" lang="el-GR" sz="4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β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iemande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kal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nz  Schube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der bekannt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rreichische Komponi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797 – 1828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19360" y="190476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g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ößten Musikwer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könig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«Лесной царь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e Forell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«Форель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etche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«Гретхен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r Lindenbaum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«Липа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380880" y="19051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anz  Schu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Österreich befindet sich eine Stad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Das ist die Hauptstadt des Landes. In einer  Wiener Vorstadt  wurde  am 31. Januar 17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kann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österreichische  Kompon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nz Schube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boren. Das  Kind  wurde in der Familie eines Lehrers geboren. Schon früh interessierte er sich fü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i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nd besonders fü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kslie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Sein Vater unterrichtete ihn zuerst selbst. Mit  elf  Jaren  kam der begabte Junge in die Hofkapelle. Mit 17 Jahren   beendete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ube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sein  Studium  in der Hofkapelle und wurde Lehrer. Doch  diese  Arbeit  brachte  ihm   wenig  Freude.  Er   wollt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onieren. Dazu brachte  man  nicht Talent, sondern  auch  Geld. Schuberts  Freunde  versuchten, seine Musik unter dem Volke zu verbreiten. Sie oranisierten Musikabende, die si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Schubertiaden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nnten. Viele von seinen Werken wurden auch bald  bekannt, aber nur in seinem Vaterland, in Österreich. Seine meiste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foni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nd ande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ße Wer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urden erst nach seinem Tode aufgefüh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r Kompon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lbst hat sie nie  gehört.  Im  Jahre  1828  erkrankte Schubert   an   Typhus  und   starb. Er  war  einunddreißig  Jahre  alt   geworde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ube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t etwa tausend größere und  kleinere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ikstüc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geschaffen, die ihn nach seinem Tode in der ganzen  Welt berühmt  machten. “Der  Lindenbaum”, “die Forelle”, “Erlkönig”, “Heidenroslein” und and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o  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n wir klassische Musi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Ki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The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Rad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Fernse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Kassettenrek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Auto 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esen – gele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reiben – geschrieb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echen – gesproc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elen – gespie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en – gem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 – ge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fahren - erfah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МПЬЮТЕР</dc:creator>
  <dc:description/>
  <dc:language>en-US</dc:language>
  <cp:lastModifiedBy>КОМПЬЮТЕР</cp:lastModifiedBy>
  <dcterms:modified xsi:type="dcterms:W3CDTF">2016-11-27T21:17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