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CCF-45BE-4F6B-8B18-402F211F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A4F-8BF9-4111-8A64-A9D96187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B0865-7289-4743-A702-42E9A006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C51A6-9664-4FCE-A2B1-516DF896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89F31-D775-4855-B0B8-4950068C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6E407-006E-4B74-ADD6-592BDDA3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2FBDE-A3B7-451B-81A8-BB35F990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B5B35-953E-4BFC-8DAD-088DE189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E7AA5-1015-4A2C-BF7D-7C9F64C6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1F2F2-1AAD-4BF6-93CD-A44739C6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2DB38-E1BF-44E9-ACE3-B904FB47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74A-2427-4F89-8615-8FAFE1C5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90F-69DA-46C1-9518-5B0402D6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2F36-EF5D-48D5-BD9E-3FD4E646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DDA1-7632-4020-BFCC-3828BCCB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2B2B-5485-44AF-A1D1-59D111F4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503F-C9F8-40C0-86C2-9631A796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70D2-6372-4B3C-B7A7-ED9F5503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E19E-0B1F-4E89-A5F9-70C29140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F151-66FA-4B8E-94A6-FD600475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A19-FD2C-460E-89BB-E9FFA555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9A45-643A-4938-AB31-B4EEC2D6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2C46-52A9-4961-89C7-BBFAB051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5964-FEFC-4792-BF3E-E2CEFAEE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491B-3D76-4C0C-BF20-58CF3A9D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D1D4-670C-4532-9219-B1C39764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BD875-CD47-42E0-8AC8-38ECEC81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01D0A-2F29-469B-9D5D-1326C360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23DC-3D9F-4684-A0A3-912D24E7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E6D38-C806-4311-BB60-FA15B3A2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C4A26-2CD1-4856-8EB4-0129A3DE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9F4-42B4-457A-869F-05E66281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01A9-88C7-4114-AF1C-CB7DED4B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FD3D5-9440-4C23-B6AF-A7CFC0C3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B870-41F1-4158-8EC4-7DB50057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2C1D-1C55-4194-B7DE-CD7E1EB1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36A2-44BF-47B6-A5AE-B8B0A20D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8F4C-2715-411F-912D-1271C24E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8C54-E7E7-41A0-9C82-AC038455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86641-F968-4C34-A2AB-03A2E650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0255-EC3C-4207-9B1C-2E143E1C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CFC0-6A40-4694-93B1-43FE3380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1BE-7F85-4914-B6DF-726AE390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3FDC-64B6-43AD-9C30-70D475CB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300B4-A5BF-43FF-B35D-4A863844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2E22F-F8D1-4C40-8E07-6FC7E793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CFC58-078E-425B-A21D-77A467F5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9B44D-C433-414D-8712-8AC96918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82BF4-BF6B-498E-AFBA-633752E7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9623D-BC23-4CD2-AEC0-43210E33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4F4C-8AB8-471C-9688-F8DD8557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8C61-ADE6-4DD2-8CD2-C6862D17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6206-B201-4266-BEDC-7FE7C924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631-47BB-46BA-B212-AF35A85B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63954-441A-4279-949D-93CF65D0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6BCAD-FE45-41FD-802F-6A85388B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FFC36-CE15-4A1E-B1B6-FEBDACCB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D0024-CD14-498D-976A-0B2FCEFE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E33A-3D51-472F-AAA2-E48BCF19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A3B32-544D-4130-A06B-5441702D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26AD7-2211-4FF5-9F3D-629C0F0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B2422-1A26-4D42-A29A-33BBA90B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848A1-8DDD-4BDA-BEA1-B836F67F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3B47D-2E71-4045-9223-638647DD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BD3-E412-47BA-903E-D578F0F5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1DBEC-6FAF-43A5-A27A-4F8B657E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395C0-51E9-4BA3-A234-BA405D23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01374-CF0B-4A20-8622-3D981F32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14368-10B4-4AD3-A443-FF80FA67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309D5-EAA9-427A-A7FE-043C16B3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5D182-482A-4B14-A433-EE34E303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0F776-5A28-40FC-B420-A966B507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AB575-5A68-4CCD-AA39-89C5FE4A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0AD53-F4B1-4DA8-91C5-11471E8E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28179-16F1-4F1A-8ABC-F16A21E2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46C-9739-487A-B404-DE54FACD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1076A-F0DE-46DE-8923-E52191C6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1467B-D664-4FF3-B65D-97CCCC38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69BC-91D5-4BA1-BAD8-2AA5699A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5DB15-7290-4B95-96B0-1BAF3975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B4DC3-A1AD-47A7-A73A-CDE2ECDB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F0624-CD25-4544-B616-38504158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49F35-0D4B-4363-AE3D-265FC77F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E471-66DF-4A25-9213-E7B2BC5B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82445-122E-4963-95A7-ECC588BA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F06A2-050E-4FA6-B315-3E96BFA8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8D0-956D-414E-BC88-BD2A758B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309A1-184B-485A-8C1B-5B39823F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E0AC8-B656-4FBF-9D5E-867A4C54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EE843-C8BA-449B-B3CB-CC80346C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23E96-941D-4FA8-9079-F391FFF6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D244E-763E-4716-933C-246F87D0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57EE4-9B95-423F-A634-4F7ACE4A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44CBA-F970-4360-9B1D-0BBC7798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A62C8-8BF7-402A-A215-CA5E6189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58772-D533-43C4-A6F6-F0A2896D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DD8BD-0507-4299-8311-92B99810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186-A042-46E4-8899-478B137F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C5136-61A3-4AD7-8407-7460AF6E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DA097-C262-4112-A50C-6CBE9CB3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65631-4FEC-41B2-9F1E-268F490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7DF7-65C2-480F-8D6A-3176BC39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69393-9163-4DC0-BCE2-2B89ABB8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984CE-D4C9-4A23-A9E2-10B04F77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DC6E9-87BA-43CC-B765-5A5675D3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D80DB-44F1-4566-9F62-171888CC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4FB64-76F8-44C4-88B2-B339B9FA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EC995-AD4F-45D5-AF40-BF1F6B53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AEB4-2ECA-4208-A58B-4480D1EFEE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394E-9367-44F8-89B3-0FF5DBCFE4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BBA8-BD7F-45EC-AD7F-930BA360493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AA84-6297-4681-AAD2-5A6FDB89F6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5E8F-2336-462B-8788-C3311772AB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BB90-1D07-4A8A-8F64-452148FCB0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0F61-0A69-4F38-BB88-2EDCBACDBA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C82-363C-47FA-B3BD-3D76F78114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D637-4220-4836-9A28-3BE01AB477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084400" y="762120"/>
            <a:ext cx="6383160" cy="4260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Старший воспитатель: Бадуртдинова Г.Р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4"/>
          <p:cNvSpPr/>
          <p:nvPr/>
        </p:nvSpPr>
        <p:spPr>
          <a:xfrm>
            <a:off x="250920" y="1292400"/>
            <a:ext cx="849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ь вторая: воспита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 долж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ладеть формами и методами воспитательной работы, используя их как на уроке, так и во внеуроч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ладеть методами организации экскурсий, походов и экспеди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ладеть методами музейной педагогики, используя их для расширения кругозора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Эффективно регулировать поведение учащихся для обеспечения безопасной образовательно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Эффективно управлять классами, с целью вовлечения учеников в процесс обучения и воспитания, мотивируя их учебно-познавательную деятельность. Ставить воспитательные цели, способствующие развитию учеников, независимо от их происхождения, способностей и характера, постоянно искать педагогические пути их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станавливать чёткие правила поведения в классе в соответствии со школьным уставом и правилами поведения в образовате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ик 1"/>
          <p:cNvSpPr/>
          <p:nvPr/>
        </p:nvSpPr>
        <p:spPr>
          <a:xfrm>
            <a:off x="231840" y="1341360"/>
            <a:ext cx="842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ь вторая: воспита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 долж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казывать всестороннюю помощь и поддержку в организации ученических органов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меть общаться с детьми, признавая их достоинство, понимая и принимая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меть находить (обнаруживать) ценностный аспект учебного знания и информации и обеспечивать его понимание и переживание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Уметь проектировать и создавать ситуации и события, развивающие эмоционально-ценностную сферу ребёнка (культуру переживаний и ценностные ориентации ребё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Уметь обнаруживать и реализовывать воспитательные возможности различных видов деятельности ребёнка (образовательной, игровой, трудовой, спортивной, художествен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Уметь строить воспитательную деятельность с учётом культурных различий детей, половозрастных и индивидуальных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1"/>
          <p:cNvSpPr/>
          <p:nvPr/>
        </p:nvSpPr>
        <p:spPr>
          <a:xfrm>
            <a:off x="268200" y="133524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ь вторая: воспита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 долж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Уметь создавать в учебных группах (классе, кружке, секции и т.п.) детско-взрослые общности учащихся, их родителей и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Уметь поддерживать конструктивные воспитательные усилия родителей (лиц, их заменяющих) учащихся, привлекать семью к решению вопросов воспитания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Уметь сотрудничать (конструктивно взаимодействовать) с другими педагогами и специалистами в решении воспитательных задач (задач духовно-нравственного развития ребё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Уметь анализировать реальное состояние дел в классе, поддерживать в детском коллективе деловую дружелюбную атмосф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Уметь защищать достоинство и интересы учащихся, помогать детям, оказавшимся в конфликтной ситуации и/или в неблагоприят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Поддерживать уклад, атмосферу и традиции жизни школы, внося в них свой положительный вкл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3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3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4"/>
          <p:cNvSpPr/>
          <p:nvPr/>
        </p:nvSpPr>
        <p:spPr>
          <a:xfrm>
            <a:off x="250920" y="141300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асть третья: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личностные качества и профессиональные компетенции, необходимые педагогу для осуществления развивающей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отовность принять разных детей, вне зависимости от их реальных учебных возможностей, особенностей в поведении, состояния психического и физического здоровья. Профессиональная установка на оказание помощи любому ребё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особность в ходе наблюдения выявлять разнообразные проблемы детей, связанные с особенностями их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ность оказать адресную помощь ребёнку педагогическими приё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товность к взаимодействию с другими специалистами в рамках психолого-медико-педагогического консили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ение читать документацию специалистов (психологов, дефектологов, логопедов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мение составлять совместно с другими специалистами программу индивидуального развития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5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"/>
          <p:cNvSpPr/>
          <p:nvPr/>
        </p:nvSpPr>
        <p:spPr>
          <a:xfrm>
            <a:off x="250920" y="1413000"/>
            <a:ext cx="864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асть третья: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личностные качества и профессиональные компетенции, необходимые педагогу для осуществления развивающей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ладение специальными методиками, позволяющими проводить коррекционно-развивающу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мение отслеживать динамику развити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мение защитить тех, кого в детском коллективе не приним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Знание общих закономерностей развития личности и проявления личностных свойств, психологических законов периодизации и кризисов развития, возрастных особенностей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Умение использовать в практике своей работы психологические подходы: культурно-исторический, деятельностный и разви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Умение проектировать психологически безопасную и комфортную образовательную среду, знать и уметь проводить профилактику различных форм насилия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50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4"/>
          <p:cNvSpPr/>
          <p:nvPr/>
        </p:nvSpPr>
        <p:spPr>
          <a:xfrm>
            <a:off x="185760" y="1319040"/>
            <a:ext cx="864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асть третья: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личностные качества и профессиональные компетенции, необходимые педагогу для осуществления развивающей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Умение (совместно с психологом и другими специалистами) осуществлять психолого-педагогическое сопровождение образовательных программ начального, в том числе программ дополнитель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Владение элементарными приемами психодиагностики личностных характеристик и возрастных особенностей учащихся, осуществление совместно с психологом мониторинга личностных характеристик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Умение (совместно с психологом и другими специалистами) составить психолого-педагогическую характеристику (портрет) личности уча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Умение разрабатывать и реализовывать индивидуальные программы развития с учетом личностных и возрастных особенностей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Умение формировать и развивать универсальные учебные действия, образцы и ценности социального поведения, навыки поведения в мире виртуальной реальности и социальных сетях, навыки поликультурного общения и толерантность, ключевые компет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54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"/>
          <p:cNvSpPr/>
          <p:nvPr/>
        </p:nvSpPr>
        <p:spPr>
          <a:xfrm>
            <a:off x="219240" y="1557360"/>
            <a:ext cx="835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асть третья: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личностные качества и профессиональные компетенции, необходимые педагогу для осуществления развивающей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Владение психолого-педагогическими технологиями (в том числе инклюзивными), необходимыми для работы с различными учащимися: одаренные дети, социально уязвимые дети, попавшие в трудные жизненные ситуации, дети-мигранты, дети-сироты, дети с особыми образовательными потребностями (аутисты, СДВГ и др.), дети с ОВЗ, дети с девиациями поведения, дети с зависим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Умение формировать детско-взрослые сообщества, знание их социально-психологических особенностей и закономерностей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Знание основных закономерностей семейных отношений, позволяющих эффективно работать с родительской обществен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58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3"/>
          <p:cNvSpPr/>
          <p:nvPr/>
        </p:nvSpPr>
        <p:spPr>
          <a:xfrm>
            <a:off x="219240" y="155736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ь пятая: профессиональные компетентности педагога  дошкольного образования (воспитателя), отражающие специфику  работы на дошкольном уровн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 дошкольного образования должен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специфику дошкольного образования и особенности организации образовательной работы с детьми раннего и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общие закономерности развития ребенка в раннем и дошкольном детстве; особенности становления и развития детских деятельностей в раннем и дошкольном возра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организовывать ведущие в дошкольном возрасте виды деятельности: предметно-манипулятивную и игровую, обеспечивая развитие детей. Организовывать совместную и самостоятельную деятельность дошколь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теорией и педагогическими методиками физического, познавательного и личностного развития детей раннего и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62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3"/>
          <p:cNvSpPr/>
          <p:nvPr/>
        </p:nvSpPr>
        <p:spPr>
          <a:xfrm>
            <a:off x="219240" y="155736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ь пятая: профессиональные компетентности педагога  дошкольного образования (воспитателя), отражающие специфику  работы на дошкольном уровн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 дошкольного образования должен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еть планировать, реализовывать и анализировать образовательную работу с детьми раннего и дошкольного возраста в соответствии с ФГОС дошкольного образования (ФГ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меть планировать и корректировать образовательные задачи (совместно с психологом и другими специалистами) по результатам мониторинга, с учетом индивидуальных особенностей развития каждого ребенка раннего и/или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ализовывать педагогические рекомендации специалистов (психолога, логопеда, дефектолога и др.) в работе с детьми, испытывающими трудности в освоении программы, или детьми с особыми образовательными потреб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3"/>
          <p:cNvSpPr/>
          <p:nvPr/>
        </p:nvSpPr>
        <p:spPr>
          <a:xfrm>
            <a:off x="219240" y="1557360"/>
            <a:ext cx="83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ь пятая: профессиональные компетентности педагога  дошкольного образования (воспитателя), отражающие специфику  работы на дошкольном уровн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 дошкольного образования должен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частвовать в создании психологически комфортной и безопасной образовательной среды, обеспечивая безопасность жизни детей, сохранение и укрепление их здоровья, поддерживая эмоциональное благополучие ребенка в период пребывания в образовательной орган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ладеть методами и средствами анализа психолого- педагогического мониторинга, позволяющего оценить результаты освоения детьми образовательных программ, степень сформированности у них необходимых интегративных качеств детей дошкольного возраста, необходимых для дальнейшего обучения и развития в начальной шко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8942400" cy="36702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80520" y="3786120"/>
            <a:ext cx="84582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3"/>
          <p:cNvSpPr/>
          <p:nvPr/>
        </p:nvSpPr>
        <p:spPr>
          <a:xfrm>
            <a:off x="219240" y="1557360"/>
            <a:ext cx="835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ь пятая: профессиональные компетентности педагога  дошкольного образования (воспитателя), отражающие специфику  работы на дошкольном уровн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 дошкольного образования должен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ладеть методами и средствами психолого-педагогического просвещения родителей (законных представителей) детей раннего и дошкольного возраста, уметь выстраивать партнерское взаимодействие с ними для решения образовательных задач. 11. Владеть ИКТ-компетенциями, необходимыми и достаточными для планирования, реализации и оценки образовательной работы с детьми раннего и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3"/>
          <p:cNvSpPr/>
          <p:nvPr/>
        </p:nvSpPr>
        <p:spPr>
          <a:xfrm>
            <a:off x="108000" y="981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ценки выполнения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стандарта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4"/>
          <p:cNvSpPr/>
          <p:nvPr/>
        </p:nvSpPr>
        <p:spPr>
          <a:xfrm>
            <a:off x="250920" y="1811160"/>
            <a:ext cx="84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деятельность педагога дошкольного образования оценивается только комплексно. Высокая оценка включает сочетание показателей динамики развития интегративных качеств ребенка, положительного отношения ребенка к детскому саду и высокой степени  активности и вовлеченности родителей в решение образовательных задач и жизнь детского с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1"/>
          <p:cNvSpPr/>
          <p:nvPr/>
        </p:nvSpPr>
        <p:spPr>
          <a:xfrm>
            <a:off x="345960" y="1557360"/>
            <a:ext cx="820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профессионального стандарта педагога предоставляет регионам РФ и образовательным организациям дополнительные степени свободы, вместе с тем накладывая на них серьезную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е органы управления образованием совместно с профессиональным сообществом могут разработать дополнения к н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ю очередь, образовательные организации имеют возможность сформулировать свои внутренние стандарты, на основе которых нужно будет разработать и принять локальные нормативные акты, закрепляющие требования к квалификации педагогов, соответствующие задачам данной образовательной организации и специфике е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79" name="TextBox 3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4"/>
          <p:cNvSpPr/>
          <p:nvPr/>
        </p:nvSpPr>
        <p:spPr>
          <a:xfrm>
            <a:off x="345960" y="981000"/>
            <a:ext cx="59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е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"/>
          <p:cNvPicPr/>
          <p:nvPr/>
        </p:nvPicPr>
        <p:blipFill>
          <a:blip r:embed="rId1"/>
          <a:srcRect l="0" t="5162" r="0" b="0"/>
          <a:stretch/>
        </p:blipFill>
        <p:spPr>
          <a:xfrm>
            <a:off x="826920" y="1405080"/>
            <a:ext cx="2683080" cy="381132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1"/>
          <p:cNvSpPr/>
          <p:nvPr/>
        </p:nvSpPr>
        <p:spPr>
          <a:xfrm>
            <a:off x="3851280" y="1700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Чтобы зажечь друг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до гореть самому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. А. Ямбур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84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3"/>
          <p:cNvSpPr/>
          <p:nvPr/>
        </p:nvSpPr>
        <p:spPr>
          <a:xfrm>
            <a:off x="646200" y="2349360"/>
            <a:ext cx="768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-6480" y="1006560"/>
            <a:ext cx="8985240" cy="4016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8942400" cy="39560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56760" y="1285560"/>
            <a:ext cx="8458200" cy="47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 дошкольного, начального и общего среднего образования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может применяться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и приеме на работу в общеобразовательное учреждение на должность «педагог»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 проведении аттестации педагогов образовательных учреждений региональными органами исполнительной власти, осуществляющими управление в сфере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ри проведении аттестации педагогов самими образовательными организациями, в случае предоставления им соответствующих полномочи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Прямоугольник 3"/>
          <p:cNvSpPr/>
          <p:nvPr/>
        </p:nvSpPr>
        <p:spPr>
          <a:xfrm>
            <a:off x="1143000" y="500040"/>
            <a:ext cx="477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ПРИ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35344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-6480" y="566640"/>
            <a:ext cx="8942400" cy="12747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1857240" y="50004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А СТАНД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4"/>
          <p:cNvSpPr/>
          <p:nvPr/>
        </p:nvSpPr>
        <p:spPr>
          <a:xfrm>
            <a:off x="571680" y="1857240"/>
            <a:ext cx="7929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определяются основные требования к квалификаци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жет дополнятся региональными требов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жет быть дополнен внутренним стандартом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Является уровневым, учитывающим специфику работы педагогов дошкольного учреждения 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жает структуру профессиональной деятельности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двигает требования к личностным качествам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353440" cy="70668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8"/>
          <p:cNvSpPr/>
          <p:nvPr/>
        </p:nvSpPr>
        <p:spPr>
          <a:xfrm>
            <a:off x="2603160" y="324468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основные требования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353440" cy="706680"/>
          </a:xfrm>
          <a:prstGeom prst="rect">
            <a:avLst/>
          </a:prstGeom>
          <a:ln w="0">
            <a:noFill/>
          </a:ln>
        </p:spPr>
      </p:pic>
      <p:sp>
        <p:nvSpPr>
          <p:cNvPr id="416" name="TextBox 2"/>
          <p:cNvSpPr/>
          <p:nvPr/>
        </p:nvSpPr>
        <p:spPr>
          <a:xfrm>
            <a:off x="539640" y="34128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>
            <a:hlinkClick r:id="" action="ppaction://hlinkshowjump?jump=previousslide"/>
          </p:cNvPr>
          <p:cNvSpPr/>
          <p:nvPr/>
        </p:nvSpPr>
        <p:spPr>
          <a:xfrm>
            <a:off x="3999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 нужен профессиональный стандарт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– инструмент реализации стратегии образования в меняющемся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– инструмент повышения качества образования и выхода отечественного образования на международный уров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– объективный измеритель квалификации педаг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– средство отбора педагогических кадров в учреждения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– основа для формирования трудового договора, фиксирующего отношения между работником и работода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500040" y="1214280"/>
            <a:ext cx="8326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профессиональному  стандарту педагога Стандарт дол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овать структуре профессиональной деятельност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вращаться в инструмент жесткой регламентации деятельност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вить педагога от выполнения несвойственных функций, отвлекающих его от выполнения своих прям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ть педагога к поиску нестандартны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овать международным нормам и регламен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ситься с требованиями профильных министерств и ведомств, от которых зависят исчисление трудового стажа, начисление пен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0" y="240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23" name="TextBox 3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270000" y="1436760"/>
            <a:ext cx="8589960" cy="49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— рамочный документ, в котором определяются основные требования к его квалифик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ациональная рамка стандарта может быть дополнена региональными требованиями, учитывающими социокультурные, демографические и прочие особенности территории (мегаполисы, районы с преобладанием сельского населения, моноэтнические и полиэтнические регионы накладывают свою специфику на труд педагог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может быть также дополнен внутренним стандартом образовательного учреждения, в соответствии со спецификой реализуемых в данном учреждении образовательных программ (школа для одаренных, инклюзивная школа и т. 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является уровневым, учитывающим специфику работы педагогов в дошкольных учреждениях, начальной, основной и старше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160200" y="1197000"/>
            <a:ext cx="8732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ь первая: 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 долж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меть высшее образование. Педагогам, имеющим среднее специальное образование и работающим в настоящее время в начальной школе, должны быть созданы условия для его получения без отрыва от своей профессион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монстрировать знание предмета и программы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меть планировать, проводить уроки, анализировать их эффективность (самоанализ уро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ладеть формами и методами обучения, выходящими за рамки уроков: лабораторные эксперименты, полевая практика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спользовать специальные подходы к обучению, для того чтобы включить в образовательный процесс всех учеников: со специальными потребностями в образовании; одаренных учеников; учеников, для которых русский язык не является родным; учеников с ограниченными возможностям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меть объективно оценивать знания учеников, используя раз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 методы контр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ладеть ИКТ-компетен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7:00:58Z</dcterms:created>
  <dc:creator>user</dc:creator>
  <dc:description/>
  <dc:language>en-US</dc:language>
  <cp:lastModifiedBy>МАДОУ№346</cp:lastModifiedBy>
  <dcterms:modified xsi:type="dcterms:W3CDTF">2016-11-28T15:36:29Z</dcterms:modified>
  <cp:revision>35</cp:revision>
  <dc:subject/>
  <dc:title>Введение с 1 января 2017 года профессионального стандарта педагога. Требования к современному учителю.</dc:title>
</cp:coreProperties>
</file>