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7E4-9392-4E4F-AD63-2FFA1E05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FC6-0B9A-4E55-A642-948E6E20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583D6-5CE6-4576-89A6-9DD041A2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A58D5-9CFA-4515-90D9-1112F5C8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E43E4-3EFE-4D64-ACC0-D363D4DA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7EA4B-C180-4093-9072-149C0472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4B43B-D3FD-4F63-9213-ECDC899D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A9A7E-8A33-4308-BE78-ED1727F7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0D261-6CD0-4D04-87C6-FE54692B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AB15E-DDD0-4DD2-A4A9-88F31192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9D00C-632F-4AE3-B0BF-FBB80DD9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6FC-AB3D-4474-A291-1E2AFECF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D92-AE78-4DF7-AA43-2AE075DA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E1E7-48C0-4472-A0E8-6498AEC2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D804-D201-457E-94AB-63DCF2A0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9E11-9A9D-4D98-B9DB-F64DC810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6DF7-FEA6-48AA-9B15-FAC12F61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2BB1-6E56-4FB4-9279-4ECE8789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E142-3C7A-4A97-82D3-9EE9F4BE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6911-CA56-4E5A-A718-7AA3E27D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38C-07CB-4670-84CD-AFF46553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3CFE-BCA4-4AB6-B108-4BB0CCF0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89B6-7DAC-4ABD-ACA5-9DF809D3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9BE4-81FC-480E-9A67-97D14091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A228-5423-44A5-813B-6AD27F00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2FE4-A4EA-4A5C-AC5D-83378C8C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55A94-6799-4B58-AEFE-3B08BDCE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9324C-3BB2-4026-86BF-34915DC1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FD97D-D150-4034-9155-02CAA696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99E63-AF2D-4690-9F26-EB7F65AC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9BF0E-F4B3-4FAB-ABCA-E5E20508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5C8-8616-45C6-B95A-DE9FEA00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364FB-B175-473F-9D60-DCE9FF83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77F71-E717-4308-9B42-D06475B6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C506C-E817-4157-A9B5-B55E892E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783B1-C265-4E21-AD08-D070C556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296CB-70D2-445D-AB6D-DCFC6D21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38579-0802-4294-8139-C4131B96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3D412-08B0-46E3-B92C-4B85B9D4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996CA-C935-42F4-8D70-5E36EA1D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2B28A-B688-4187-9B3D-B268A62D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7A505-114E-46FC-859E-75BD56BA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2EB-1F37-478E-B653-418566D3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05781-30E4-439D-B814-9807131E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03871-44FD-4986-8342-DC4AF8B4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DF792-8D56-4B92-A15B-6BCC4D3B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313A7-361A-4494-81E2-49819375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A4ECA-3913-4119-983C-ED4653C9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D8459-4776-4EE0-A6F8-D0B39C84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889C5-BECD-4828-8D2F-DF5275A8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95521-EF7B-4D31-968B-DCACC999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6A498-EFA5-45D7-B81A-63311F8A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8FE8D-122D-4B49-B264-91E27E7A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92C-58AA-48E8-A51A-8186E159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D95E7-4A4A-4796-BB09-0E3C818D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5BC06-3289-4A10-996A-E335E311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049E6-1488-4E12-BE30-5E9110D8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C2D2F-CE29-4D04-92B6-515E9BC8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2D05C-E811-4951-B6E1-A9AF62B8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10B5C-97B3-4565-86D3-30461A6C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358AD-DA86-4E14-81E4-A7B1C7E9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B051F-F742-4CCB-BA15-3E0D28FE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AFEBA-0DDE-4A37-9DC8-35672B46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B979B-7398-49AF-BF78-183B7BEC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448-A0DF-4287-B0C1-37A89F8A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683E7-0590-4AC7-B8F4-B6F82E6A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17612-45C3-4ECC-8010-3528F8FD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1F319-03D3-4359-A08B-CE085A2B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BD347-B360-4635-95D3-AFDDEF42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78CC2-27B7-4517-A7E8-5537CE67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0BCF7-3F94-4A85-80A3-D6AF52D0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4EA5D-1EE2-43F2-9D9A-6A1AE4FD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C21CA-C4DB-4F98-9E12-D29A20A7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7EF7E-7A09-45EB-8365-3D2C87F3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A4878-FE54-48B5-ABF6-49BD272C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53B-CFC7-49E5-8784-4A8ED259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0DC6A-1161-443D-96C3-52352119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030D8-BA06-48E9-8F4B-C56C4130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E7DC6-9633-4C2D-BCA9-ED5A2869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7C3CC-89A4-45DD-B30F-30A87D6E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8A1D8-538C-402F-A804-A9A5B9B6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DEF27-26F0-4173-9D8E-57E8482D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572C0-E6ED-4BB0-804A-65B5F851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7D00E-8353-42BE-B67A-F978EE22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C60E6-6314-4092-B8D7-16F62F4D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520DB-8076-4737-91B3-F23AFEDB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B5F-5B0D-467D-A45C-1A4EAED2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DB276-FE49-4477-9CC3-3EFDFBEC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72EFB-A077-4CC4-8D20-153A7533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DFD67-4092-440B-9A78-C615F1A0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7C500-560F-4832-9815-28E94143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2E298-24B1-427D-9D01-928B146C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47532-802D-45B9-B207-68ED6091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38709-5805-4314-937F-E2BC527E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60A4B-9BCE-434F-B741-6E04F5D0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F9D46-5858-437C-85C7-92D0E427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D6AA4-A5D0-4D37-8B9F-4684D718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AE7-81A6-4DEF-96A1-F9954836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F8148-2830-4B91-9003-41C17DBC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13BEF-9641-4CBF-885C-34D2F70D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6EA87-87A8-4187-976E-2B3FBCC5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8F50C-3C64-47D2-9C77-3300DFFE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591E2-C1FD-4606-B98B-B2834EC0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E5FD9-FC1D-44A8-875F-7B3F40EB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386EF-84F9-43E2-B320-C5308A40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80C79-5A8D-46F5-8EDB-7931D99B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9A9AC-D814-4C94-A39D-DD9964A5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88C72-E388-4E87-BF6F-84AA2F6D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9D25-DACC-4F17-9712-35C795C9E7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8B7D-59B2-47FA-BA47-184E7A6399F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ECFA-3B67-4740-B4C6-0463B6F7262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721A-83AC-4E2C-9022-E1E449222EC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AEE7-2E53-4079-862E-6509D7F4E72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CED1-D5EF-4BC7-A23B-08836F4769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21AA-3D59-4C8A-9F25-D752DC5565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C65B-308C-4386-BBF7-BC778E3564A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9B67-47D4-42F2-8E39-DCC9A4032CD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084400" y="762120"/>
            <a:ext cx="6383160" cy="42606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Старший воспитатель: Бадуртдинова Г.Р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30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3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4"/>
          <p:cNvSpPr/>
          <p:nvPr/>
        </p:nvSpPr>
        <p:spPr>
          <a:xfrm>
            <a:off x="250920" y="1292400"/>
            <a:ext cx="8497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ь вторая: воспитате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 долж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ладеть формами и методами воспитательной работы, используя их как на уроке, так и во внеуроч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ладеть методами организации экскурсий, походов и экспеди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ладеть методами музейной педагогики, используя их для расширения кругозора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Эффективно регулировать поведение учащихся для обеспечения безопасной образовательно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Эффективно управлять классами, с целью вовлечения учеников в процесс обучения и воспитания, мотивируя их учебно-познавательную деятельность. Ставить воспитательные цели, способствующие развитию учеников, независимо от их происхождения, способностей и характера, постоянно искать педагогические пути их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станавливать чёткие правила поведения в классе в соответствии со школьным уставом и правилами поведения в образовате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Прямоугольник 1"/>
          <p:cNvSpPr/>
          <p:nvPr/>
        </p:nvSpPr>
        <p:spPr>
          <a:xfrm>
            <a:off x="231840" y="1341360"/>
            <a:ext cx="842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ь вторая: воспитате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 долж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казывать всестороннюю помощь и поддержку в организации ученических органов само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Уметь общаться с детьми, признавая их достоинство, понимая и принимая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Уметь находить (обнаруживать) ценностный аспект учебного знания и информации и обеспечивать его понимание и переживание учащим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Уметь проектировать и создавать ситуации и события, развивающие эмоционально-ценностную сферу ребёнка (культуру переживаний и ценностные ориентации ребён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Уметь обнаруживать и реализовывать воспитательные возможности различных видов деятельности ребёнка (образовательной, игровой, трудовой, спортивной, художественно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Уметь строить воспитательную деятельность с учётом культурных различий детей, половозрастных и индивидуальных особ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4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оугольник 1"/>
          <p:cNvSpPr/>
          <p:nvPr/>
        </p:nvSpPr>
        <p:spPr>
          <a:xfrm>
            <a:off x="268200" y="133524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ь вторая: воспитате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 долж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Уметь создавать в учебных группах (классе, кружке, секции и т.п.) детско-взрослые общности учащихся, их родителей и педаг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Уметь поддерживать конструктивные воспитательные усилия родителей (лиц, их заменяющих) учащихся, привлекать семью к решению вопросов воспитания реб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Уметь сотрудничать (конструктивно взаимодействовать) с другими педагогами и специалистами в решении воспитательных задач (задач духовно-нравственного развития ребён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Уметь анализировать реальное состояние дел в классе, поддерживать в детском коллективе деловую дружелюбную атмосф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Уметь защищать достоинство и интересы учащихся, помогать детям, оказавшимся в конфликтной ситуации и/или в неблагоприятных усло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Поддерживать уклад, атмосферу и традиции жизни школы, внося в них свой положительный вкл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39" name="TextBox 3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4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42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3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4"/>
          <p:cNvSpPr/>
          <p:nvPr/>
        </p:nvSpPr>
        <p:spPr>
          <a:xfrm>
            <a:off x="250920" y="1413000"/>
            <a:ext cx="8497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асть третья: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личностные качества и профессиональные компетенции, необходимые педагогу для осуществления развивающей дея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отовность принять разных детей, вне зависимости от их реальных учебных возможностей, особенностей в поведении, состояния психического и физического здоровья. Профессиональная установка на оказание помощи любому ребё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особность в ходе наблюдения выявлять разнообразные проблемы детей, связанные с особенностями их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особность оказать адресную помощь ребёнку педагогическими приё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отовность к взаимодействию с другими специалистами в рамках психолого-медико-педагогического консили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мение читать документацию специалистов (психологов, дефектологов, логопедов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мение составлять совместно с другими специалистами программу индивидуального развития реб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5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"/>
          <p:cNvSpPr/>
          <p:nvPr/>
        </p:nvSpPr>
        <p:spPr>
          <a:xfrm>
            <a:off x="250920" y="1413000"/>
            <a:ext cx="8642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асть третья: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личностные качества и профессиональные компетенции, необходимые педагогу для осуществления развивающей дея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ладение специальными методиками, позволяющими проводить коррекционно-развивающую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Умение отслеживать динамику развити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Умение защитить тех, кого в детском коллективе не приним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Знание общих закономерностей развития личности и проявления личностных свойств, психологических законов периодизации и кризисов развития, возрастных особенностей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Умение использовать в практике своей работы психологические подходы: культурно-исторический, деятельностный и развиваю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Умение проектировать психологически безопасную и комфортную образовательную среду, знать и уметь проводить профилактику различных форм насилия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50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3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4"/>
          <p:cNvSpPr/>
          <p:nvPr/>
        </p:nvSpPr>
        <p:spPr>
          <a:xfrm>
            <a:off x="185760" y="1319040"/>
            <a:ext cx="8640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асть третья: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личностные качества и профессиональные компетенции, необходимые педагогу для осуществления развивающей дея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Умение (совместно с психологом и другими специалистами) осуществлять психолого-педагогическое сопровождение образовательных программ начального, в том числе программ дополнитель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Владение элементарными приемами психодиагностики личностных характеристик и возрастных особенностей учащихся, осуществление совместно с психологом мониторинга личностных характеристик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Умение (совместно с психологом и другими специалистами) составить психолого-педагогическую характеристику (портрет) личности учащего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Умение разрабатывать и реализовывать индивидуальные программы развития с учетом личностных и возрастных особенностей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Умение формировать и развивать универсальные учебные действия, образцы и ценности социального поведения, навыки поведения в мире виртуальной реальности и социальных сетях, навыки поликультурного общения и толерантность, ключевые компете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54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3"/>
          <p:cNvSpPr/>
          <p:nvPr/>
        </p:nvSpPr>
        <p:spPr>
          <a:xfrm>
            <a:off x="219240" y="1557360"/>
            <a:ext cx="8353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асть третья: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личностные качества и профессиональные компетенции, необходимые педагогу для осуществления развивающей дея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Владение психолого-педагогическими технологиями (в том числе инклюзивными), необходимыми для работы с различными учащимися: одаренные дети, социально уязвимые дети, попавшие в трудные жизненные ситуации, дети-мигранты, дети-сироты, дети с особыми образовательными потребностями (аутисты, СДВГ и др.), дети с ОВЗ, дети с девиациями поведения, дети с зависим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Умение формировать детско-взрослые сообщества, знание их социально-психологических особенностей и закономерностей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Знание основных закономерностей семейных отношений, позволяющих эффективно работать с родительской обществен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58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3"/>
          <p:cNvSpPr/>
          <p:nvPr/>
        </p:nvSpPr>
        <p:spPr>
          <a:xfrm>
            <a:off x="219240" y="155736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ь пятая: профессиональные компетентности педагога  дошкольного образования (воспитателя), отражающие специфику  работы на дошкольном уровне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 дошкольного образования должен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специфику дошкольного образования и особенности организации образовательной работы с детьми раннего и дошкольного возра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общие закономерности развития ребенка в раннем и дошкольном детстве; особенности становления и развития детских деятельностей в раннем и дошкольном возра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организовывать ведущие в дошкольном возрасте виды деятельности: предметно-манипулятивную и игровую, обеспечивая развитие детей. Организовывать совместную и самостоятельную деятельность дошколь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 теорией и педагогическими методиками физического, познавательного и личностного развития детей раннего и дошкольного возра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4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62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3"/>
          <p:cNvSpPr/>
          <p:nvPr/>
        </p:nvSpPr>
        <p:spPr>
          <a:xfrm>
            <a:off x="219240" y="1557360"/>
            <a:ext cx="835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ь пятая: профессиональные компетентности педагога  дошкольного образования (воспитателя), отражающие специфику  работы на дошкольном уровне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 дошкольного образования должен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меть планировать, реализовывать и анализировать образовательную работу с детьми раннего и дошкольного возраста в соответствии с ФГОС дошкольного образования (ФГ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меть планировать и корректировать образовательные задачи (совместно с психологом и другими специалистами) по результатам мониторинга, с учетом индивидуальных особенностей развития каждого ребенка раннего и/или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еализовывать педагогические рекомендации специалистов (психолога, логопеда, дефектолога и др.) в работе с детьми, испытывающими трудности в освоении программы, или детьми с особыми образовательными потреб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4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66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3"/>
          <p:cNvSpPr/>
          <p:nvPr/>
        </p:nvSpPr>
        <p:spPr>
          <a:xfrm>
            <a:off x="219240" y="1557360"/>
            <a:ext cx="835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ь пятая: профессиональные компетентности педагога  дошкольного образования (воспитателя), отражающие специфику  работы на дошкольном уровне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 дошкольного образования должен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Участвовать в создании психологически комфортной и безопасной образовательной среды, обеспечивая безопасность жизни детей, сохранение и укрепление их здоровья, поддерживая эмоциональное благополучие ребенка в период пребывания в образовательной орган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ладеть методами и средствами анализа психолого- педагогического мониторинга, позволяющего оценить результаты освоения детьми образовательных программ, степень сформированности у них необходимых интегративных качеств детей дошкольного возраста, необходимых для дальнейшего обучения и развития в начальной шко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4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8942400" cy="36702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80520" y="3786120"/>
            <a:ext cx="845820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70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3"/>
          <p:cNvSpPr/>
          <p:nvPr/>
        </p:nvSpPr>
        <p:spPr>
          <a:xfrm>
            <a:off x="219240" y="1557360"/>
            <a:ext cx="8353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ь пятая: профессиональные компетентности педагога  дошкольного образования (воспитателя), отражающие специфику  работы на дошкольном уровне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 дошкольного образования должен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ладеть методами и средствами психолого-педагогического просвещения родителей (законных представителей) детей раннего и дошкольного возраста, уметь выстраивать партнерское взаимодействие с ними для решения образовательных задач. 11. Владеть ИКТ-компетенциями, необходимыми и достаточными для планирования, реализации и оценки образовательной работы с детьми раннего и дошкольного возра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4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74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3"/>
          <p:cNvSpPr/>
          <p:nvPr/>
        </p:nvSpPr>
        <p:spPr>
          <a:xfrm>
            <a:off x="108000" y="981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ценки выполнения треб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го стандарта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4"/>
          <p:cNvSpPr/>
          <p:nvPr/>
        </p:nvSpPr>
        <p:spPr>
          <a:xfrm>
            <a:off x="250920" y="1811160"/>
            <a:ext cx="849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 деятельность педагога дошкольного образования оценивается только комплексно. Высокая оценка включает сочетание показателей динамики развития интегративных качеств ребенка, положительного отношения ребенка к детскому саду и высокой степени  активности и вовлеченности родителей в решение образовательных задач и жизнь детского с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1"/>
          <p:cNvSpPr/>
          <p:nvPr/>
        </p:nvSpPr>
        <p:spPr>
          <a:xfrm>
            <a:off x="345960" y="1557360"/>
            <a:ext cx="820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профессионального стандарта педагога предоставляет регионам РФ и образовательным организациям дополнительные степени свободы, вместе с тем накладывая на них серьезную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ые органы управления образованием совместно с профессиональным сообществом могут разработать дополнения к не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ю очередь, образовательные организации имеют возможность сформулировать свои внутренние стандарты, на основе которых нужно будет разработать и принять локальные нормативные акты, закрепляющие требования к квалификации педагогов, соответствующие задачам данной образовательной организации и специфике ее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79" name="TextBox 3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4"/>
          <p:cNvSpPr/>
          <p:nvPr/>
        </p:nvSpPr>
        <p:spPr>
          <a:xfrm>
            <a:off x="345960" y="981000"/>
            <a:ext cx="59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е 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"/>
          <p:cNvPicPr/>
          <p:nvPr/>
        </p:nvPicPr>
        <p:blipFill>
          <a:blip r:embed="rId1"/>
          <a:srcRect l="0" t="5162" r="0" b="0"/>
          <a:stretch/>
        </p:blipFill>
        <p:spPr>
          <a:xfrm>
            <a:off x="826920" y="1405080"/>
            <a:ext cx="2683080" cy="381132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1"/>
          <p:cNvSpPr/>
          <p:nvPr/>
        </p:nvSpPr>
        <p:spPr>
          <a:xfrm>
            <a:off x="3851280" y="17002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Чтобы зажечь друг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до гореть самому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Е. А. Ямбур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84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3"/>
          <p:cNvSpPr/>
          <p:nvPr/>
        </p:nvSpPr>
        <p:spPr>
          <a:xfrm>
            <a:off x="646200" y="2349360"/>
            <a:ext cx="768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-6480" y="1006560"/>
            <a:ext cx="8985240" cy="4016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8942400" cy="39560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56760" y="1285560"/>
            <a:ext cx="8458200" cy="47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а дошкольного, начального и общего среднего образования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может применяться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и приеме на работу в общеобразовательное учреждение на должность «педагог»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и проведении аттестации педагогов образовательных учреждений региональными органами исполнительной власти, осуществляющими управление в сфере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ри проведении аттестации педагогов самими образовательными организациями, в случае предоставления им соответствующих полномочий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Прямоугольник 3"/>
          <p:cNvSpPr/>
          <p:nvPr/>
        </p:nvSpPr>
        <p:spPr>
          <a:xfrm>
            <a:off x="1143000" y="500040"/>
            <a:ext cx="477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ПРИМЕ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835344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-6480" y="566640"/>
            <a:ext cx="8942400" cy="12747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sp>
        <p:nvSpPr>
          <p:cNvPr id="411" name="Прямоугольник 3"/>
          <p:cNvSpPr/>
          <p:nvPr/>
        </p:nvSpPr>
        <p:spPr>
          <a:xfrm>
            <a:off x="1857240" y="500040"/>
            <a:ext cx="53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А СТАНД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4"/>
          <p:cNvSpPr/>
          <p:nvPr/>
        </p:nvSpPr>
        <p:spPr>
          <a:xfrm>
            <a:off x="571680" y="1857240"/>
            <a:ext cx="7929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определяются основные требования к квалификаци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жет дополнятся региональными требов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жет быть дополнен внутренним стандартом 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Является уровневым, учитывающим специфику работы педагогов дошкольного учреждения 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ажает структуру профессиональной деятельности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двигает требования к личностным качествам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8353440" cy="70668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8"/>
          <p:cNvSpPr/>
          <p:nvPr/>
        </p:nvSpPr>
        <p:spPr>
          <a:xfrm>
            <a:off x="2603160" y="3244680"/>
            <a:ext cx="39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ся основные требования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353440" cy="706680"/>
          </a:xfrm>
          <a:prstGeom prst="rect">
            <a:avLst/>
          </a:prstGeom>
          <a:ln w="0">
            <a:noFill/>
          </a:ln>
        </p:spPr>
      </p:pic>
      <p:sp>
        <p:nvSpPr>
          <p:cNvPr id="416" name="TextBox 2"/>
          <p:cNvSpPr/>
          <p:nvPr/>
        </p:nvSpPr>
        <p:spPr>
          <a:xfrm>
            <a:off x="539640" y="34128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>
            <a:hlinkClick r:id="" action="ppaction://hlinkshowjump?jump=previousslide"/>
          </p:cNvPr>
          <p:cNvSpPr/>
          <p:nvPr/>
        </p:nvSpPr>
        <p:spPr>
          <a:xfrm>
            <a:off x="3999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 нужен профессиональный стандарт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– инструмент реализации стратегии образования в меняющемся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– инструмент повышения качества образования и выхода отечественного образования на международный уров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– объективный измеритель квалификации педаг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– средство отбора педагогических кадров в учреждения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– основа для формирования трудового договора, фиксирующего отношения между работником и работода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500040" y="1214280"/>
            <a:ext cx="8326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профессиональному  стандарту педагога Стандарт дол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овать структуре профессиональной деятельност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вращаться в инструмент жесткой регламентации деятельност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авить педагога от выполнения несвойственных функций, отвлекающих его от выполнения своих прямых обяза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ать педагога к поиску нестандартны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овать международным нормам и регламен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ситься с требованиями профильных министерств и ведомств, от которых зависят исчисление трудового стажа, начисление пен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0" y="240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23" name="TextBox 3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270000" y="1436760"/>
            <a:ext cx="8589960" cy="49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— рамочный документ, в котором определяются основные требования к его квалифик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ациональная рамка стандарта может быть дополнена региональными требованиями, учитывающими социокультурные, демографические и прочие особенности территории (мегаполисы, районы с преобладанием сельского населения, моноэтнические и полиэтнические регионы накладывают свою специфику на труд педагог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может быть также дополнен внутренним стандартом образовательного учреждения, в соответствии со спецификой реализуемых в данном учреждении образовательных программ (школа для одаренных, инклюзивная школа и т. 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является уровневым, учитывающим специфику работы педагогов в дошкольных учреждениях, начальной, основной и старше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250920" y="130320"/>
            <a:ext cx="8353440" cy="7063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557280" y="341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РОФЕССИОНАЛЬНЫЙ СТАНДАР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3"/>
          <p:cNvSpPr/>
          <p:nvPr/>
        </p:nvSpPr>
        <p:spPr>
          <a:xfrm>
            <a:off x="250920" y="830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фессионального стандарта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160200" y="1197000"/>
            <a:ext cx="87328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ь первая: об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 долж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меть высшее образование. Педагогам, имеющим среднее специальное образование и работающим в настоящее время в начальной школе, должны быть созданы условия для его получения без отрыва от своей профессиона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монстрировать знание предмета и программы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меть планировать, проводить уроки, анализировать их эффективность (самоанализ уро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ладеть формами и методами обучения, выходящими за рамки уроков: лабораторные эксперименты, полевая практика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спользовать специальные подходы к обучению, для того чтобы включить в образовательный процесс всех учеников: со специальными потребностями в образовании; одаренных учеников; учеников, для которых русский язык не является родным; учеников с ограниченными возможностям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меть объективно оценивать знания учеников, используя раз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и методы контр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ладеть ИКТ-компетенц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3T17:00:58Z</dcterms:created>
  <dc:creator>user</dc:creator>
  <dc:description/>
  <dc:language>en-US</dc:language>
  <cp:lastModifiedBy>МАДОУ№346</cp:lastModifiedBy>
  <dcterms:modified xsi:type="dcterms:W3CDTF">2016-11-28T15:36:29Z</dcterms:modified>
  <cp:revision>35</cp:revision>
  <dc:subject/>
  <dc:title>Введение с 1 января 2017 года профессионального стандарта педагога. Требования к современному учителю.</dc:title>
</cp:coreProperties>
</file>