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FDE-F932-43DD-B4B9-B308594D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9A8F-C589-443F-A458-407B2F4A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E3B60-4CCB-4F38-8890-98D62FC8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DB7F2-2740-4A47-AB33-CFB84297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4D86D-C45F-4D6F-BBA6-40AA79C1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E58A7-6247-45EA-A230-25697D78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8C909-171D-47CA-858B-9506424C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9B599-40CA-454E-85A0-6BB12F7A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CEC81-6F90-44F0-8419-2F76F0C4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F1D2A-BBF8-4FA4-8F07-F1F841A4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B22BA-AD06-4C7D-97F6-F95A4845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08F52-D977-40BC-8C9A-1649B19E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DB0F-46B0-4B4F-A5E2-FD60D4F4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1C251-4C5B-4650-B109-D5835529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5814B-F2C8-447A-9FCE-0A85D01E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E2D69-6AFC-4CD9-961B-49646D57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F97A1-64FF-419D-B94A-6B360705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DFEE5-9DAA-41CF-9C5D-C90CFE93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D0791-74FD-4628-8B52-717EE94D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5AE05-48EE-4BA0-95D4-9E53CE68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AD1D6-A8BF-4BBC-ABEE-B3A67173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D3026-88EE-4C0E-90AA-2FC775D1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DE7AA-42C0-4812-AE29-57CA2FB4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8B16-8E20-4DD1-A315-8BD6CDF7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2185E-F9FF-4520-A5BF-64073AAE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DDEAC-F5B2-485B-B7F8-E6EAC57B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0744D-FF29-4E5E-9B42-A5A1B134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63D3B-DEB8-40A3-A737-39941772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7A4D0-DCB1-45B1-A574-62E998D8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094AE-BAB6-457E-9E29-12BBE497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4CEDD-D3C7-454C-A907-0C7211D9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210AE-F7D7-4847-AE82-B455D859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68A5A-02C2-450C-9E32-D43435C3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4EC7A-B89D-4FA1-8DF4-F32013A5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F34E3-091B-4225-981C-B4603301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1A6B3-9A74-4EEF-9B26-4D2018D1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1417F-E0AE-4328-AAF2-73A0B5B8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75435-B6F5-49CB-A3F2-D8C73F00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806F2-8FE3-4CCC-AA30-A7AC49AC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91CB9-A28B-45E3-B43B-90F4B47C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7FD72-7BF9-442D-9210-5C85E6CE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DD7A8-8C3D-4132-8054-E5EAB707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9E58F-8897-4F80-9446-DA7B3A2C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732BF-C5AB-4690-878B-FB428638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6A2A2-B50D-496E-9B89-F8ED61F6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7E74C-DC0E-415B-BE7F-C16AFC34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80665-CC96-4312-B968-99829F1B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F769B-02F8-4B0F-8A93-322E66B6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6BCA7-A7A1-4733-8F8F-98715B27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2B5BF-F41C-4CE8-B149-0D947BF7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D23C4-FC3F-485A-AE79-7233E340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447456-A076-4BBB-B2B9-5204C0AD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8DCE3B-C62D-4641-93EA-683A3DAB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24D1D-22FD-4F83-96AF-C08888B1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E5CBE9-5C1D-4CF9-BBC6-1B1C897E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058B1E-7B33-478C-966F-C31AED72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06780-B8EC-40A6-88FF-E77F7430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A2308F-2BD4-4EB0-891A-9E5EB69F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E8D700-5539-4700-AED1-C4F2EA11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20871B-673E-4E24-B8AD-D6245DA7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D3B970-997E-4263-8E4A-8B1B190C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414DB-54DF-4177-BF92-A570E829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7547B-16FA-4C26-9007-A9C82ACD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43D97-D104-474A-AD84-7CD7C038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4DEAC0-E50B-4291-BFC9-37BE3CF1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C99CC5-45EF-4E60-992C-06A4CF84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537556-F28F-4703-928D-A8E8D141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503DC-4F21-4D27-AB2C-69D6ABFF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C12F91-477E-4920-A966-5EBED606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BD5DDD-EBB5-42BF-B996-0EDC13D7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24BA2E-8920-4344-8721-5393CF79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E585D6-B399-4C4B-B055-DB9CD33F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772412-1DF3-47B4-BCCB-D1BDEB0B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AE03B2-F35B-437E-AE8B-59DD5410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E03925-811B-4CA4-9A75-CA64B3E5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598973-1A32-4C61-A94C-ECFECF35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F6CD44-3331-44C3-A2D4-EB374629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4429A5-74F5-4F10-BFF9-37FF3166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3EAA3-9E9B-49D7-9B74-81D5C845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43FF3C-1D12-4577-9ACF-8679650B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64499B-E7A8-4EDA-AB48-84390FEF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DAFD64-5CAE-4BF8-BB9C-344A0AF2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439AF4-1EFB-46C6-8B5F-57ADD67A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775A1B-9D08-49AE-AFEF-FAF9234C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A4D330-8FEF-4981-86C2-3BB54E4E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F2B287-018A-4898-9C97-FDF1D59E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968C11-87AE-4976-9043-B6D6B01F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D599AF-FBC1-4C70-A105-FDAF888A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F08B14-5655-4CCA-8718-64B4DA14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37D19-8D4A-4602-B0A5-F82B3D8C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683105-5D26-473D-9517-8DB4DA14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651140-A811-4B15-89D2-6DE72E3A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8F1778-D0D8-4A65-84ED-230AF06B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9BB354-0230-4D01-8199-767029FF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B6737A-19E5-49CF-BE9C-82876323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0FDFC6-6D0D-487D-878E-1A60C871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7241A2-A48D-477D-99D1-2BDECEFE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91DA52-2200-418D-A17A-874A057D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24C9A9-8F88-4DD2-81AA-90B254E1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992EDA-8A34-47D0-A3D7-8C162CB4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00CAB-A92C-46F2-9F47-00CDFA4D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CCA498-9826-4D84-9EA9-69E861B4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3FE750-088A-475B-8428-9DD7D1EE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B3D6B2-C268-4CB4-ADAF-8BA4B74B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4269D2-CD92-484C-B42C-16FB604F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147C82-D426-49C1-BF5A-E2F01E8F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EF1F7B-140D-4E0A-BFC9-A0BA29DB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0F0638-1B56-4E4C-9C1D-8FEA355C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359DEE-05F1-4046-A253-E91CA885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1B797F-11C7-4048-9A91-6C1790DB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343C12-82FA-4188-BD1B-40036B1D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A69F-84B8-45DC-AF1B-6496804F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78F0B-5B3E-44E4-9DF5-F110D74E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675EB5-8CB2-4BCE-88C6-DBE68589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91DD16-412A-4101-BD1C-5FFA937F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6820D1-DD37-47D0-BA17-36C85235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67A449-19D1-4E2E-A7EB-DD5FE405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289139-A2B5-4FB1-B354-09EF3464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7EDBD9B-A730-4CFE-8344-A17FFB14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8F9864B-C374-47B4-9BD2-45C23A49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FA1601B-80D0-492E-9B9B-9CB91824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3F869EC-45DC-4ADA-B175-168325D5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1931A2A-3839-413F-81CA-EBE61619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91723-987D-4A81-833B-5FC762A0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BB7A692-325D-4F01-9274-F2E9453D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534D37C-8C9C-4CDA-982C-D7F8F891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2B8D23B-2BD7-4619-820B-AB2D1222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329C28B-1270-4DF1-BF4D-8C415A30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5AEC97D-EA7D-42DB-BFE8-F42AFA6F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2D588FF-E2C7-49D3-89D4-6DE808D1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C55946C-A595-49C7-972F-063676B1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9BD6E-CE75-4B57-885F-4344EBAE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C4D42-69DF-464E-874F-439635B5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53796-8C9B-4B42-A6EE-FD0CB141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95EC4-1E03-4F16-B6E2-B6EF352A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710B9-4326-4B80-BF9A-504D4BCD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16C94-6B4D-4768-8873-EF6C5FD7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4D40D-7B59-4186-A0F7-DA0B9F27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8DE0C-C865-4804-9965-35CB8117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3905-E662-40B4-92D9-FF550ADC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D58E5-49D4-413D-B454-A03769EE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26824-9D94-43D3-A0F3-159D3837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B2204-3EE0-4808-A347-F15343DB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538FF-9B52-4594-9BFB-61EAB317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AD529-DC80-4849-BFF2-CF786318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B513D-4E16-44F1-9BA7-8A2D98D9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08266-8C90-4B5D-9CCF-05EE6A73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469CA-FA4D-4A79-BA08-E0244645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FAD62-2D7E-41AA-ABE7-0C0D6E2E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91074-9952-459C-AB13-BD142B8A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5B6D-581B-489C-BB47-9CDB81B0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758A9-CFD2-4FE5-B2B9-6127DC0C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CFF45-107A-4A23-A1B3-7D7372AB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25E51-9234-4C3B-B949-30E5B552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19E55-099B-4042-9DE5-BF8DC514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9FA5D-1BBD-40B3-90E7-3472A05C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152A6-240B-4F87-913D-2C6E1B40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2E4C9-1033-447B-8DB0-AC17CB95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59AFF-620A-48E5-AD43-21EB0315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48312-E674-456E-A6E4-16E6B2D1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4039C-F9F6-4D8B-BAF6-58A2C4F0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32CD-90DB-430E-AA70-BC02FACD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872CB-D241-4EE6-8AC6-54C01639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52834-9480-4E10-AAF2-9F92A95D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7ADCB-1427-4CF9-994D-58F8CCC8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4E44B-39E2-4975-8461-83CC8875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753E2-FAB0-4954-9AB2-6CB8EB5F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F9A69-22D6-46AA-AFED-BDBD7515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B9EC1-8342-4F63-BFDC-421617F1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CF4AE-4783-4647-B3B3-5C102191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27F10-D480-4A7B-AFC7-3006D997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69846-B809-4743-BE91-FD90CAC8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69AC-1F7D-42E6-A550-8AE4C942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7A7C4-589A-47BF-A68D-A957BD32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0B299-3EC9-4483-B31E-CC13FDBF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7E8E2-950C-44F8-B730-3CE53842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9822A-FC34-472D-8FFB-A6CBA767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47C14-C299-40B7-8698-BA61DFCB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E5804-5D6D-402F-A624-C09E1BB8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9DF31-CB02-4D31-8952-177AE400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7BA24-8F6D-454B-A5C0-B6C23C54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C9985-261E-4F4D-AFD4-736F3B34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1F46D-E025-499C-8C82-87A8CACB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622F-3F1F-446B-9A24-E0E93A9D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3AF6C-A2FF-48C4-992B-3F9FE52D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0ACC3-C1F1-4053-BBD3-B7AADB7B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ECCAD-AC0C-4E29-B106-7BC05B2B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C5D1E-C6F9-470C-A4BD-73FF791A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637F1-FE87-4F6E-8615-ED7008E2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26C62-43A5-4AF9-864D-5FD37C22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2EDFB-35EE-4893-9C7B-2DB56DC0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39C41-58B4-45B1-8CCC-BE675B3F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3A890-CB18-4C4D-A138-1551C4D8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890BA-CC6A-4D4F-9ED8-45498C03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0C94-4675-406F-A9D1-B6B6BB9E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311DA-820A-4927-A729-6F556C9E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1522F-CB67-40F3-A58D-A996D596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0EBB9-D831-40E0-BDEE-EF7BFC3E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E7501-9369-44D2-BB3F-541BCADB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A38B2-F84A-468A-956B-8FEA958C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77D07-4969-4448-B458-AB3E4AC7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E4A81-C61B-4AB3-9F8E-25B72B92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F374D-5782-4CDA-916F-EBBCC759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CEFE3-E4CA-4E02-A950-DE663A78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CA028-1797-41F3-819B-8E4E78C1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01E9-E8F3-4B6D-B5ED-27F5B819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DB3BE-98D4-46AC-9168-8899F7AE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2762D-9E11-46AA-AC62-6BFFEB20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5132D-D6FC-4C69-A425-814678E6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E80F0-72AF-48BF-8952-687ADE94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458BE-E5F5-42A6-B9F2-C3F0ACF0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9C937-3B9E-4D54-8319-EFE0269C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F67F3-A0A0-4615-9421-34481057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81A4C-9B6B-4315-B02C-D018C279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1559F-90B5-4D74-982F-4E9B87D8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BEE7F-6DDF-442C-A5B4-8C93BD91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e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ffefb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ffe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ffefb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1857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81D6-691C-4104-8B1D-536999F13FE7}" type="slidenum">
              <a:rPr b="0" lang="en-US" sz="1000" spc="-1" strike="noStrike">
                <a:solidFill>
                  <a:srgbClr val="81857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e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ffefb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ffe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ffefb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1857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CC0A-13CC-4F4B-A826-4A732DF5CBA2}" type="slidenum">
              <a:rPr b="0" lang="en-US" sz="1000" spc="-1" strike="noStrike">
                <a:solidFill>
                  <a:srgbClr val="81857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e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ffefb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ffe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ffefb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3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3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1857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7ED7-637C-4A2E-A3CA-970C1B6FB80D}" type="slidenum">
              <a:rPr b="0" lang="en-US" sz="1000" spc="-1" strike="noStrike">
                <a:solidFill>
                  <a:srgbClr val="81857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e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ffefb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ffe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ffefb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4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6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1857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A029-DB5C-4690-815A-D71AED796992}" type="slidenum">
              <a:rPr b="0" lang="en-US" sz="1000" spc="-1" strike="noStrike">
                <a:solidFill>
                  <a:srgbClr val="81857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e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ffefb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ffe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ffefb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1857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3328-9C7B-4F11-BA8D-6C63773C8AC9}" type="slidenum">
              <a:rPr b="0" lang="en-US" sz="1000" spc="-1" strike="noStrike">
                <a:solidFill>
                  <a:srgbClr val="81857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e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ffefb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ffe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ffefb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1857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4EC4-6C4E-4A71-9C18-7A435E1653C1}" type="slidenum">
              <a:rPr b="0" lang="en-US" sz="1000" spc="-1" strike="noStrike">
                <a:solidFill>
                  <a:srgbClr val="81857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e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ffefb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ffe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ffefb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3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4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5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1857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1915-C233-4BE7-A995-DDFF4FE35ED4}" type="slidenum">
              <a:rPr b="0" lang="en-US" sz="1000" spc="-1" strike="noStrike">
                <a:solidFill>
                  <a:srgbClr val="81857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1e1822"/>
                </a:gs>
                <a:gs pos="100000">
                  <a:srgbClr val="2b26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64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64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64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64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65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65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0344a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65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c3045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65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65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65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65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65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a3b54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65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1e18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65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660066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66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66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a3b54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66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66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664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1e182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665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1e1822"/>
                </a:gs>
                <a:gs pos="50000">
                  <a:srgbClr val="251f29"/>
                </a:gs>
                <a:gs pos="100000">
                  <a:srgbClr val="1e18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dfbe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510F-D630-4D00-AF1B-A00EB7F50C7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70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70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</p:grpSp>
      <p:grpSp>
        <p:nvGrpSpPr>
          <p:cNvPr id="71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71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71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4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B6CA-1DF5-4910-9011-5A46C2C72A2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ftr" idx="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sldNum" idx="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BBD4-6591-434B-A608-6B6283FBCDF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dt" idx="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1e1822"/>
                </a:gs>
                <a:gs pos="100000">
                  <a:srgbClr val="2b26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0344a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c3045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a3b54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1e18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660066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a3b54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1e182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1e1822"/>
                </a:gs>
                <a:gs pos="50000">
                  <a:srgbClr val="251f29"/>
                </a:gs>
                <a:gs pos="100000">
                  <a:srgbClr val="1e182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dfbe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A73A-32A8-45D7-8B7B-6ADAFA9C4B5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0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efb5"/>
                  </a:solidFill>
                  <a:latin typeface="Arial"/>
                </a:endParaRPr>
              </a:p>
            </p:txBody>
          </p:sp>
          <p:sp>
            <p:nvSpPr>
              <p:cNvPr id="107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efb5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efb5"/>
                  </a:solidFill>
                  <a:latin typeface="Arial"/>
                </a:endParaRPr>
              </a:p>
            </p:txBody>
          </p:sp>
          <p:sp>
            <p:nvSpPr>
              <p:cNvPr id="11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efb5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B663-CE56-4DF9-97F3-EFEBEBC5B16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3B3D-BE20-41C6-9B3E-A2C13E065F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e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ffefb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ffe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ffefb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1FD8-4CFD-45AF-A76C-5A9076A0B3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e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ffefb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ffe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ffefb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1857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E2F4-4216-455D-9EA6-65314F34366D}" type="slidenum">
              <a:rPr b="0" lang="en-US" sz="1000" spc="-1" strike="noStrike">
                <a:solidFill>
                  <a:srgbClr val="81857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e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ffefb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ffe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ffefb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1857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764A-BEB3-4B03-91F4-E6869DF6845F}" type="slidenum">
              <a:rPr b="0" lang="en-US" sz="1000" spc="-1" strike="noStrike">
                <a:solidFill>
                  <a:srgbClr val="81857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e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ffefb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ffe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ffefb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1857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36F3-C9A9-4DEB-8279-6DDB8F424B0D}" type="slidenum">
              <a:rPr b="0" lang="en-US" sz="1000" spc="-1" strike="noStrike">
                <a:solidFill>
                  <a:srgbClr val="81857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e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ffefb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ffe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ffefb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ffefb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b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1857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E0B3-8698-47E0-A934-304D95BB9B2A}" type="slidenum">
              <a:rPr b="0" lang="en-US" sz="1000" spc="-1" strike="noStrike">
                <a:solidFill>
                  <a:srgbClr val="81857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муниципальное казенное дошкольное образовательное учреждение</a:t>
            </a:r>
            <a:br>
              <a:rPr sz="2800"/>
            </a:br>
            <a:r>
              <a:rPr b="0" lang="ru-RU" sz="28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«Центр развития ребенка – детский сад № 6»</a:t>
            </a:r>
            <a:br>
              <a:rPr sz="2800"/>
            </a:br>
            <a:r>
              <a:rPr b="1" lang="ru-RU" sz="28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программа </a:t>
            </a:r>
            <a:br>
              <a:rPr sz="2800"/>
            </a:br>
            <a:r>
              <a:rPr b="1" lang="ru-RU" sz="36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логопедической группы</a:t>
            </a:r>
            <a:endParaRPr b="0" lang="en-US" sz="36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797" name="Picture 10" descr="J:\газета\DSCN5646.JPG"/>
          <p:cNvPicPr/>
          <p:nvPr/>
        </p:nvPicPr>
        <p:blipFill>
          <a:blip r:embed="rId1"/>
          <a:stretch/>
        </p:blipFill>
        <p:spPr>
          <a:xfrm>
            <a:off x="1476360" y="1874880"/>
            <a:ext cx="6421320" cy="4816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Развиваем фонематический слух</a:t>
            </a:r>
            <a:endParaRPr b="0" lang="en-US" sz="40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831" name="Рисунок 3" descr="C:\Users\Артём\Desktop\Новая папка\фото8.jpg"/>
          <p:cNvPicPr/>
          <p:nvPr/>
        </p:nvPicPr>
        <p:blipFill>
          <a:blip r:embed="rId1"/>
          <a:stretch/>
        </p:blipFill>
        <p:spPr>
          <a:xfrm>
            <a:off x="214200" y="1428840"/>
            <a:ext cx="8929800" cy="514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Ставим звуки при помощи специальных инструментов</a:t>
            </a:r>
            <a:endParaRPr b="0" lang="en-US" sz="40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833" name="Picture 3" descr="G:\газета\DSCN5908.JPG"/>
          <p:cNvPicPr/>
          <p:nvPr/>
        </p:nvPicPr>
        <p:blipFill>
          <a:blip r:embed="rId1"/>
          <a:stretch/>
        </p:blipFill>
        <p:spPr>
          <a:xfrm>
            <a:off x="1258920" y="167328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Весело играем: тон голоса и ритм мы развиваем!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835" name="Рисунок 4" descr="C:\Users\Артём\Desktop\Новая папка\фото7.jpg"/>
          <p:cNvPicPr/>
          <p:nvPr/>
        </p:nvPicPr>
        <p:blipFill>
          <a:blip r:embed="rId1"/>
          <a:stretch/>
        </p:blipFill>
        <p:spPr>
          <a:xfrm>
            <a:off x="0" y="1571760"/>
            <a:ext cx="4357800" cy="2857320"/>
          </a:xfrm>
          <a:prstGeom prst="rect">
            <a:avLst/>
          </a:prstGeom>
          <a:ln w="0">
            <a:noFill/>
          </a:ln>
        </p:spPr>
      </p:pic>
      <p:pic>
        <p:nvPicPr>
          <p:cNvPr id="836" name="Рисунок 5" descr="C:\Users\Артём\Desktop\Новая папка\фото6.jpg"/>
          <p:cNvPicPr/>
          <p:nvPr/>
        </p:nvPicPr>
        <p:blipFill>
          <a:blip r:embed="rId2"/>
          <a:stretch/>
        </p:blipFill>
        <p:spPr>
          <a:xfrm>
            <a:off x="4500720" y="3786120"/>
            <a:ext cx="4643280" cy="2786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Су-Джок нам помогает, здоровье и силу прибавляет!</a:t>
            </a:r>
            <a:endParaRPr b="0" lang="en-US" sz="40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838" name="Рисунок 2" descr="J:\газета\DSCN5637.JPG"/>
          <p:cNvPicPr/>
          <p:nvPr/>
        </p:nvPicPr>
        <p:blipFill>
          <a:blip r:embed="rId1"/>
          <a:stretch/>
        </p:blipFill>
        <p:spPr>
          <a:xfrm>
            <a:off x="285840" y="1571760"/>
            <a:ext cx="8501040" cy="5286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Дружно пальцы разминаем!</a:t>
            </a:r>
            <a:endParaRPr b="0" lang="en-US" sz="40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840" name="Рисунок 7" descr="C:\Users\Артём\Desktop\Новая папка\фото9.jpg"/>
          <p:cNvPicPr/>
          <p:nvPr/>
        </p:nvPicPr>
        <p:blipFill>
          <a:blip r:embed="rId1"/>
          <a:stretch/>
        </p:blipFill>
        <p:spPr>
          <a:xfrm>
            <a:off x="357120" y="1785960"/>
            <a:ext cx="8508960" cy="4786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/>
          </p:nvPr>
        </p:nvSpPr>
        <p:spPr>
          <a:xfrm>
            <a:off x="214200" y="642960"/>
            <a:ext cx="4214880" cy="103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жное слово вспоминаем, подбира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0" y="1714680"/>
            <a:ext cx="4572000" cy="92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ое для себя открывае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3" name="Содержимое 7" descr="C:\Users\Артём\Desktop\Новая папка\фото14.jpg"/>
          <p:cNvPicPr/>
          <p:nvPr/>
        </p:nvPicPr>
        <p:blipFill>
          <a:blip r:embed="rId1"/>
          <a:stretch/>
        </p:blipFill>
        <p:spPr>
          <a:xfrm>
            <a:off x="214200" y="1928880"/>
            <a:ext cx="4211640" cy="3000240"/>
          </a:xfrm>
          <a:prstGeom prst="rect">
            <a:avLst/>
          </a:prstGeom>
          <a:ln w="0">
            <a:noFill/>
          </a:ln>
        </p:spPr>
      </p:pic>
      <p:pic>
        <p:nvPicPr>
          <p:cNvPr id="844" name="Содержимое 9" descr="C:\Users\Артём\Desktop\Новая папка\фото18.jpg"/>
          <p:cNvPicPr/>
          <p:nvPr/>
        </p:nvPicPr>
        <p:blipFill>
          <a:blip r:embed="rId2"/>
          <a:stretch/>
        </p:blipFill>
        <p:spPr>
          <a:xfrm>
            <a:off x="4714920" y="2857680"/>
            <a:ext cx="4284720" cy="324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8715240" cy="1071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хотворения читаем и память развиваем </a:t>
            </a:r>
            <a:br>
              <a:rPr sz="4400"/>
            </a:br>
            <a:endParaRPr b="0" lang="en-US" sz="44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846" name="Рисунок 7" descr="C:\Users\Артём\Desktop\Новая папка\фото13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Прививаем любовь к книге</a:t>
            </a:r>
            <a:endParaRPr b="0" lang="en-US" sz="40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848" name="Picture 3" descr="G:\газета\DSCN5917.JPG"/>
          <p:cNvPicPr/>
          <p:nvPr/>
        </p:nvPicPr>
        <p:blipFill>
          <a:blip r:embed="rId1"/>
          <a:stretch/>
        </p:blipFill>
        <p:spPr>
          <a:xfrm>
            <a:off x="324000" y="1592280"/>
            <a:ext cx="4282920" cy="321300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4" descr="G:\газета\DSCN5911.JPG"/>
          <p:cNvPicPr/>
          <p:nvPr/>
        </p:nvPicPr>
        <p:blipFill>
          <a:blip r:embed="rId2"/>
          <a:stretch/>
        </p:blipFill>
        <p:spPr>
          <a:xfrm>
            <a:off x="4500720" y="3286080"/>
            <a:ext cx="4416120" cy="331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Двигаться не забываем – зарядку выполняем!</a:t>
            </a:r>
            <a:endParaRPr b="0" lang="en-US" sz="44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851" name="Picture 5" descr="C:\Users\дс № 6\Desktop\наташа смотрова\DSCN8525.JPG"/>
          <p:cNvPicPr/>
          <p:nvPr/>
        </p:nvPicPr>
        <p:blipFill>
          <a:blip r:embed="rId1"/>
          <a:stretch/>
        </p:blipFill>
        <p:spPr>
          <a:xfrm>
            <a:off x="0" y="1566720"/>
            <a:ext cx="4535640" cy="3400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" descr="C:\Users\дс № 6\Desktop\наташа смотрова\DSCN8528.JPG"/>
          <p:cNvPicPr/>
          <p:nvPr/>
        </p:nvPicPr>
        <p:blipFill>
          <a:blip r:embed="rId2"/>
          <a:stretch/>
        </p:blipFill>
        <p:spPr>
          <a:xfrm>
            <a:off x="4667400" y="3500280"/>
            <a:ext cx="4476600" cy="3357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Мы ребята, молодцы. Лепим, режем, клеим от души!</a:t>
            </a:r>
            <a:endParaRPr b="0" lang="en-US" sz="40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854" name="Picture 3" descr="C:\Users\дс № 6\Desktop\наташа смотрова\DSCN8516.JPG"/>
          <p:cNvPicPr/>
          <p:nvPr/>
        </p:nvPicPr>
        <p:blipFill>
          <a:blip r:embed="rId1"/>
          <a:stretch/>
        </p:blipFill>
        <p:spPr>
          <a:xfrm>
            <a:off x="0" y="1341360"/>
            <a:ext cx="4427640" cy="332100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4" descr="C:\Users\дс № 6\Desktop\наташа смотрова\DSCN8519.JPG"/>
          <p:cNvPicPr/>
          <p:nvPr/>
        </p:nvPicPr>
        <p:blipFill>
          <a:blip r:embed="rId2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r>
              <a:rPr b="1" lang="ru-RU" sz="32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Цель программы:</a:t>
            </a:r>
            <a:br>
              <a:rPr sz="3200"/>
            </a:br>
            <a:r>
              <a:rPr b="1" lang="ru-RU" sz="3200" spc="-1" strike="noStrike">
                <a:solidFill>
                  <a:srgbClr val="fdfbe3"/>
                </a:solidFill>
                <a:latin typeface="Tahoma"/>
              </a:rPr>
              <a:t> </a:t>
            </a:r>
            <a:br>
              <a:rPr sz="3200"/>
            </a:br>
            <a:r>
              <a:rPr b="1" lang="ru-RU" sz="28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    Обеспечение системы средств и условий для устранения  речевых недостатков у детей старшего дошкольного возраста и осуществления своевременного и полноценного личностного развития, обеспечения эмоционального благополучия посредством интеграции содержания образования и организации взаимодействия субъектов образовательного процесса. Предупреждение возможных трудностей в усвоении программы массовой школы, обусловленных недоразвитием фонетико-фонематической стороны речи у старших дошкольников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dfbe3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14200" y="277920"/>
            <a:ext cx="8715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Садик – это второй дом. </a:t>
            </a:r>
            <a:br>
              <a:rPr sz="3600"/>
            </a:br>
            <a:r>
              <a:rPr b="1" lang="ru-RU" sz="36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Здесь мы весело живем</a:t>
            </a:r>
            <a:r>
              <a:rPr b="1" lang="ru-RU" sz="3600" spc="-1" strike="noStrike">
                <a:solidFill>
                  <a:srgbClr val="fdfbe3"/>
                </a:solidFill>
                <a:latin typeface="Tahoma"/>
              </a:rPr>
              <a:t>!</a:t>
            </a:r>
            <a:endParaRPr b="0" lang="en-US" sz="36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857" name="Picture 3" descr="C:\Users\дс № 6\Desktop\фото музыка\DSCN5115.JPG"/>
          <p:cNvPicPr/>
          <p:nvPr/>
        </p:nvPicPr>
        <p:blipFill>
          <a:blip r:embed="rId1"/>
          <a:stretch/>
        </p:blipFill>
        <p:spPr>
          <a:xfrm>
            <a:off x="1214280" y="1500120"/>
            <a:ext cx="6816960" cy="511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Основные задачи</a:t>
            </a:r>
            <a:endParaRPr b="0" lang="en-US" sz="40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800" name="Прямоугольник 2"/>
          <p:cNvSpPr/>
          <p:nvPr/>
        </p:nvSpPr>
        <p:spPr>
          <a:xfrm>
            <a:off x="571680" y="1428840"/>
            <a:ext cx="8001000" cy="43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fb5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efb5"/>
                </a:solidFill>
                <a:latin typeface="Times New Roman"/>
                <a:ea typeface="Times New Roman"/>
              </a:rPr>
              <a:t>корректировать речевые нарушения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fb5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efb5"/>
                </a:solidFill>
                <a:latin typeface="Times New Roman"/>
                <a:ea typeface="Times New Roman"/>
              </a:rPr>
              <a:t>развивать навыки связной речи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fb5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efb5"/>
                </a:solidFill>
                <a:latin typeface="Times New Roman"/>
                <a:ea typeface="Times New Roman"/>
              </a:rPr>
              <a:t>совершенствовать артикуляционную, тонкую и общую моторику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fb5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efb5"/>
                </a:solidFill>
                <a:latin typeface="Times New Roman"/>
                <a:ea typeface="Times New Roman"/>
              </a:rPr>
              <a:t>формировать звукопроизношение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fb5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efb5"/>
                </a:solidFill>
                <a:latin typeface="Times New Roman"/>
                <a:ea typeface="Times New Roman"/>
              </a:rPr>
              <a:t>развивать речевое дыхание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fb5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efb5"/>
                </a:solidFill>
                <a:latin typeface="Times New Roman"/>
                <a:ea typeface="Times New Roman"/>
              </a:rPr>
              <a:t>развивать фонематическое восприятие и слух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fb5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efb5"/>
                </a:solidFill>
                <a:latin typeface="Times New Roman"/>
                <a:ea typeface="Times New Roman"/>
              </a:rPr>
              <a:t>развивать мелкую моторику кистей рук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fb5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efb5"/>
                </a:solidFill>
                <a:latin typeface="Times New Roman"/>
                <a:ea typeface="Times New Roman"/>
              </a:rPr>
              <a:t>совершенствовать лексический и грамматический строй речи</a:t>
            </a:r>
            <a:endParaRPr b="0" lang="en-US" sz="3200" spc="-1" strike="noStrike">
              <a:solidFill>
                <a:srgbClr val="ffefb5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0" y="3571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r>
              <a:rPr b="1" lang="ru-RU" sz="42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Пути реализации задач через:</a:t>
            </a:r>
            <a:br>
              <a:rPr sz="4200"/>
            </a:br>
            <a:r>
              <a:rPr b="0" lang="ru-RU" sz="40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речевую активность;</a:t>
            </a:r>
            <a:br>
              <a:rPr sz="4000"/>
            </a:br>
            <a:r>
              <a:rPr b="0" lang="ru-RU" sz="40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ситуации общения;</a:t>
            </a:r>
            <a:br>
              <a:rPr sz="4000"/>
            </a:br>
            <a:r>
              <a:rPr b="0" lang="ru-RU" sz="40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игровую, познавательную, исследовательскую, творческую активность;</a:t>
            </a:r>
            <a:br>
              <a:rPr sz="4000"/>
            </a:br>
            <a:r>
              <a:rPr b="0" lang="ru-RU" sz="40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двигательную активность;</a:t>
            </a:r>
            <a:br>
              <a:rPr sz="4000"/>
            </a:br>
            <a:r>
              <a:rPr b="0" lang="ru-RU" sz="40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проблемные ситуации;</a:t>
            </a:r>
            <a:br>
              <a:rPr sz="4000"/>
            </a:br>
            <a:r>
              <a:rPr b="0" lang="ru-RU" sz="40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экспериментирование;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dfbe3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Наша группа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4" name="Содержимое 8" descr="C:\Users\Артём\Desktop\Новая папка\фото1.jpg"/>
          <p:cNvPicPr/>
          <p:nvPr/>
        </p:nvPicPr>
        <p:blipFill>
          <a:blip r:embed="rId1"/>
          <a:srcRect l="14892" t="27792" r="3123" b="-831"/>
          <a:stretch/>
        </p:blipFill>
        <p:spPr>
          <a:xfrm>
            <a:off x="285840" y="1214280"/>
            <a:ext cx="8462880" cy="5643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6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В группе созданы условия для речевого развития детей</a:t>
            </a:r>
            <a:endParaRPr b="0" lang="en-US" sz="40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806" name="Рисунок 7" descr=""/>
          <p:cNvPicPr/>
          <p:nvPr/>
        </p:nvPicPr>
        <p:blipFill>
          <a:blip r:embed="rId1"/>
          <a:stretch/>
        </p:blipFill>
        <p:spPr>
          <a:xfrm>
            <a:off x="-28440" y="1600200"/>
            <a:ext cx="4601880" cy="319716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4" descr="C:\Users\дс № 6\Desktop\наташа смотрова\DSCN8521.JPG"/>
          <p:cNvPicPr/>
          <p:nvPr/>
        </p:nvPicPr>
        <p:blipFill>
          <a:blip r:embed="rId2"/>
          <a:stretch/>
        </p:blipFill>
        <p:spPr>
          <a:xfrm>
            <a:off x="4500720" y="319572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Современные образовательные технологии, используемые в работе</a:t>
            </a:r>
            <a:endParaRPr b="0" lang="en-US" sz="3600" spc="-1" strike="noStrike">
              <a:solidFill>
                <a:srgbClr val="fdfbe3"/>
              </a:solidFill>
              <a:latin typeface="Tahoma"/>
            </a:endParaRPr>
          </a:p>
        </p:txBody>
      </p:sp>
      <p:grpSp>
        <p:nvGrpSpPr>
          <p:cNvPr id="809" name="Группа 2"/>
          <p:cNvGrpSpPr/>
          <p:nvPr/>
        </p:nvGrpSpPr>
        <p:grpSpPr>
          <a:xfrm>
            <a:off x="1071720" y="1928880"/>
            <a:ext cx="3268440" cy="1633320"/>
            <a:chOff x="1071720" y="1928880"/>
            <a:chExt cx="3268440" cy="1633320"/>
          </a:xfrm>
        </p:grpSpPr>
        <p:sp>
          <p:nvSpPr>
            <p:cNvPr id="810" name="Прямоугольник 6"/>
            <p:cNvSpPr/>
            <p:nvPr/>
          </p:nvSpPr>
          <p:spPr>
            <a:xfrm>
              <a:off x="1071720" y="1928880"/>
              <a:ext cx="3268440" cy="1633320"/>
            </a:xfrm>
            <a:prstGeom prst="rect">
              <a:avLst/>
            </a:prstGeom>
            <a:solidFill>
              <a:srgbClr val="1e182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811" name="Прямоугольник 7"/>
            <p:cNvSpPr/>
            <p:nvPr/>
          </p:nvSpPr>
          <p:spPr>
            <a:xfrm>
              <a:off x="1071720" y="1928880"/>
              <a:ext cx="3268440" cy="1633320"/>
            </a:xfrm>
            <a:prstGeom prst="rect">
              <a:avLst/>
            </a:prstGeom>
            <a:noFill/>
            <a:ln w="9360">
              <a:solidFill>
                <a:srgbClr val="976c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ru-RU" sz="2400" spc="-1" strike="noStrike">
                  <a:solidFill>
                    <a:srgbClr val="ffefb5"/>
                  </a:solidFill>
                  <a:latin typeface="Times New Roman"/>
                  <a:ea typeface="Times New Roman"/>
                </a:rPr>
                <a:t>Здоровьесберегающие</a:t>
              </a: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ffefb5"/>
                </a:solidFill>
                <a:latin typeface="Arial"/>
              </a:endParaRPr>
            </a:p>
          </p:txBody>
        </p:sp>
      </p:grpSp>
      <p:grpSp>
        <p:nvGrpSpPr>
          <p:cNvPr id="812" name="Группа 3"/>
          <p:cNvGrpSpPr/>
          <p:nvPr/>
        </p:nvGrpSpPr>
        <p:grpSpPr>
          <a:xfrm>
            <a:off x="4643280" y="1785960"/>
            <a:ext cx="3067200" cy="1820880"/>
            <a:chOff x="4643280" y="1785960"/>
            <a:chExt cx="3067200" cy="1820880"/>
          </a:xfrm>
        </p:grpSpPr>
        <p:sp>
          <p:nvSpPr>
            <p:cNvPr id="813" name="Прямоугольник 4"/>
            <p:cNvSpPr/>
            <p:nvPr/>
          </p:nvSpPr>
          <p:spPr>
            <a:xfrm>
              <a:off x="4714560" y="2000160"/>
              <a:ext cx="2995920" cy="1606680"/>
            </a:xfrm>
            <a:prstGeom prst="rect">
              <a:avLst/>
            </a:prstGeom>
            <a:solidFill>
              <a:srgbClr val="b8aab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814" name="Прямоугольник 5"/>
            <p:cNvSpPr/>
            <p:nvPr/>
          </p:nvSpPr>
          <p:spPr>
            <a:xfrm>
              <a:off x="4643280" y="1785960"/>
              <a:ext cx="2995920" cy="16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ru-RU" sz="2400" spc="-1" strike="noStrike">
                  <a:solidFill>
                    <a:srgbClr val="4c3d57"/>
                  </a:solidFill>
                  <a:latin typeface="Times New Roman"/>
                  <a:ea typeface="Times New Roman"/>
                </a:rPr>
                <a:t>Информационно-коммуникативные</a:t>
              </a:r>
              <a:endParaRPr b="0" lang="en-US" sz="2400" spc="-1" strike="noStrike">
                <a:solidFill>
                  <a:srgbClr val="ffefb5"/>
                </a:solidFill>
                <a:latin typeface="Arial"/>
              </a:endParaRPr>
            </a:p>
          </p:txBody>
        </p:sp>
      </p:grpSp>
      <p:grpSp>
        <p:nvGrpSpPr>
          <p:cNvPr id="815" name="Группа 8"/>
          <p:cNvGrpSpPr/>
          <p:nvPr/>
        </p:nvGrpSpPr>
        <p:grpSpPr>
          <a:xfrm>
            <a:off x="142920" y="4357800"/>
            <a:ext cx="3000240" cy="1643040"/>
            <a:chOff x="142920" y="4357800"/>
            <a:chExt cx="3000240" cy="1643040"/>
          </a:xfrm>
        </p:grpSpPr>
        <p:sp>
          <p:nvSpPr>
            <p:cNvPr id="816" name="Прямоугольник 9"/>
            <p:cNvSpPr/>
            <p:nvPr/>
          </p:nvSpPr>
          <p:spPr>
            <a:xfrm>
              <a:off x="215640" y="4357800"/>
              <a:ext cx="2927520" cy="1635120"/>
            </a:xfrm>
            <a:prstGeom prst="rect">
              <a:avLst/>
            </a:prstGeom>
            <a:solidFill>
              <a:srgbClr val="dadad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817" name="Прямоугольник 10"/>
            <p:cNvSpPr/>
            <p:nvPr/>
          </p:nvSpPr>
          <p:spPr>
            <a:xfrm>
              <a:off x="142920" y="4357800"/>
              <a:ext cx="270828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ru-RU" sz="2400" spc="-1" strike="noStrike">
                  <a:solidFill>
                    <a:srgbClr val="4d004d"/>
                  </a:solidFill>
                  <a:latin typeface="Times New Roman"/>
                  <a:ea typeface="Times New Roman"/>
                </a:rPr>
                <a:t>Игровые </a:t>
              </a:r>
              <a:endParaRPr b="0" lang="en-US" sz="2400" spc="-1" strike="noStrike">
                <a:solidFill>
                  <a:srgbClr val="ffefb5"/>
                </a:solidFill>
                <a:latin typeface="Arial"/>
              </a:endParaRPr>
            </a:p>
          </p:txBody>
        </p:sp>
      </p:grpSp>
      <p:grpSp>
        <p:nvGrpSpPr>
          <p:cNvPr id="818" name="Группа 11"/>
          <p:cNvGrpSpPr/>
          <p:nvPr/>
        </p:nvGrpSpPr>
        <p:grpSpPr>
          <a:xfrm>
            <a:off x="3286080" y="4357800"/>
            <a:ext cx="2724120" cy="1633320"/>
            <a:chOff x="3286080" y="4357800"/>
            <a:chExt cx="2724120" cy="1633320"/>
          </a:xfrm>
        </p:grpSpPr>
        <p:sp>
          <p:nvSpPr>
            <p:cNvPr id="819" name="Прямоугольник 12"/>
            <p:cNvSpPr/>
            <p:nvPr/>
          </p:nvSpPr>
          <p:spPr>
            <a:xfrm>
              <a:off x="3286080" y="4357800"/>
              <a:ext cx="2724120" cy="1633320"/>
            </a:xfrm>
            <a:prstGeom prst="rect">
              <a:avLst/>
            </a:prstGeom>
            <a:solidFill>
              <a:srgbClr val="c9ba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820" name="Прямоугольник 13"/>
            <p:cNvSpPr/>
            <p:nvPr/>
          </p:nvSpPr>
          <p:spPr>
            <a:xfrm>
              <a:off x="3286080" y="4357800"/>
              <a:ext cx="2724120" cy="16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ru-RU" sz="2400" spc="-1" strike="noStrike">
                  <a:solidFill>
                    <a:srgbClr val="4c3d57"/>
                  </a:solidFill>
                  <a:latin typeface="Times New Roman"/>
                  <a:ea typeface="Times New Roman"/>
                </a:rPr>
                <a:t>Личностно-ориентированные </a:t>
              </a:r>
              <a:endParaRPr b="0" lang="en-US" sz="2400" spc="-1" strike="noStrike">
                <a:solidFill>
                  <a:srgbClr val="ffefb5"/>
                </a:solidFill>
                <a:latin typeface="Arial"/>
              </a:endParaRPr>
            </a:p>
          </p:txBody>
        </p:sp>
      </p:grpSp>
      <p:grpSp>
        <p:nvGrpSpPr>
          <p:cNvPr id="821" name="Группа 14"/>
          <p:cNvGrpSpPr/>
          <p:nvPr/>
        </p:nvGrpSpPr>
        <p:grpSpPr>
          <a:xfrm>
            <a:off x="3209760" y="2611440"/>
            <a:ext cx="5658120" cy="3379680"/>
            <a:chOff x="3209760" y="2611440"/>
            <a:chExt cx="5658120" cy="3379680"/>
          </a:xfrm>
        </p:grpSpPr>
        <p:sp>
          <p:nvSpPr>
            <p:cNvPr id="822" name="Прямоугольник 15"/>
            <p:cNvSpPr/>
            <p:nvPr/>
          </p:nvSpPr>
          <p:spPr>
            <a:xfrm>
              <a:off x="6143760" y="4357800"/>
              <a:ext cx="2724120" cy="1633320"/>
            </a:xfrm>
            <a:prstGeom prst="rect">
              <a:avLst/>
            </a:prstGeom>
            <a:solidFill>
              <a:srgbClr val="1a151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  <p:sp>
          <p:nvSpPr>
            <p:cNvPr id="823" name="Прямоугольник 16"/>
            <p:cNvSpPr/>
            <p:nvPr/>
          </p:nvSpPr>
          <p:spPr>
            <a:xfrm>
              <a:off x="3209760" y="2611440"/>
              <a:ext cx="2724120" cy="16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ffefb5"/>
                </a:solidFill>
                <a:latin typeface="Arial"/>
              </a:endParaRPr>
            </a:p>
          </p:txBody>
        </p:sp>
      </p:grpSp>
      <p:sp>
        <p:nvSpPr>
          <p:cNvPr id="824" name="Прямоугольник 17"/>
          <p:cNvSpPr/>
          <p:nvPr/>
        </p:nvSpPr>
        <p:spPr>
          <a:xfrm>
            <a:off x="5929200" y="4786200"/>
            <a:ext cx="2982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ru-RU" sz="2400" spc="-1" strike="noStrike">
                <a:solidFill>
                  <a:srgbClr val="ffefb5"/>
                </a:solidFill>
                <a:latin typeface="Times New Roman"/>
                <a:ea typeface="Times New Roman"/>
              </a:rPr>
              <a:t>Технологии проектирования</a:t>
            </a:r>
            <a:endParaRPr b="0" lang="en-US" sz="2400" spc="-1" strike="noStrike">
              <a:solidFill>
                <a:srgbClr val="ffefb5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68360" y="26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Направления работы</a:t>
            </a:r>
            <a:br>
              <a:rPr sz="4000"/>
            </a:br>
            <a:r>
              <a:rPr b="1" lang="ru-RU" sz="24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1Диагностика:*ранняя;</a:t>
            </a:r>
            <a:br>
              <a:rPr sz="2400"/>
            </a:br>
            <a:r>
              <a:rPr b="1" lang="ru-RU" sz="24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* мониторинг /промежуточный и конечный/ </a:t>
            </a:r>
            <a:br>
              <a:rPr sz="2400"/>
            </a:br>
            <a:r>
              <a:rPr b="1" lang="ru-RU" sz="24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2. Коррекция: </a:t>
            </a:r>
            <a:br>
              <a:rPr sz="2400"/>
            </a:br>
            <a:r>
              <a:rPr b="1" lang="ru-RU" sz="24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*индивидуальная;</a:t>
            </a:r>
            <a:br>
              <a:rPr sz="2400"/>
            </a:br>
            <a:r>
              <a:rPr b="1" lang="ru-RU" sz="24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*подгрупповая;</a:t>
            </a:r>
            <a:br>
              <a:rPr sz="2400"/>
            </a:br>
            <a:r>
              <a:rPr b="1" lang="ru-RU" sz="24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3. Организационно – методическая поддержка:</a:t>
            </a:r>
            <a:br>
              <a:rPr sz="2400"/>
            </a:br>
            <a:r>
              <a:rPr b="1" lang="ru-RU" sz="24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*педсоветы;</a:t>
            </a:r>
            <a:br>
              <a:rPr sz="2400"/>
            </a:br>
            <a:r>
              <a:rPr b="1" lang="ru-RU" sz="24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*семинары;</a:t>
            </a:r>
            <a:br>
              <a:rPr sz="2400"/>
            </a:br>
            <a:r>
              <a:rPr b="1" lang="ru-RU" sz="24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*круглый стол;</a:t>
            </a:r>
            <a:br>
              <a:rPr sz="2400"/>
            </a:br>
            <a:r>
              <a:rPr b="1" lang="ru-RU" sz="24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4. Просветительско – профилактическое сопровождение:</a:t>
            </a:r>
            <a:br>
              <a:rPr sz="2400"/>
            </a:br>
            <a:r>
              <a:rPr b="1" lang="ru-RU" sz="24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*родителей;</a:t>
            </a:r>
            <a:br>
              <a:rPr sz="2400"/>
            </a:br>
            <a:r>
              <a:rPr b="1" lang="ru-RU" sz="24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*воспитателей через родительские собрания;</a:t>
            </a:r>
            <a:br>
              <a:rPr sz="2400"/>
            </a:br>
            <a:r>
              <a:rPr b="1" lang="ru-RU" sz="24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*выступления;</a:t>
            </a:r>
            <a:br>
              <a:rPr sz="2400"/>
            </a:br>
            <a:r>
              <a:rPr b="1" lang="ru-RU" sz="24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*оформление тематических папок – раскладушек.</a:t>
            </a:r>
            <a:br>
              <a:rPr sz="2400"/>
            </a:br>
            <a:r>
              <a:rPr b="1" lang="ru-RU" sz="24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5. Консультационная помощь родителей и воспитателей через индивидуальные и групповые тематические консультации. </a:t>
            </a:r>
            <a:br>
              <a:rPr sz="2400"/>
            </a:br>
            <a:r>
              <a:rPr b="1" lang="ru-RU" sz="24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826" name="Прямоугольник 2"/>
          <p:cNvSpPr/>
          <p:nvPr/>
        </p:nvSpPr>
        <p:spPr>
          <a:xfrm>
            <a:off x="2484360" y="2205000"/>
            <a:ext cx="45720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fb5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fb5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fb5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dfbe3"/>
                </a:solidFill>
                <a:latin typeface="Times New Roman"/>
                <a:ea typeface="Times New Roman"/>
              </a:rPr>
              <a:t>Выполняем артикуляционную гимнастику</a:t>
            </a:r>
            <a:endParaRPr b="0" lang="en-US" sz="40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828" name="Picture 2" descr="J:\газета\DSCN5639.JPG"/>
          <p:cNvPicPr/>
          <p:nvPr/>
        </p:nvPicPr>
        <p:blipFill>
          <a:blip r:embed="rId1"/>
          <a:stretch/>
        </p:blipFill>
        <p:spPr>
          <a:xfrm>
            <a:off x="428760" y="1143000"/>
            <a:ext cx="3714480" cy="2786040"/>
          </a:xfrm>
          <a:prstGeom prst="rect">
            <a:avLst/>
          </a:prstGeom>
          <a:ln w="0">
            <a:noFill/>
          </a:ln>
        </p:spPr>
      </p:pic>
      <p:pic>
        <p:nvPicPr>
          <p:cNvPr id="829" name="Рисунок 3" descr="C:\Users\Артём\Desktop\Новая папка\фото4.jpg"/>
          <p:cNvPicPr/>
          <p:nvPr/>
        </p:nvPicPr>
        <p:blipFill>
          <a:blip r:embed="rId2"/>
          <a:srcRect l="2605" t="24167" r="9375" b="-2493"/>
          <a:stretch/>
        </p:blipFill>
        <p:spPr>
          <a:xfrm>
            <a:off x="4071960" y="3643200"/>
            <a:ext cx="4572000" cy="2795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7:38:35Z</dcterms:created>
  <dc:creator>Toshiba</dc:creator>
  <dc:description/>
  <dc:language>en-US</dc:language>
  <cp:lastModifiedBy>Светлана</cp:lastModifiedBy>
  <dcterms:modified xsi:type="dcterms:W3CDTF">2016-11-28T07:26:39Z</dcterms:modified>
  <cp:revision>92</cp:revision>
  <dc:subject/>
  <dc:title>Презентация</dc:title>
</cp:coreProperties>
</file>