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51E-2F22-4B71-9B2A-81047712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E26-F994-442B-B68B-90FDC926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8F5-43A0-4851-A851-A3B3ECC8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42E-747C-4CF6-88E9-2168C01F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BB1-801B-4FAD-AFD5-714767F9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907-02AA-49F6-AF43-650AED3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965-9162-43E8-8C11-4DB3E896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77B-5F34-4AB3-B5B8-FB2976E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546-B405-48E4-9068-F76175C0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E8D-D23A-4B8F-BF0C-EA127E24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4BA-0B14-44B2-8565-D3BD078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3CB-2E28-4432-A436-9F93191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01D-28DA-4458-AE92-466A04A1B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o03001i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68360" y="25992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Образование без духовно-нравственного воспитания не должно быть»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.Д. Уши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1844640"/>
            <a:ext cx="9144000" cy="25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1"/>
          <p:cNvPicPr/>
          <p:nvPr/>
        </p:nvPicPr>
        <p:blipFill>
          <a:blip r:embed="rId2"/>
          <a:stretch/>
        </p:blipFill>
        <p:spPr>
          <a:xfrm rot="21180000">
            <a:off x="-109080" y="117360"/>
            <a:ext cx="201600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50920" y="1916280"/>
            <a:ext cx="91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еминар для педагогов по программе «Социокультурные исток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" descr="C:\Users\Я\Desktop\0_c77d4_790b8e28_L.jpg"/>
          <p:cNvPicPr/>
          <p:nvPr/>
        </p:nvPicPr>
        <p:blipFill>
          <a:blip r:embed="rId3"/>
          <a:stretch/>
        </p:blipFill>
        <p:spPr>
          <a:xfrm>
            <a:off x="179280" y="364500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Я\Desktop\s_UrOMrmBOo1.jpg"/>
          <p:cNvPicPr/>
          <p:nvPr/>
        </p:nvPicPr>
        <p:blipFill>
          <a:blip r:embed="rId4"/>
          <a:stretch/>
        </p:blipFill>
        <p:spPr>
          <a:xfrm>
            <a:off x="3348000" y="3645000"/>
            <a:ext cx="2952720" cy="23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C:\Users\Я\Desktop\71564266.jpg"/>
          <p:cNvPicPr/>
          <p:nvPr/>
        </p:nvPicPr>
        <p:blipFill>
          <a:blip r:embed="rId5"/>
          <a:stretch/>
        </p:blipFill>
        <p:spPr>
          <a:xfrm>
            <a:off x="6516720" y="3645000"/>
            <a:ext cx="252108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632720" cy="15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оциокультурная категория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«Труд душ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1483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Через присоединение к категории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«Труд души»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ети, родители и педагоги получают возможность прочувствовать, что </a:t>
            </a:r>
            <a:r>
              <a:rPr b="0" i="1" lang="ru-RU" sz="3200" spc="-1" strike="noStrike">
                <a:solidFill>
                  <a:srgbClr val="000099"/>
                </a:solidFill>
                <a:latin typeface="Times New Roman"/>
              </a:rPr>
              <a:t>доброе слово исходит из доброго сердца, является выражением доброго чувства;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ети получают возможность произносить слова благодарности родным и близким, желая от души выразить имеющиеся у них добрые чувст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Целостное восприятие ребенком мира находит наиболее яркое воплощение в празднике Светлой Тро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1"/>
          <p:cNvPicPr/>
          <p:nvPr/>
        </p:nvPicPr>
        <p:blipFill>
          <a:blip r:embed="rId1"/>
          <a:stretch/>
        </p:blipFill>
        <p:spPr>
          <a:xfrm rot="21180000">
            <a:off x="-41040" y="118800"/>
            <a:ext cx="2016360" cy="1228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056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емы занятий для детей 4-5 лет Категории: Родной очаг; Родные просторы; Труд земной; Труд ду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197000"/>
          <a:ext cx="8712000" cy="5538600"/>
        </p:xfrm>
        <a:graphic>
          <a:graphicData uri="http://schemas.openxmlformats.org/drawingml/2006/table">
            <a:tbl>
              <a:tblPr/>
              <a:tblGrid>
                <a:gridCol w="3244680"/>
                <a:gridCol w="2341800"/>
                <a:gridCol w="3125520"/>
              </a:tblGrid>
              <a:tr h="763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Активные формы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азвание активного зан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 Дружная сем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бота в п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Дружная семь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 Домашнее теп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есурсный круг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Домашнее тепл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 Дороги</a:t>
                      </a: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б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бота в п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Дороги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 Сказочный</a:t>
                      </a: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бота в п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Сказочный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ес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 Добрая</a:t>
                      </a:r>
                      <a:r>
                        <a:rPr b="0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б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бота в п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Добрая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абот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. Праведный тру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есурсный 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Чему доброму научили вас взрослые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. Любимая сказ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есурсный 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Моя любимая сказ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.   Благодарн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есурсный 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Благодарное слов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. Светлый    празд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есурсный 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«Доброе слово березк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044" descr="1"/>
          <p:cNvPicPr/>
          <p:nvPr/>
        </p:nvPicPr>
        <p:blipFill>
          <a:blip r:embed="rId1"/>
          <a:stretch/>
        </p:blipFill>
        <p:spPr>
          <a:xfrm rot="21180000">
            <a:off x="71280" y="117360"/>
            <a:ext cx="201636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>
              <a:gd name="textAreaLeft" fmla="*/ 303120 w 8572320"/>
              <a:gd name="textAreaRight" fmla="*/ 8269200 w 8572320"/>
              <a:gd name="textAreaTop" fmla="*/ 303120 h 6215040"/>
              <a:gd name="textAreaBottom" fmla="*/ 5911920 h 6215040"/>
            </a:gdLst>
            <a:ahLst/>
            <a:rect l="textAreaLeft" t="textAreaTop" r="textAreaRight" b="textAreaBottom"/>
            <a:pathLst>
              <a:path w="8572500" h="6215062">
                <a:moveTo>
                  <a:pt x="1035865" y="0"/>
                </a:moveTo>
                <a:lnTo>
                  <a:pt x="8572500" y="0"/>
                </a:lnTo>
                <a:lnTo>
                  <a:pt x="8572500" y="5179197"/>
                </a:lnTo>
                <a:lnTo>
                  <a:pt x="8572500" y="5179197"/>
                </a:lnTo>
                <a:arcTo wR="1035865" hR="1035865" stAng="0" swAng="5400003"/>
                <a:lnTo>
                  <a:pt x="0" y="6215062"/>
                </a:lnTo>
                <a:lnTo>
                  <a:pt x="0" y="1035865"/>
                </a:lnTo>
                <a:lnTo>
                  <a:pt x="0" y="1035865"/>
                </a:lnTo>
                <a:arcTo wR="1035865" hR="1035865" stAng="-10799997" swAng="5400003"/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2011\Desktop\Фрагментымониторинга\Новая папка\kol3.png"/>
          <p:cNvPicPr/>
          <p:nvPr/>
        </p:nvPicPr>
        <p:blipFill>
          <a:blip r:embed="rId1"/>
          <a:stretch/>
        </p:blipFill>
        <p:spPr>
          <a:xfrm>
            <a:off x="6858000" y="214200"/>
            <a:ext cx="2008080" cy="154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2011\Desktop\Фрагментымониторинга\Новая папка\istoki.jpg"/>
          <p:cNvPicPr/>
          <p:nvPr/>
        </p:nvPicPr>
        <p:blipFill>
          <a:blip r:embed="rId2"/>
          <a:stretch/>
        </p:blipFill>
        <p:spPr>
          <a:xfrm>
            <a:off x="5400720" y="4237200"/>
            <a:ext cx="3335400" cy="22064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785880" y="28584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бота с родителями по програм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Социокультурные истоки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468360" y="1413000"/>
            <a:ext cx="774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истемы  духовно-нравственных ценностей с детьми и родителями  в дошкольном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24000" y="2852640"/>
            <a:ext cx="804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ть  усилия семьи и детского сада с целью формирования у взрослых и детей единой системы ценносте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руковод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м взрослых 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педагогическую культу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двумя скругленными противолежащими углами 4"/>
          <p:cNvSpPr/>
          <p:nvPr/>
        </p:nvSpPr>
        <p:spPr>
          <a:xfrm>
            <a:off x="214200" y="142920"/>
            <a:ext cx="8715600" cy="6500880"/>
          </a:xfrm>
          <a:custGeom>
            <a:avLst/>
            <a:gdLst>
              <a:gd name="textAreaLeft" fmla="*/ 317160 w 8715600"/>
              <a:gd name="textAreaRight" fmla="*/ 8398440 w 8715600"/>
              <a:gd name="textAreaTop" fmla="*/ 317160 h 6500880"/>
              <a:gd name="textAreaBottom" fmla="*/ 6183720 h 6500880"/>
            </a:gdLst>
            <a:ahLst/>
            <a:rect l="textAreaLeft" t="textAreaTop" r="textAreaRight" b="textAreaBottom"/>
            <a:pathLst>
              <a:path w="8715375" h="6500813">
                <a:moveTo>
                  <a:pt x="1083491" y="0"/>
                </a:moveTo>
                <a:lnTo>
                  <a:pt x="8715375" y="0"/>
                </a:lnTo>
                <a:lnTo>
                  <a:pt x="8715375" y="5417322"/>
                </a:lnTo>
                <a:lnTo>
                  <a:pt x="8715375" y="5417322"/>
                </a:lnTo>
                <a:arcTo wR="1083491" hR="1083491" stAng="0" swAng="5400003"/>
                <a:lnTo>
                  <a:pt x="0" y="6500813"/>
                </a:lnTo>
                <a:lnTo>
                  <a:pt x="0" y="1083491"/>
                </a:lnTo>
                <a:lnTo>
                  <a:pt x="0" y="1083491"/>
                </a:lnTo>
                <a:arcTo wR="1083491" hR="1083491" stAng="-10799997" swAng="5400003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09480" y="3063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C:\Users\2011\Desktop\Фрагментымониторинга\Новая папка\kol3.png"/>
          <p:cNvPicPr/>
          <p:nvPr/>
        </p:nvPicPr>
        <p:blipFill>
          <a:blip r:embed="rId1"/>
          <a:stretch/>
        </p:blipFill>
        <p:spPr>
          <a:xfrm>
            <a:off x="6588000" y="-179280"/>
            <a:ext cx="2684520" cy="207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103640" cy="2816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04" name="Группа 8"/>
          <p:cNvGrpSpPr/>
          <p:nvPr/>
        </p:nvGrpSpPr>
        <p:grpSpPr>
          <a:xfrm>
            <a:off x="428760" y="1052640"/>
            <a:ext cx="6222960" cy="949320"/>
            <a:chOff x="428760" y="1052640"/>
            <a:chExt cx="6222960" cy="949320"/>
          </a:xfrm>
        </p:grpSpPr>
        <p:sp>
          <p:nvSpPr>
            <p:cNvPr id="105" name="Скругленный прямоугольник 9"/>
            <p:cNvSpPr/>
            <p:nvPr/>
          </p:nvSpPr>
          <p:spPr>
            <a:xfrm>
              <a:off x="428760" y="1052640"/>
              <a:ext cx="6222960" cy="949320"/>
            </a:xfrm>
            <a:prstGeom prst="roundRect">
              <a:avLst>
                <a:gd name="adj" fmla="val 16667"/>
              </a:avLst>
            </a:prstGeom>
            <a:solidFill>
              <a:srgbClr val="c4eca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Скругленный прямоугольник 4"/>
            <p:cNvSpPr/>
            <p:nvPr/>
          </p:nvSpPr>
          <p:spPr>
            <a:xfrm>
              <a:off x="477720" y="1098360"/>
              <a:ext cx="6124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чение родителей активным формам по системе «Моя семья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Picture 2" descr="C:\Users\2011\Desktop\IMG_0968.JPG"/>
          <p:cNvPicPr/>
          <p:nvPr/>
        </p:nvPicPr>
        <p:blipFill>
          <a:blip r:embed="rId3"/>
          <a:stretch/>
        </p:blipFill>
        <p:spPr>
          <a:xfrm>
            <a:off x="4857840" y="3000240"/>
            <a:ext cx="3809880" cy="285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 advTm="11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с двумя скругленными противолежащими углами 4"/>
          <p:cNvSpPr/>
          <p:nvPr/>
        </p:nvSpPr>
        <p:spPr>
          <a:xfrm>
            <a:off x="214200" y="142920"/>
            <a:ext cx="8715600" cy="6500880"/>
          </a:xfrm>
          <a:custGeom>
            <a:avLst/>
            <a:gdLst>
              <a:gd name="textAreaLeft" fmla="*/ 317160 w 8715600"/>
              <a:gd name="textAreaRight" fmla="*/ 8398440 w 8715600"/>
              <a:gd name="textAreaTop" fmla="*/ 317160 h 6500880"/>
              <a:gd name="textAreaBottom" fmla="*/ 6183720 h 6500880"/>
            </a:gdLst>
            <a:ahLst/>
            <a:rect l="textAreaLeft" t="textAreaTop" r="textAreaRight" b="textAreaBottom"/>
            <a:pathLst>
              <a:path w="8715375" h="6500813">
                <a:moveTo>
                  <a:pt x="1083491" y="0"/>
                </a:moveTo>
                <a:lnTo>
                  <a:pt x="8715375" y="0"/>
                </a:lnTo>
                <a:lnTo>
                  <a:pt x="8715375" y="5417322"/>
                </a:lnTo>
                <a:lnTo>
                  <a:pt x="8715375" y="5417322"/>
                </a:lnTo>
                <a:arcTo wR="1083491" hR="1083491" stAng="0" swAng="5400003"/>
                <a:lnTo>
                  <a:pt x="0" y="6500813"/>
                </a:lnTo>
                <a:lnTo>
                  <a:pt x="0" y="1083491"/>
                </a:lnTo>
                <a:lnTo>
                  <a:pt x="0" y="1083491"/>
                </a:lnTo>
                <a:arcTo wR="1083491" hR="1083491" stAng="-10799997" swAng="5400003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609480" y="3063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C:\Users\2011\Desktop\Фрагментымониторинга\Новая папка\kol3.png"/>
          <p:cNvPicPr/>
          <p:nvPr/>
        </p:nvPicPr>
        <p:blipFill>
          <a:blip r:embed="rId1"/>
          <a:stretch/>
        </p:blipFill>
        <p:spPr>
          <a:xfrm>
            <a:off x="6588000" y="-179280"/>
            <a:ext cx="2684520" cy="207144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8"/>
          <p:cNvGrpSpPr/>
          <p:nvPr/>
        </p:nvGrpSpPr>
        <p:grpSpPr>
          <a:xfrm>
            <a:off x="468360" y="946080"/>
            <a:ext cx="6119640" cy="1047960"/>
            <a:chOff x="468360" y="946080"/>
            <a:chExt cx="6119640" cy="1047960"/>
          </a:xfrm>
        </p:grpSpPr>
        <p:sp>
          <p:nvSpPr>
            <p:cNvPr id="112" name="Скругленный прямоугольник 9"/>
            <p:cNvSpPr/>
            <p:nvPr/>
          </p:nvSpPr>
          <p:spPr>
            <a:xfrm>
              <a:off x="468360" y="946080"/>
              <a:ext cx="6119640" cy="1047960"/>
            </a:xfrm>
            <a:prstGeom prst="roundRect">
              <a:avLst>
                <a:gd name="adj" fmla="val 16667"/>
              </a:avLst>
            </a:prstGeom>
            <a:solidFill>
              <a:srgbClr val="f5e4b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Скругленный прямоугольник 4"/>
            <p:cNvSpPr/>
            <p:nvPr/>
          </p:nvSpPr>
          <p:spPr>
            <a:xfrm>
              <a:off x="515880" y="996840"/>
              <a:ext cx="602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информационного листка «Мои истоки» с рекомендациями для родителе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Picture 2" descr="C:\Users\Admin\Documents\Фото\фото-вклад филясова\Новая папка\P1110366.JPG"/>
          <p:cNvPicPr/>
          <p:nvPr/>
        </p:nvPicPr>
        <p:blipFill>
          <a:blip r:embed="rId2"/>
          <a:stretch/>
        </p:blipFill>
        <p:spPr>
          <a:xfrm>
            <a:off x="5003640" y="2276640"/>
            <a:ext cx="3560760" cy="204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5" name="Прямоугольник 12"/>
          <p:cNvSpPr/>
          <p:nvPr/>
        </p:nvSpPr>
        <p:spPr>
          <a:xfrm>
            <a:off x="468360" y="224172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дел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о для родителе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родная мудрост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этическое слово детя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вторенье – мать уче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дем рады встрече с вам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гие мамы, папы, поиграйте вместе с нам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размышляйте вместе с детьм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литература для чте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«Наша жизнь день за днём», «Наши родители предлагаю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" descr="G:\DCIM\102PHOTO\SAM_1368.JPG"/>
          <p:cNvPicPr/>
          <p:nvPr/>
        </p:nvPicPr>
        <p:blipFill>
          <a:blip r:embed="rId3"/>
          <a:stretch/>
        </p:blipFill>
        <p:spPr>
          <a:xfrm>
            <a:off x="4780080" y="1768320"/>
            <a:ext cx="3973320" cy="28227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609480" y="3063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Группа 12"/>
          <p:cNvGrpSpPr/>
          <p:nvPr/>
        </p:nvGrpSpPr>
        <p:grpSpPr>
          <a:xfrm>
            <a:off x="511200" y="971640"/>
            <a:ext cx="6076800" cy="1047600"/>
            <a:chOff x="511200" y="971640"/>
            <a:chExt cx="6076800" cy="1047600"/>
          </a:xfrm>
        </p:grpSpPr>
        <p:sp>
          <p:nvSpPr>
            <p:cNvPr id="119" name="Скругленный прямоугольник 13"/>
            <p:cNvSpPr/>
            <p:nvPr/>
          </p:nvSpPr>
          <p:spPr>
            <a:xfrm>
              <a:off x="511200" y="971640"/>
              <a:ext cx="6076800" cy="1047600"/>
            </a:xfrm>
            <a:prstGeom prst="roundRect">
              <a:avLst>
                <a:gd name="adj" fmla="val 16667"/>
              </a:avLst>
            </a:prstGeom>
            <a:solidFill>
              <a:srgbClr val="fbbd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Скругленный прямоугольник 4"/>
            <p:cNvSpPr/>
            <p:nvPr/>
          </p:nvSpPr>
          <p:spPr>
            <a:xfrm>
              <a:off x="558720" y="1022400"/>
              <a:ext cx="59817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бота в семье с книгами для развития по программе «Социокультурные исток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Picture 2" descr="C:\Users\2011\Desktop\Фрагментымониторинга\Новая папка\kol3.png"/>
          <p:cNvPicPr/>
          <p:nvPr/>
        </p:nvPicPr>
        <p:blipFill>
          <a:blip r:embed="rId1"/>
          <a:stretch/>
        </p:blipFill>
        <p:spPr>
          <a:xfrm>
            <a:off x="6588000" y="-179280"/>
            <a:ext cx="2684520" cy="20714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с двумя скругленными противолежащими углами 4"/>
          <p:cNvSpPr/>
          <p:nvPr/>
        </p:nvSpPr>
        <p:spPr>
          <a:xfrm>
            <a:off x="214200" y="142920"/>
            <a:ext cx="8715600" cy="6500880"/>
          </a:xfrm>
          <a:custGeom>
            <a:avLst/>
            <a:gdLst>
              <a:gd name="textAreaLeft" fmla="*/ 317160 w 8715600"/>
              <a:gd name="textAreaRight" fmla="*/ 8398440 w 8715600"/>
              <a:gd name="textAreaTop" fmla="*/ 317160 h 6500880"/>
              <a:gd name="textAreaBottom" fmla="*/ 6183720 h 6500880"/>
            </a:gdLst>
            <a:ahLst/>
            <a:rect l="textAreaLeft" t="textAreaTop" r="textAreaRight" b="textAreaBottom"/>
            <a:pathLst>
              <a:path w="8715375" h="6500813">
                <a:moveTo>
                  <a:pt x="1083491" y="0"/>
                </a:moveTo>
                <a:lnTo>
                  <a:pt x="8715375" y="0"/>
                </a:lnTo>
                <a:lnTo>
                  <a:pt x="8715375" y="5417322"/>
                </a:lnTo>
                <a:lnTo>
                  <a:pt x="8715375" y="5417322"/>
                </a:lnTo>
                <a:arcTo wR="1083491" hR="1083491" stAng="0" swAng="5400003"/>
                <a:lnTo>
                  <a:pt x="0" y="6500813"/>
                </a:lnTo>
                <a:lnTo>
                  <a:pt x="0" y="1083491"/>
                </a:lnTo>
                <a:lnTo>
                  <a:pt x="0" y="1083491"/>
                </a:lnTo>
                <a:arcTo wR="1083491" hR="1083491" stAng="-10799997" swAng="5400003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C:\Users\Admin\Desktop\Группа 10\истоки средняя группа\Пенкин Павел фото\DSC03078.JPG"/>
          <p:cNvPicPr/>
          <p:nvPr/>
        </p:nvPicPr>
        <p:blipFill>
          <a:blip r:embed="rId2"/>
          <a:stretch/>
        </p:blipFill>
        <p:spPr>
          <a:xfrm>
            <a:off x="731880" y="2054160"/>
            <a:ext cx="5954760" cy="8899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4"/>
          <p:cNvSpPr/>
          <p:nvPr/>
        </p:nvSpPr>
        <p:spPr>
          <a:xfrm>
            <a:off x="0" y="42876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C:\Users\2011\Desktop\Фрагментымониторинга\Новая папка\kol3.png"/>
          <p:cNvPicPr/>
          <p:nvPr/>
        </p:nvPicPr>
        <p:blipFill>
          <a:blip r:embed="rId1"/>
          <a:stretch/>
        </p:blipFill>
        <p:spPr>
          <a:xfrm>
            <a:off x="5996160" y="0"/>
            <a:ext cx="3147840" cy="24289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с двумя скругленными противолежащими углами 4"/>
          <p:cNvSpPr/>
          <p:nvPr/>
        </p:nvSpPr>
        <p:spPr>
          <a:xfrm>
            <a:off x="214200" y="125280"/>
            <a:ext cx="8715600" cy="6500880"/>
          </a:xfrm>
          <a:custGeom>
            <a:avLst/>
            <a:gdLst>
              <a:gd name="textAreaLeft" fmla="*/ 317160 w 8715600"/>
              <a:gd name="textAreaRight" fmla="*/ 8398440 w 8715600"/>
              <a:gd name="textAreaTop" fmla="*/ 317160 h 6500880"/>
              <a:gd name="textAreaBottom" fmla="*/ 6183720 h 6500880"/>
            </a:gdLst>
            <a:ahLst/>
            <a:rect l="textAreaLeft" t="textAreaTop" r="textAreaRight" b="textAreaBottom"/>
            <a:pathLst>
              <a:path w="8715375" h="6500812">
                <a:moveTo>
                  <a:pt x="1083491" y="0"/>
                </a:moveTo>
                <a:lnTo>
                  <a:pt x="8715375" y="0"/>
                </a:lnTo>
                <a:lnTo>
                  <a:pt x="8715375" y="5417321"/>
                </a:lnTo>
                <a:lnTo>
                  <a:pt x="8715375" y="5417321"/>
                </a:lnTo>
                <a:arcTo wR="1083491" hR="1083491" stAng="0" swAng="5400003"/>
                <a:lnTo>
                  <a:pt x="0" y="6500812"/>
                </a:lnTo>
                <a:lnTo>
                  <a:pt x="0" y="1083491"/>
                </a:lnTo>
                <a:lnTo>
                  <a:pt x="0" y="1083491"/>
                </a:lnTo>
                <a:arcTo wR="1083491" hR="1083491" stAng="-10799997" swAng="5400003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571680" y="1305360"/>
            <a:ext cx="80722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ется цель - духовное возрождение 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воспитание всесторонне развитой ли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ерию книг для развития, занятий с родителями происходит объединение усилий ДОУ и семьи  в духовно-нравственном развитии дошколь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м, что направление возрождения духовности у детей и родителей выбрано нами правильно. Это подтверждает такой факт, что  федеральным государственным образовательным стандартом поставлена задача объединения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-31608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:\Скан. книги Истоки\Document_15.jpg"/>
          <p:cNvPicPr/>
          <p:nvPr/>
        </p:nvPicPr>
        <p:blipFill>
          <a:blip r:embed="rId1"/>
          <a:stretch/>
        </p:blipFill>
        <p:spPr>
          <a:xfrm>
            <a:off x="324000" y="115920"/>
            <a:ext cx="1373040" cy="19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1" name="Picture 3" descr="F:\Скан. книги Истоки\Document_13.jpg"/>
          <p:cNvPicPr/>
          <p:nvPr/>
        </p:nvPicPr>
        <p:blipFill>
          <a:blip r:embed="rId2"/>
          <a:stretch/>
        </p:blipFill>
        <p:spPr>
          <a:xfrm>
            <a:off x="179280" y="1628640"/>
            <a:ext cx="1346400" cy="2000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" name="Picture 5" descr="F:\Скан. книги Истоки\Document_16.jpg"/>
          <p:cNvPicPr/>
          <p:nvPr/>
        </p:nvPicPr>
        <p:blipFill>
          <a:blip r:embed="rId3"/>
          <a:stretch/>
        </p:blipFill>
        <p:spPr>
          <a:xfrm>
            <a:off x="324000" y="2781360"/>
            <a:ext cx="1369800" cy="1990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3" name="Picture 2" descr="F:\Скан. книги Истоки\Document_9.jpg"/>
          <p:cNvPicPr/>
          <p:nvPr/>
        </p:nvPicPr>
        <p:blipFill>
          <a:blip r:embed="rId4"/>
          <a:stretch/>
        </p:blipFill>
        <p:spPr>
          <a:xfrm>
            <a:off x="179280" y="4554360"/>
            <a:ext cx="1533600" cy="230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4" name="Прямоугольник 8"/>
          <p:cNvSpPr/>
          <p:nvPr/>
        </p:nvSpPr>
        <p:spPr>
          <a:xfrm>
            <a:off x="1908000" y="189000"/>
            <a:ext cx="6985080" cy="77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средней группе (возраст детей 4-5 лет) целями воспитательной программы являютс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первоначальное прочувствованное восприятие детьми ближайшей социокультурной среды и деятельности в ней человека. Осваиваемые категории: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одной очаг, Родные просторы, Труд земной, Труд душ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развитие способности следовать нравственным нормам и правилам на основе формирующихся у детей потребностей в социальном соответств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развитие способности чувствовать эмоциональное состояние окружающих и быть благодарными, заботливыми и внимательными к родителям и другим близким людя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развитие навыков деятельностного, познавательного и личностного общения со сверстниками и взрослыми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000" y="-316080"/>
            <a:ext cx="7272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ниги для развития детей 4 – 5 лет: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ружная семья»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В добрый путь», «Добрая забота», «Благодарное слово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F:\Скан. книги Истоки\Document_15.jpg"/>
          <p:cNvPicPr/>
          <p:nvPr/>
        </p:nvPicPr>
        <p:blipFill>
          <a:blip r:embed="rId1"/>
          <a:stretch/>
        </p:blipFill>
        <p:spPr>
          <a:xfrm>
            <a:off x="324000" y="115920"/>
            <a:ext cx="1373040" cy="19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7" name="Picture 3" descr="F:\Скан. книги Истоки\Document_13.jpg"/>
          <p:cNvPicPr/>
          <p:nvPr/>
        </p:nvPicPr>
        <p:blipFill>
          <a:blip r:embed="rId2"/>
          <a:stretch/>
        </p:blipFill>
        <p:spPr>
          <a:xfrm>
            <a:off x="179280" y="1628640"/>
            <a:ext cx="1346400" cy="2000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8" name="Picture 5" descr="F:\Скан. книги Истоки\Document_16.jpg"/>
          <p:cNvPicPr/>
          <p:nvPr/>
        </p:nvPicPr>
        <p:blipFill>
          <a:blip r:embed="rId3"/>
          <a:stretch/>
        </p:blipFill>
        <p:spPr>
          <a:xfrm>
            <a:off x="324000" y="2781360"/>
            <a:ext cx="1369800" cy="1990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9" name="Picture 2" descr="F:\Скан. книги Истоки\Document_9.jpg"/>
          <p:cNvPicPr/>
          <p:nvPr/>
        </p:nvPicPr>
        <p:blipFill>
          <a:blip r:embed="rId4"/>
          <a:stretch/>
        </p:blipFill>
        <p:spPr>
          <a:xfrm>
            <a:off x="179280" y="4554360"/>
            <a:ext cx="1533600" cy="230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Прямоугольник 8"/>
          <p:cNvSpPr/>
          <p:nvPr/>
        </p:nvSpPr>
        <p:spPr>
          <a:xfrm>
            <a:off x="1763640" y="692280"/>
            <a:ext cx="7380360" cy="72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ниг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ружная семья» </a:t>
            </a:r>
            <a:r>
              <a:rPr b="0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зволяет присоединить всех участников образовательного процесса к отечественным традициям семьи, приобрести социокультурный </a:t>
            </a:r>
            <a:r>
              <a:rPr b="1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пыт отношений между родителями и детьми, братьями и сестрами, бабушками и дедушк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рез книгу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добрый путь» </a:t>
            </a:r>
            <a:r>
              <a:rPr b="0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ля детей раскрывается ценность родного дома, который является началом всех путей и дорог. Родители – самые близкие для ребенка люди, показывают ему образцы добрых дел и поступ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ниг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обрая забота» </a:t>
            </a:r>
            <a:r>
              <a:rPr b="0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казывает  ребенку значимость доброго, заботливого отношения человека к «братьям нашим меньшим», она способствует воспитанию в детях любви к труду и людям тру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лагодарном слове»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тям раскрываются ценности семьи, доброго слова и доброго дела в жизни человека, а так же значение благодарного слова в общении между людь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72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оциокультурная категория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«Родной очаг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484280"/>
            <a:ext cx="8856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Через освоение категории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«Родной очаг»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ети выходят на понимание ценностей дружной семьи, где каждый находит радость и утешение, где все стараются как можно чаще быть вместе, где родные люди всегда являются надеждой и опорой друг для друга. Дети узнают об устройстве традиционно русской православной семьи, о роли матери, отца и детей в н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В 4  -5 лет у детей начинает выстраиваться целостный образ Семь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44" descr="1"/>
          <p:cNvPicPr/>
          <p:nvPr/>
        </p:nvPicPr>
        <p:blipFill>
          <a:blip r:embed="rId1"/>
          <a:stretch/>
        </p:blipFill>
        <p:spPr>
          <a:xfrm rot="21180000">
            <a:off x="-109080" y="117360"/>
            <a:ext cx="201600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00000" y="4572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ДАЧИ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s01090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619280" y="476280"/>
            <a:ext cx="6985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1"/>
          <p:cNvPicPr/>
          <p:nvPr/>
        </p:nvPicPr>
        <p:blipFill>
          <a:blip r:embed="rId2"/>
          <a:stretch/>
        </p:blipFill>
        <p:spPr>
          <a:xfrm rot="21180000">
            <a:off x="-109080" y="-9000"/>
            <a:ext cx="1800000" cy="1055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072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Категория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«Родной очаг»</a:t>
            </a:r>
            <a:br>
              <a:rPr sz="36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нига для развития детей 4-5 лет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«Дружная семь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Книга состоит из двух частей: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«Дружная семья» и «Домашнее тепло».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Работа над данной книгой позволит присоединить всех участников образовательных отношений к традициям русской семьи, приобрести социокультурный опыт взаимоотношений между родителями и детьми, братьями и сёстрами, бабушками и дедушками. Русская народная сказк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«Братец Иванушка и сестрица Алёнушка»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рассказы Л. Корсунской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«Семья»,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«Первая рыбка»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Е. Пермяка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Брат и младшая сестра»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Э. Шима развивают чувство ответственности за благополучие в семье и формируют личностное ценностное отношение к семь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Народные игры, песни, поэтические тексты классиков русской литературы, помещённые в книге для развития, способствуют организации интегративного образовательного процесса в дошкольной организации, развивают эмоционально-чувственную  сферу дет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1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оциокультурная категория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«Родные просторы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тегор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«Родные просторы»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аскрывает исторически сложившееся традиционное отношение человека и природы, особенностью которого служат уважительные отношения к Родине – Матери, к России – носительнице высших духовных ценностей, к родной земле. Природа для русского человека всегда была матерью, божественным началом. В дошкольном образовании это обусловлено особенностями восприятия ребенком окружающего мира. Дитя ощущает мир как живое целое, оно открыто миру, так как чувствует себя его частью. Ребенка влечет и притягивает окружающий мир. Все ему представляется новым и интересным.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Впечатления от родной природы, полученные в детстве, запоминаются на всю жизнь, гармония в природе отзывается в его душе переживанием счастья и восторга. Сохранить и развить у детей способность целостного восприятия мира — одна из важнейших задач дошкольного воспит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44" descr="1"/>
          <p:cNvPicPr/>
          <p:nvPr/>
        </p:nvPicPr>
        <p:blipFill>
          <a:blip r:embed="rId1"/>
          <a:stretch/>
        </p:blipFill>
        <p:spPr>
          <a:xfrm rot="21180000">
            <a:off x="-109080" y="117360"/>
            <a:ext cx="2016000" cy="12956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00000" y="4572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ДАЧИ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s01090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619280" y="476280"/>
            <a:ext cx="6985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1"/>
          <p:cNvPicPr/>
          <p:nvPr/>
        </p:nvPicPr>
        <p:blipFill>
          <a:blip r:embed="rId2"/>
          <a:stretch/>
        </p:blipFill>
        <p:spPr>
          <a:xfrm rot="21180000">
            <a:off x="66600" y="118800"/>
            <a:ext cx="2016360" cy="1228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атегория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 Родные просторы»</a:t>
            </a:r>
            <a:br>
              <a:rPr sz="32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нига для развития детей 4-5 лет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«В добрый пу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0920" y="1483920"/>
            <a:ext cx="81342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нига состоит из двух частей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«Дороги добра» и «Сказочный лес»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Литературно-художественный и дидактический материал первой части книги для развития даёт детям образцы добрых дел и поступков, раскрывает важную мысль: нам всем необходимо заботиться о ближних, проявлять к ним своё доброе отноше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Русские народные сказки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«Петушок – золотой гребешок», «Снегурушка и лиса»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раскрывают тему сказочного леса, заботливого отношения ко всему жив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561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оциокультурная категория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«Труд земн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155736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Категория 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«Труд земной»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раскрывает особое отношение к «братьям нашим меньшим», позволяет подвести детей к восприятию труда как естественного и необходимого состояния человека, условия его полноценной жизни. Восприятие труда ребенком 4-5 лет имеет свои особенности. </a:t>
            </a:r>
            <a:r>
              <a:rPr b="0" i="1" lang="ru-RU" sz="3200" spc="-1" strike="noStrike">
                <a:solidFill>
                  <a:srgbClr val="000066"/>
                </a:solidFill>
                <a:latin typeface="Times New Roman"/>
              </a:rPr>
              <a:t>Для него на первый план выступает не технологический, а смысловой аспект различных видов трудовой деятельности и отдельных орудий труда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1"/>
          <p:cNvPicPr/>
          <p:nvPr/>
        </p:nvPicPr>
        <p:blipFill>
          <a:blip r:embed="rId1"/>
          <a:stretch/>
        </p:blipFill>
        <p:spPr>
          <a:xfrm rot="21180000">
            <a:off x="66600" y="118800"/>
            <a:ext cx="2016360" cy="1228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00000" y="4572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ДАЧИ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s01090i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1619280" y="476280"/>
            <a:ext cx="69850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1"/>
          <p:cNvPicPr/>
          <p:nvPr/>
        </p:nvPicPr>
        <p:blipFill>
          <a:blip r:embed="rId2"/>
          <a:stretch/>
        </p:blipFill>
        <p:spPr>
          <a:xfrm rot="21180000">
            <a:off x="-185400" y="119160"/>
            <a:ext cx="2016000" cy="1228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13456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Категория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ТРУД ЗЕМНОЙ</a:t>
            </a:r>
            <a:br>
              <a:rPr sz="36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нига для развития детей 4-5 лет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«Добрая забота 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Книга состоит из двух частей: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«Добрая забота «и «Праведный труд»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Основная её задача – раскрыть для ребёнка значимость доброго, заботливого отношения человека к домашним животным, она способствует воспитанию в детях любви к труду и людям труда. На это направлен литературно-художественный и дидактический материал книги для развития - рассказы, песни, игры, пословицы, страницы Альбома, инструментарий для активного занятия с детьми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«Добрая забот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2:00:18Z</dcterms:created>
  <dc:creator>User</dc:creator>
  <dc:description/>
  <dc:language>en-US</dc:language>
  <cp:lastModifiedBy>admin</cp:lastModifiedBy>
  <dcterms:modified xsi:type="dcterms:W3CDTF">2016-11-28T18:10:10Z</dcterms:modified>
  <cp:revision>421</cp:revision>
  <dc:subject/>
  <dc:title>Региональная программа «Социокультурные истоки»</dc:title>
</cp:coreProperties>
</file>