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410-E0FB-4CD6-8CD7-D6721EF7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170-9B2C-4593-B2D1-FB16AC1B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296-40DB-4C00-B740-5F0E6E97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C7B-0CCD-4966-B825-DFB61841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25E-53BF-4F30-8A49-15EAB7DC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B33-995B-4B03-92C0-385391C5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C85-9601-4702-AB21-6E880077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DDE-89D6-43D3-A933-53A993C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347-C16A-4876-93B3-FF227C1C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EA7-30E7-428B-9ED7-0E3A88E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267-AC65-495F-A8A2-70A0CBA8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871-054E-41C4-9CA4-8822C52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51B0B-1A09-4060-83AF-D4A0320FB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Скороговорка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87280" y="1866960"/>
            <a:ext cx="957600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ерепел перепёлку и перепеля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В перелеске прятал от ребят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уквы: П / Р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08360" y="5256360"/>
            <a:ext cx="531684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Перепе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89240" y="144360"/>
            <a:ext cx="78991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Перелесо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72036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92000" y="2160720"/>
            <a:ext cx="89996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пять пять ребя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шли у пенька по пять опя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еперь у пяти ребя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вадцать пять опя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6:07:45Z</dcterms:created>
  <dc:creator>Ирина Гулакова</dc:creator>
  <dc:description/>
  <dc:language>en-US</dc:language>
  <cp:lastModifiedBy>Ирина Гулакова</cp:lastModifiedBy>
  <dcterms:modified xsi:type="dcterms:W3CDTF">2014-10-24T16:37:07Z</dcterms:modified>
  <cp:revision>2</cp:revision>
  <dc:subject/>
  <dc:title/>
</cp:coreProperties>
</file>