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039-F5EF-4302-B46B-A926B105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E69-41F0-4D16-A1E9-703AFD94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927-B500-4BB9-8286-4D502271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841-0A42-4F2E-AA88-646D7EF5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8C6-706A-46FB-8FEB-106448F1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9E9-5253-443B-9ECB-35015958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58E-435F-4736-AE37-24DA4D7A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96A-55A3-4893-81F1-7B2FCD15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4D6-F423-4352-A4BF-E483B49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5CC-1E65-4916-82C9-3F04945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E74-2947-4F83-91E0-8FBF3BFD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5D3-7E43-42AA-9637-67C0A53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EA7A-7B92-48BC-A87C-01ED9B33F0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7280" y="177840"/>
            <a:ext cx="943128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ные Штаты Америки начало XXl ве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11280"/>
            <a:ext cx="10080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3440" y="115560"/>
            <a:ext cx="892656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280" y="1224000"/>
            <a:ext cx="892836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стремительно меняется. В конце XX - начале XXI века в мировой экономике и геополитической картине мира произошли существенные сдвиги. На переломе двух веков был длительный период подъема и высоких темпов роста при относительно низкой инфля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ка США благодаря своему потенциалу, емкости рынка и вовлеченности в мирохозяйственные связи становится важным сегментом глобализирующейся мировой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395280"/>
            <a:ext cx="9468000" cy="68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начале XXI века мировая экономика в значительной степени зависит от состояния экономики США. Существует множество факторов, взаимодействие которых привело к развитию в 2008г.столь масштабного финансово-экономического кризиса глобаль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них недооценка рисков, невозможность адекватной оценки рыночных активов в кризисный период; недооценка корреляции между рынками акций, облигаций, кредитов; меняющаяся взаимосвязь между финансовым и реальным сектор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6000" y="5111640"/>
            <a:ext cx="9720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начале XXI века на первый план политической жизни вышли такие проблемы как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ыв в уровнях доходов бедных и богатых,  трудности с ассимиляцией новых волн иммигрантов, необходимость реформ здравоохранения, а также государственного социального обеспечения в связи со старением насел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280" y="61920"/>
            <a:ext cx="972036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рово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294920"/>
            <a:ext cx="82807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новение кризи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995480"/>
            <a:ext cx="9071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новение кризиса связывают с общей цикличностью экономического развития, дисбалансами международной торговли и движения капиталов, а также перегревом кредитного рынка и особенно проявившегося его следствием ипотечного кризиса — как результата кредитной экспансии, развернутой в 1980-х — начале 2000-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1295280"/>
            <a:ext cx="892836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бросовестная работа американских ипотечных компаний, которые продавали закладные по другим це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3280" y="5637240"/>
            <a:ext cx="446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а субстандартных кредитов брокерской фирмы, специализирующейся на ипотечном кредитовании, в июле 2008 г. в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1640" y="276696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37160" y="2664000"/>
            <a:ext cx="39672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11640" y="5616720"/>
            <a:ext cx="468000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ередь желающих забрать вклады из-за ипотечного кризиса перед отделением банка «Нортерн рок» в Бирмингеме, Великобритания, 15 сентября 200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следствия кризис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928000" cy="29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ротство крупнейших б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изация крупнейших ипотечных агент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шение американ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ие плана Полс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67640" y="3887640"/>
            <a:ext cx="3095640" cy="352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35280" y="6767640"/>
            <a:ext cx="3879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ри Мэррит По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0360" y="6270480"/>
            <a:ext cx="8928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5:42:14Z</dcterms:created>
  <dc:creator>Ирина Гулакова</dc:creator>
  <dc:description/>
  <dc:language>en-US</dc:language>
  <cp:lastModifiedBy>Ирина Гулакова</cp:lastModifiedBy>
  <dcterms:modified xsi:type="dcterms:W3CDTF">2014-10-03T04:07:00Z</dcterms:modified>
  <cp:revision>3</cp:revision>
  <dc:subject/>
  <dc:title/>
</cp:coreProperties>
</file>