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19E10-E2AC-45A6-8C32-5E5E917CC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45113-A5BA-4BAF-A490-C07E59D30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DA9FD-8CF2-4435-88FD-430DA5DE3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525CB-7E66-4D58-A898-B3436FB6A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F0B28-ECFC-4A1D-AED4-C3A2D9917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238FB-5402-498A-9797-4FA425EBD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5D4AA-2ED2-444A-9CF4-3A597A972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82216-B711-424D-9666-D9E2351CF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7B3A7-D86F-4ED2-9D3A-B51373662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5501A-6F9A-43CB-80AF-581B1186E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64063-E173-4B3A-A4A9-1B3E2D5B6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5A548-C8E0-4ECF-9A45-2A4A866A2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0446B6-5C4F-481D-A54C-914D46BCB2A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87280" y="177840"/>
            <a:ext cx="9431280" cy="1333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единенные Штаты Америки начало XXl век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1511280"/>
            <a:ext cx="10080720" cy="604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33440" y="115560"/>
            <a:ext cx="8926560" cy="108756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оциально-экономическое развит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31280" y="1224000"/>
            <a:ext cx="8928360" cy="5649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427320" indent="-32040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ир стремительно меняется. В конце XX - начале XXI века в мировой экономике и геополитической картине мира произошли существенные сдвиги. На переломе двух веков был длительный период подъема и высоких темпов роста при относительно низкой инфляц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кономика США благодаря своему потенциалу, емкости рынка и вовлеченности в мирохозяйственные связи становится важным сегментом глобализирующейся мировой экономи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79280" y="395280"/>
            <a:ext cx="9468000" cy="68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 в начале XXI века мировая экономика в значительной степени зависит от состояния экономики США. Существует множество факторов, взаимодействие которых привело к развитию в 2008г.столь масштабного финансово-экономического кризиса глобального характер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реди них недооценка рисков, невозможность адекватной оценки рыночных активов в кризисный период; недооценка корреляции между рынками акций, облигаций, кредитов; меняющаяся взаимосвязь между финансовым и реальным секторам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6000" y="5111640"/>
            <a:ext cx="9720000" cy="227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304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 начале XXI века на первый план политической жизни вышли такие проблемы как 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разрыв в уровнях доходов бедных и богатых,  трудности с ассимиляцией новых волн иммигрантов, необходимость реформ здравоохранения, а также государственного социального обеспечения в связи со старением населения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71280" y="61920"/>
            <a:ext cx="9720360" cy="497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ировой кризи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31640" y="1294920"/>
            <a:ext cx="8280720" cy="60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зникновение кризис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31640" y="1995480"/>
            <a:ext cx="9071280" cy="36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зникновение кризиса связывают с общей цикличностью экономического развития, дисбалансами международной торговли и движения капиталов, а также перегревом кредитного рынка и особенно проявившегося его следствием ипотечного кризиса — как результата кредитной экспансии, развернутой в 1980-х — начале 2000-х год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4752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Причины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31280" y="1295280"/>
            <a:ext cx="8928360" cy="1471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добросовестная работа американских ипотечных компаний, которые продавали закладные по другим цен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03280" y="5637240"/>
            <a:ext cx="4464000" cy="17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клама субстандартных кредитов брокерской фирмы, специализирующейся на ипотечном кредитовании, в июле 2008 г. в СШ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31640" y="2766960"/>
            <a:ext cx="3959280" cy="28083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5537160" y="2664000"/>
            <a:ext cx="3967200" cy="29527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111640" y="5616720"/>
            <a:ext cx="4680000" cy="21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чередь желающих забрать вклады из-за ипотечного кризиса перед отделением банка «Нортерн рок» в Бирмингеме, Великобритания, 15 сентября 2007 г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4752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Последствия кризиса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8928000" cy="2911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анкротство крупнейших бан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ционализация крупнейших ипотечных агентст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рушение американской эконом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нятие плана Полсо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6767640" y="3887640"/>
            <a:ext cx="3095640" cy="35276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2735280" y="6767640"/>
            <a:ext cx="38797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енри Мэррит Полсо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360360" y="6270480"/>
            <a:ext cx="8928000" cy="10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332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Arial"/>
              </a:rPr>
              <a:t>Спасибо за внимание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02T15:42:14Z</dcterms:created>
  <dc:creator>Ирина Гулакова</dc:creator>
  <dc:description/>
  <dc:language>en-US</dc:language>
  <cp:lastModifiedBy>Ирина Гулакова</cp:lastModifiedBy>
  <dcterms:modified xsi:type="dcterms:W3CDTF">2014-10-03T04:07:00Z</dcterms:modified>
  <cp:revision>3</cp:revision>
  <dc:subject/>
  <dc:title/>
</cp:coreProperties>
</file>