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09E-0575-4505-8078-01EA9E87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3EF-7EDE-40CA-82DC-FDDB820F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831-595C-4DEC-9BDC-FE919D1D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E15-B693-4A40-A79D-6AE611E7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E6B6-E129-46EB-99A3-439F985A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3491-061B-48EE-A12A-1FC0620C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ED00-2208-4AB9-8EDD-BDE30FFC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0AD4-5512-4785-8ABC-ABEFCE3B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5203-FB17-43A9-A34E-AECB3078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23D8-EB4E-45F5-B79D-99E7F1AB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7F0C-9639-4487-AAF9-32040726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D97-183D-4DBA-B584-71BC4B5A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BB90-11E9-4501-AEAF-C41A0F13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B65F-E4AC-40D3-AEDA-C81D456F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0B7C-DBC3-4D24-845D-BBF89E36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8D59-27CC-4820-9F5E-6ECA939F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F75C-65B4-4E3D-B234-F7BAF57E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D0B-3A90-4B6E-87DE-EAED21AE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4D4-CE63-43E1-98A2-77683AF0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E71-B71A-4B91-B00D-85FFA213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72F-7036-43B6-9143-66D7BF91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67E-C35D-4472-82EF-66CE7D2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185-E2B0-4FDE-9A3A-438C4A5F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336-C1F4-4275-A7CE-D7C146B2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16F2-DCAF-40B5-8F38-62E13CB4CE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DF2C-1D9A-4172-9569-6A25399978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67672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Театр</a:t>
            </a:r>
            <a:br>
              <a:rPr sz="4000"/>
            </a:b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73"/>
                </a:solidFill>
                <a:latin typeface="Tahoma"/>
              </a:rPr>
              <a:t>Задачи и этапы </a:t>
            </a:r>
            <a:r>
              <a:rPr b="1" i="1" lang="ru-RU" sz="3600" spc="-1" strike="noStrike">
                <a:solidFill>
                  <a:srgbClr val="000073"/>
                </a:solidFill>
                <a:latin typeface="Tahoma"/>
              </a:rPr>
              <a:t>сюжетно-ролевой</a:t>
            </a:r>
            <a:r>
              <a:rPr b="0" i="1" lang="ru-RU" sz="3600" spc="-1" strike="noStrike">
                <a:solidFill>
                  <a:srgbClr val="000073"/>
                </a:solidFill>
                <a:latin typeface="Tahoma"/>
              </a:rPr>
              <a:t> игры «Театр» в подготовительной групп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Задачи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вать творчество, самостоятельность, инициативу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ывать дружеские взаимоотношения между деть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репить умение создавать различные конструкции по словесной инстру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ывать навыки театральной культуры, приобщать к театральному искусству через просмотр театральных постановок, слайдов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гру с макетом театр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этап. Мотивационный.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седа «А вы были в театре? Хоте ли бы вы, посетить театр еще раз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показом иллюстраций (слайды) произвед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ещения театра, совместно с родителями и педагогом (просмотр сказк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седа об увиденном в театре (кому, что понравилось, что запомнилось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тивация: «А вы бы хотели, что бы у вас в группе был макет театра?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I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этап. Познавательный.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 слайдов «Жизнь театра до и после спектакля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седа о профессиях работников теат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исование (лепка) человеч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седа «Как пишется сценарий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сценариев детей с родителя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II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этап. Вербализация.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труирование зала теат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тановка «работников» театра на макете и обсуждение, кто чем занимается в театре. Кого не хватает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курс «сценариев» (родители помогают сделать презентацию сцена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V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этап. Творческий.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 расстановки работников дети самостоятельно доделывают не хватающих работников, по желанию рисуют декорации, создают билеты, программки, афиши, обыгрывают сцены из жизни теат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V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этап. Итоговый.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кет зала театра с его «работниками», зрителями, декорация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 спектакля в своем театре для соседней групп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04:10:03Z</dcterms:created>
  <dc:creator>Аня</dc:creator>
  <dc:description/>
  <dc:language>en-US</dc:language>
  <cp:lastModifiedBy>Magilus</cp:lastModifiedBy>
  <dcterms:modified xsi:type="dcterms:W3CDTF">2016-11-28T16:42:55Z</dcterms:modified>
  <cp:revision>11</cp:revision>
  <dc:subject/>
  <dc:title>Слайд 1</dc:title>
</cp:coreProperties>
</file>