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C15-5111-4731-8A9D-3E2FF955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908-E6FE-40F4-84D0-0F600E0B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CB5-BF32-49A6-8B9A-FDAA29A6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FBA-C6F2-49AE-A9AD-E94A2ECA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18D3-3B76-4769-A324-897BEC56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3CBB-0C41-4463-9E04-DCA3A31C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C474-0F04-4687-AE48-322C2E86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5E66-2753-4A75-B1B2-06E40AFA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44EF-D74F-48C4-99CC-B77D53FD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595E-53EB-4774-8720-BEACF5F4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26CE-C7B7-47D4-A254-F0633731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B21-63A6-4778-AF1D-4A6B104F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5975-D836-4048-83E8-9EA0394A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D9D5-BBE0-4B8B-992E-761DD088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CD40-2013-4468-BC15-3CD284AD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AFBC-81BC-407A-B3F6-7C9B13E6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8FD9-81D9-46F6-8511-E8BD1361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250-0002-4E3F-AF70-653F7F3E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E85-3CB3-423C-A6AB-FB2C33BB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425-18DC-4637-9EB4-FE4F5D44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3AC-B216-4EE5-8EEB-B295B5EA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7FB-8A66-469B-8E52-CBFBD881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D1A-8093-4073-AEE4-38919DB6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B02-3F59-4E56-A323-09201D57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8D96-FAB0-4326-8D93-60747D0610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A354-A5BC-4527-905D-C1010C7C06D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2f1311"/>
                </a:solidFill>
                <a:latin typeface="Arial"/>
              </a:rPr>
              <a:t>Башкарды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2f1311"/>
                </a:solidFill>
                <a:latin typeface="Arial"/>
              </a:rPr>
              <a:t>98нче татар-рус урта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2f1311"/>
                </a:solidFill>
                <a:latin typeface="Arial"/>
              </a:rPr>
              <a:t>мәктәбенең татар теле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2f1311"/>
                </a:solidFill>
                <a:latin typeface="Arial"/>
              </a:rPr>
              <a:t>һәм әдәбияты укытучыс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2f1311"/>
                </a:solidFill>
                <a:latin typeface="Arial"/>
              </a:rPr>
              <a:t>Галиуллина Диләрә Әхмәдулла кыз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2268360" y="1341360"/>
            <a:ext cx="4562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укай- халык шагыйр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Rectangle 8"/>
          <p:cNvSpPr/>
          <p:nvPr/>
        </p:nvSpPr>
        <p:spPr>
          <a:xfrm rot="21004200">
            <a:off x="509040" y="6302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7d47d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40" descr="i(1)"/>
          <p:cNvPicPr/>
          <p:nvPr/>
        </p:nvPicPr>
        <p:blipFill>
          <a:blip r:embed="rId1"/>
          <a:stretch/>
        </p:blipFill>
        <p:spPr>
          <a:xfrm>
            <a:off x="3708360" y="2852640"/>
            <a:ext cx="974880" cy="166680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2"/>
          <p:cNvSpPr txBox="1"/>
          <p:nvPr/>
        </p:nvSpPr>
        <p:spPr>
          <a:xfrm>
            <a:off x="0" y="0"/>
            <a:ext cx="9144000" cy="686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500"/>
                            </p:stCondLst>
                            <p:childTnLst>
                              <p:par>
                                <p:cTn id="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7d47d"/>
                </a:solidFill>
                <a:latin typeface="Arial"/>
              </a:rPr>
              <a:t>Эчтәл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укайның балачаг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укай яшәгән урынна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укай әсәрләр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Кырлайда Тукай музе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укай исеме мәңгеле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2f1311"/>
                </a:solidFill>
                <a:latin typeface="Arial"/>
              </a:rPr>
              <a:t>Тукай -халык шагыйр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5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6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2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5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Тукай йөргән юллар буйлап.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шлавыч – Өчиле – Сосна - Өчиле – Казан - Өчиле – Кырлай – Җаек – Каза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2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8" dur="1500" autoRev="1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7,-73,-43)"/>
                                      </p:to>
                                    </p:set>
                                    <p:set>
                                      <p:cBhvr>
                                        <p:cTn id="99" dur="1500" autoRev="1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7,-73,-43)"/>
                                      </p:to>
                                    </p:set>
                                    <p:set>
                                      <p:cBhvr>
                                        <p:cTn id="100" dur="1500" autoRev="1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2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c89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ПЕЧӘН БАЗА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7345440" cy="4464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БОЛГАР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5" descr="Рисунок5"/>
          <p:cNvPicPr/>
          <p:nvPr/>
        </p:nvPicPr>
        <p:blipFill>
          <a:blip r:embed="rId1"/>
          <a:stretch/>
        </p:blipFill>
        <p:spPr>
          <a:xfrm>
            <a:off x="179280" y="1628640"/>
            <a:ext cx="7361280" cy="4464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ШӘРЫК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Ъ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КЛУБ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4" descr="Шэрек_клубы"/>
          <p:cNvPicPr/>
          <p:nvPr/>
        </p:nvPicPr>
        <p:blipFill>
          <a:blip r:embed="rId1"/>
          <a:srcRect l="0" t="0" r="0" b="5220"/>
          <a:stretch/>
        </p:blipFill>
        <p:spPr>
          <a:xfrm>
            <a:off x="0" y="1413000"/>
            <a:ext cx="7740720" cy="5184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укай әсәрлә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10" name="Diagram 25"/>
          <p:cNvGrpSpPr/>
          <p:nvPr/>
        </p:nvGrpSpPr>
        <p:grpSpPr>
          <a:xfrm>
            <a:off x="2658960" y="1967040"/>
            <a:ext cx="3753000" cy="3617640"/>
            <a:chOff x="2658960" y="1967040"/>
            <a:chExt cx="3753000" cy="3617640"/>
          </a:xfrm>
        </p:grpSpPr>
        <p:sp>
          <p:nvSpPr>
            <p:cNvPr id="211" name="_s1028"/>
            <p:cNvSpPr/>
            <p:nvPr/>
          </p:nvSpPr>
          <p:spPr>
            <a:xfrm flipH="1" flipV="1">
              <a:off x="3609720" y="3614400"/>
              <a:ext cx="463320" cy="1508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_s1029"/>
            <p:cNvSpPr/>
            <p:nvPr/>
          </p:nvSpPr>
          <p:spPr>
            <a:xfrm>
              <a:off x="2658960" y="2976480"/>
              <a:ext cx="974880" cy="974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Гашыйк сыер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_s1030"/>
            <p:cNvSpPr/>
            <p:nvPr/>
          </p:nvSpPr>
          <p:spPr>
            <a:xfrm flipH="1">
              <a:off x="3963960" y="4308480"/>
              <a:ext cx="285840" cy="3938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31"/>
            <p:cNvSpPr/>
            <p:nvPr/>
          </p:nvSpPr>
          <p:spPr>
            <a:xfrm>
              <a:off x="3189240" y="4610160"/>
              <a:ext cx="974880" cy="9745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Бала белән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күбәләк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2"/>
            <p:cNvSpPr/>
            <p:nvPr/>
          </p:nvSpPr>
          <p:spPr>
            <a:xfrm>
              <a:off x="4821120" y="4308480"/>
              <a:ext cx="285840" cy="3938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3"/>
            <p:cNvSpPr/>
            <p:nvPr/>
          </p:nvSpPr>
          <p:spPr>
            <a:xfrm>
              <a:off x="4906800" y="4610160"/>
              <a:ext cx="974880" cy="9745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Су анасы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4"/>
            <p:cNvSpPr/>
            <p:nvPr/>
          </p:nvSpPr>
          <p:spPr>
            <a:xfrm flipV="1">
              <a:off x="4997520" y="3614400"/>
              <a:ext cx="463320" cy="1508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5"/>
            <p:cNvSpPr/>
            <p:nvPr/>
          </p:nvSpPr>
          <p:spPr>
            <a:xfrm>
              <a:off x="5437080" y="2976480"/>
              <a:ext cx="974880" cy="974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Шүрәле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6"/>
            <p:cNvSpPr/>
            <p:nvPr/>
          </p:nvSpPr>
          <p:spPr>
            <a:xfrm flipV="1">
              <a:off x="4535640" y="2941560"/>
              <a:ext cx="0" cy="487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7"/>
            <p:cNvSpPr/>
            <p:nvPr/>
          </p:nvSpPr>
          <p:spPr>
            <a:xfrm>
              <a:off x="4048200" y="1967040"/>
              <a:ext cx="974520" cy="97452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Кәҗә белән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сарык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8"/>
            <p:cNvSpPr/>
            <p:nvPr/>
          </p:nvSpPr>
          <p:spPr>
            <a:xfrm>
              <a:off x="4048200" y="3429000"/>
              <a:ext cx="974520" cy="974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200" spc="-1" strike="noStrike">
                  <a:solidFill>
                    <a:srgbClr val="2f1311"/>
                  </a:solidFill>
                  <a:latin typeface="Arial"/>
                </a:rPr>
                <a:t>Тукай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кщьщ белән сарык"/>
          <p:cNvPicPr/>
          <p:nvPr/>
        </p:nvPicPr>
        <p:blipFill>
          <a:blip r:embed="rId2"/>
          <a:stretch/>
        </p:blipFill>
        <p:spPr>
          <a:xfrm>
            <a:off x="4572000" y="2060640"/>
            <a:ext cx="3076560" cy="39225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9721800" y="7364520"/>
            <a:ext cx="914400" cy="9144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Бу кайсы әкияттән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Борын- борын заман бер ир белән хатын торга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f1311"/>
                </a:solidFill>
                <a:latin typeface="Arial"/>
              </a:rPr>
              <a:t>Тормышлары шактый гына авыр булган..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7d47d"/>
                </a:solidFill>
                <a:latin typeface="Arial"/>
              </a:rPr>
              <a:t>Йолдызлы сәгать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1.Кечкенә Габдулланың кушаматы нинди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а)Габдерүш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б)Апуш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в)Былтыр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2. Казанда шагыйрь яшәгән кунакханә исемен атагыз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а) “Мираж”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б)”Болгар”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в) “Татарстан”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3. “Шүрәле” балетының авторы кем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а) Ф. Ярулли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б) Н. Җиһан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f1311"/>
                </a:solidFill>
                <a:latin typeface="Arial"/>
              </a:rPr>
              <a:t>в) С. Сәйдәше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5:40:18Z</dcterms:created>
  <dc:creator>User</dc:creator>
  <dc:description/>
  <dc:language>en-US</dc:language>
  <cp:lastModifiedBy>Диляра</cp:lastModifiedBy>
  <dcterms:modified xsi:type="dcterms:W3CDTF">2016-04-26T16:24:49Z</dcterms:modified>
  <cp:revision>10</cp:revision>
  <dc:subject/>
  <dc:title>Слайд 1</dc:title>
</cp:coreProperties>
</file>