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39A-1438-483D-8A61-B3EDF77C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47A-FD39-4481-84C8-5B50D976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FA3-DA07-4374-BED0-545BA92B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33B-0C15-4470-8851-CA16075C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02C-62D2-44C1-A7DB-27303DBC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58C-37F7-4AC7-8248-6EC2B4B1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E5B-F7D5-471F-9FE2-22E1376B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43E-35C5-4F2F-BB3A-7D194F4E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0CB-F833-4FA1-86B6-482567BD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6C2-C208-4B98-A2BB-8182BD99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BEC-30C4-4823-8327-9EE11B21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E23-6742-422D-873C-62F1B47B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0CB1-6704-4959-BC82-8404DF95D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059280" y="177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928960" y="1571760"/>
            <a:ext cx="5786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КОУ Скнаровская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нтемировского муниципальн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ронеж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ект «Вахта памя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зентация  Мамедовой    Маргар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Герои Великой Побед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уководитель учитель истории: Клочк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C:\Users\Администратор\AppData\Local\Microsoft\Windows\Temporary Internet Files\Content.Word\4 001.jpg"/>
          <p:cNvPicPr/>
          <p:nvPr/>
        </p:nvPicPr>
        <p:blipFill>
          <a:blip r:embed="rId2"/>
          <a:stretch/>
        </p:blipFill>
        <p:spPr>
          <a:xfrm>
            <a:off x="6572160" y="1214280"/>
            <a:ext cx="2371680" cy="3000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6929280" y="435780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аул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сков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рхип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500200" y="1714680"/>
            <a:ext cx="4071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одилась 25 октября 1920 года в селе  Скнаровка  Богучарского района Воронежской  области. Окончила 9 классов. Гражданская специальность –агроном. Под Острогожском приняла присягу. В марте 1942 года добровольно ушла на фронт. Пункт сбора- город Богучар. 4-й полк ВНОС (воздушное наблюдение, оповещение, связь). Должность разведчик- наблюдатель  с апреля 1942 по август 1945. 4-й полк входил в состав 7-го корпуса ПВО. По звуку самолета прабабушка определяла марку и направление самолета  и передавала на зенитную батарею (в том же пол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2428920" y="1428840"/>
            <a:ext cx="65721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перации и сражения в которых принимала учас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талинградский фронт (операция «Малый Сатурн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жный фронт (Ростовская область Валеж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-й Украинский фронт (г. Бердичев, белая Церковь, Киев), г. Ль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орпус и полк ушли за границу. Прабабушка  осталась на границе Западной Украины и Польши( там встретила Побед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своено воинское звание: ряд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6" descr="C:\Users\Администратор\AppData\Local\Microsoft\Windows\Temporary Internet Files\Content.Word\3 001.jpg"/>
          <p:cNvPicPr/>
          <p:nvPr/>
        </p:nvPicPr>
        <p:blipFill>
          <a:blip r:embed="rId2"/>
          <a:stretch/>
        </p:blipFill>
        <p:spPr>
          <a:xfrm>
            <a:off x="5143680" y="4286160"/>
            <a:ext cx="3827160" cy="24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4357800" y="114300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грады  Осауленко П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7" descr="C:\Users\Администратор\AppData\Local\Microsoft\Windows\Temporary Internet Files\Content.Word\009.jpg"/>
          <p:cNvPicPr/>
          <p:nvPr/>
        </p:nvPicPr>
        <p:blipFill>
          <a:blip r:embed="rId2"/>
          <a:stretch/>
        </p:blipFill>
        <p:spPr>
          <a:xfrm>
            <a:off x="6143760" y="4357800"/>
            <a:ext cx="2714400" cy="2205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8"/>
          <p:cNvSpPr/>
          <p:nvPr/>
        </p:nvSpPr>
        <p:spPr>
          <a:xfrm>
            <a:off x="2571840" y="1571760"/>
            <a:ext cx="675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дали «За Победу над Германией в Вели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ечественной войне 1941-1945 гг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20 лет Победы  в ВО войне 1941-1945 гг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50 лет Вооруженных сил ССС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40 лет Победы в ВО войне 1941-1945 г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Ветеран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рден «Отечественной войны»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из базы данных сайта «Подвиг наро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:\Users\Администратор\AppData\Local\Microsoft\Windows\Temporary Internet Files\Content.Word\003.jpg"/>
          <p:cNvPicPr/>
          <p:nvPr/>
        </p:nvPicPr>
        <p:blipFill>
          <a:blip r:embed="rId2"/>
          <a:stretch/>
        </p:blipFill>
        <p:spPr>
          <a:xfrm>
            <a:off x="2000160" y="164304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C:\Users\Администратор\AppData\Local\Microsoft\Windows\Temporary Internet Files\Content.Word\006.jpg"/>
          <p:cNvPicPr/>
          <p:nvPr/>
        </p:nvPicPr>
        <p:blipFill>
          <a:blip r:embed="rId3"/>
          <a:stretch/>
        </p:blipFill>
        <p:spPr>
          <a:xfrm>
            <a:off x="4929120" y="3786120"/>
            <a:ext cx="3929040" cy="28576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2"/>
          <p:cNvSpPr/>
          <p:nvPr/>
        </p:nvSpPr>
        <p:spPr>
          <a:xfrm>
            <a:off x="4510080" y="1214280"/>
            <a:ext cx="437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удом  уцелевшие докуме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асков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Архипо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C:\Users\Администратор\AppData\Local\Microsoft\Windows\Temporary Internet Files\Content.Word\007.jpg"/>
          <p:cNvPicPr/>
          <p:nvPr/>
        </p:nvPicPr>
        <p:blipFill>
          <a:blip r:embed="rId2"/>
          <a:stretch/>
        </p:blipFill>
        <p:spPr>
          <a:xfrm>
            <a:off x="2571840" y="2286000"/>
            <a:ext cx="6215040" cy="42861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3786120" y="1285920"/>
            <a:ext cx="507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невник моего прадедуш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сауленко Максима Алексееви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50581346784337.mp3" descr=""/>
          <p:cNvPicPr/>
          <p:nvPr/>
        </p:nvPicPr>
        <p:blipFill>
          <a:blip r:embed="rId3"/>
          <a:stretch/>
        </p:blipFill>
        <p:spPr>
          <a:xfrm>
            <a:off x="528624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C:\Users\Администратор\AppData\Local\Microsoft\Windows\Temporary Internet Files\Content.Word\9 001.jpg"/>
          <p:cNvPicPr/>
          <p:nvPr/>
        </p:nvPicPr>
        <p:blipFill>
          <a:blip r:embed="rId2"/>
          <a:stretch/>
        </p:blipFill>
        <p:spPr>
          <a:xfrm>
            <a:off x="2143080" y="1643040"/>
            <a:ext cx="2928960" cy="2357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2" descr="C:\Users\Администратор\AppData\Local\Microsoft\Windows\Temporary Internet Files\Content.Word\6 001.jpg"/>
          <p:cNvPicPr/>
          <p:nvPr/>
        </p:nvPicPr>
        <p:blipFill>
          <a:blip r:embed="rId3"/>
          <a:stretch/>
        </p:blipFill>
        <p:spPr>
          <a:xfrm>
            <a:off x="4214880" y="3429000"/>
            <a:ext cx="4684680" cy="32004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3"/>
          <p:cNvSpPr/>
          <p:nvPr/>
        </p:nvSpPr>
        <p:spPr>
          <a:xfrm>
            <a:off x="5286240" y="107172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адедушкин аль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оенн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5072040" y="1928880"/>
            <a:ext cx="40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колько лет уж прошло, с той по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к горела земля под ног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ногих нет ветеранов вой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о, мы помним о них, они с 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C:\Users\Администратор\AppData\Local\Microsoft\Windows\Temporary Internet Files\Content.Word\7 001.jpg"/>
          <p:cNvPicPr/>
          <p:nvPr/>
        </p:nvPicPr>
        <p:blipFill>
          <a:blip r:embed="rId2"/>
          <a:stretch/>
        </p:blipFill>
        <p:spPr>
          <a:xfrm>
            <a:off x="5072040" y="1143000"/>
            <a:ext cx="3643200" cy="25718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4429080" y="4500720"/>
            <a:ext cx="142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9" descr="C:\Users\Администратор\AppData\Local\Microsoft\Windows\Temporary Internet Files\Content.Word\001.jpg"/>
          <p:cNvPicPr/>
          <p:nvPr/>
        </p:nvPicPr>
        <p:blipFill>
          <a:blip r:embed="rId3"/>
          <a:stretch/>
        </p:blipFill>
        <p:spPr>
          <a:xfrm>
            <a:off x="4857840" y="3786120"/>
            <a:ext cx="407196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0"/>
          <p:cNvSpPr/>
          <p:nvPr/>
        </p:nvSpPr>
        <p:spPr>
          <a:xfrm>
            <a:off x="2071800" y="2214720"/>
            <a:ext cx="285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, листая альбомы в семь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друг замет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чаянно кто-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таилась война в угол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пожелтевш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 времени фо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C:\Users\Администратор\AppData\Local\Microsoft\Windows\Temporary Internet Files\Content.Word\4 001.jpg"/>
          <p:cNvPicPr/>
          <p:nvPr/>
        </p:nvPicPr>
        <p:blipFill>
          <a:blip r:embed="rId2"/>
          <a:stretch/>
        </p:blipFill>
        <p:spPr>
          <a:xfrm>
            <a:off x="4572000" y="3643200"/>
            <a:ext cx="4357800" cy="3000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7" descr="C:\Users\Администратор\AppData\Local\Microsoft\Windows\Temporary Internet Files\Content.Word\011.jpg"/>
          <p:cNvPicPr/>
          <p:nvPr/>
        </p:nvPicPr>
        <p:blipFill>
          <a:blip r:embed="rId3"/>
          <a:stretch/>
        </p:blipFill>
        <p:spPr>
          <a:xfrm>
            <a:off x="5929200" y="1214280"/>
            <a:ext cx="2357640" cy="2357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8"/>
          <p:cNvSpPr/>
          <p:nvPr/>
        </p:nvSpPr>
        <p:spPr>
          <a:xfrm>
            <a:off x="2071800" y="1857240"/>
            <a:ext cx="3882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  фотографий с улыбкой гляд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е, кто жизни своей не щад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тех далеких, жестоких боя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 фашистов страну защити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0" descr="C:\Users\Администратор\AppData\Local\Microsoft\Windows\Temporary Internet Files\Content.Word\008.jpg"/>
          <p:cNvPicPr/>
          <p:nvPr/>
        </p:nvPicPr>
        <p:blipFill>
          <a:blip r:embed="rId1"/>
          <a:stretch/>
        </p:blipFill>
        <p:spPr>
          <a:xfrm>
            <a:off x="1143000" y="285840"/>
            <a:ext cx="5010120" cy="4886280"/>
          </a:xfrm>
          <a:prstGeom prst="rect">
            <a:avLst/>
          </a:prstGeom>
          <a:ln w="0">
            <a:noFill/>
          </a:ln>
        </p:spPr>
      </p:pic>
      <p:pic>
        <p:nvPicPr>
          <p:cNvPr id="124" name="Содержимое 11" descr="http://www.knorus.ru/upload/news/den%20mira.jpg"/>
          <p:cNvPicPr/>
          <p:nvPr/>
        </p:nvPicPr>
        <p:blipFill>
          <a:blip r:embed="rId2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3" descr="C:\Users\Администратор\AppData\Local\Microsoft\Windows\Temporary Internet Files\Content.Word\008.jpg"/>
          <p:cNvPicPr/>
          <p:nvPr/>
        </p:nvPicPr>
        <p:blipFill>
          <a:blip r:embed="rId3"/>
          <a:stretch/>
        </p:blipFill>
        <p:spPr>
          <a:xfrm>
            <a:off x="285840" y="285840"/>
            <a:ext cx="3286080" cy="36432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4"/>
          <p:cNvSpPr/>
          <p:nvPr/>
        </p:nvSpPr>
        <p:spPr>
          <a:xfrm>
            <a:off x="5143680" y="214200"/>
            <a:ext cx="400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     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Наши меч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Пусть  навек исчезнут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Чтобы дети всей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Дома спать могли спокойно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танцевать и петь мог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Чтобы солнце улыб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В окнах светлых отраж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И сияло над зем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Людям всем  и нам с тоб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4000680" y="1143000"/>
            <a:ext cx="51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исково-исследовательская работа в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2000160" y="1857240"/>
            <a:ext cx="6858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Усилиями энтузиастов- патриотов  открываются для нас все новые и новые имена героев той войны. В школе создано объединение «Патриоты России». В рамках работы данного объединения были проведены исследования по следующим тем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«Забытые герои войн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«Помним героев, сковавших Победу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«Моя семья в годы ВО войны» . Меня заинтересовала последняя. В процессе исследования  мною были найдены многочисленные вещественные и письменные источники, представленные в моей презент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9" descr="H:\Фото 2013\Музей\CIMG6709.JPG"/>
          <p:cNvPicPr/>
          <p:nvPr/>
        </p:nvPicPr>
        <p:blipFill>
          <a:blip r:embed="rId2"/>
          <a:stretch/>
        </p:blipFill>
        <p:spPr>
          <a:xfrm>
            <a:off x="6643800" y="4143240"/>
            <a:ext cx="2071440" cy="25005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H:\Фото 2013\Музей\CIMG6716.JPG"/>
          <p:cNvPicPr/>
          <p:nvPr/>
        </p:nvPicPr>
        <p:blipFill>
          <a:blip r:embed="rId3"/>
          <a:stretch/>
        </p:blipFill>
        <p:spPr>
          <a:xfrm>
            <a:off x="4000680" y="4143240"/>
            <a:ext cx="207144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2643120" y="1571760"/>
            <a:ext cx="6072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ша страна  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чередной  раз будет праздновать день Великой Победы. Проходят годы, уходят из жизни ветераны, но нельзя стереть войну из памяти народа. Народа, который заплатил за Победу такой ценой. Война- это большая беда для любого человека. Так было во все времена. Эта всеобщая беда сплачивала народ в единое цел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http://propowerpoint.ru/wp-content/uploads/2013/03/PomnimMini.jpg"/>
          <p:cNvPicPr/>
          <p:nvPr/>
        </p:nvPicPr>
        <p:blipFill>
          <a:blip r:embed="rId2"/>
          <a:stretch/>
        </p:blipFill>
        <p:spPr>
          <a:xfrm>
            <a:off x="3786120" y="407196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50" name="O_TOJ_VESNE.mp3" descr=""/>
          <p:cNvPicPr/>
          <p:nvPr/>
        </p:nvPicPr>
        <p:blipFill>
          <a:blip r:embed="rId3"/>
          <a:stretch/>
        </p:blipFill>
        <p:spPr>
          <a:xfrm>
            <a:off x="778680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8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4071960" y="100008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 учебно-воспитательном процессе сведения    о героях  использу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573640" y="1785960"/>
            <a:ext cx="595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проведении классных часов , посвящ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еликой Отечественной вой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проведении уроков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роков муж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кскурсиях в школьный 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H:\Фото 2013\Береги Кантемировца\CIMG6478.JPG"/>
          <p:cNvPicPr/>
          <p:nvPr/>
        </p:nvPicPr>
        <p:blipFill>
          <a:blip r:embed="rId2"/>
          <a:stretch/>
        </p:blipFill>
        <p:spPr>
          <a:xfrm>
            <a:off x="4500720" y="4000680"/>
            <a:ext cx="2071440" cy="2643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H:\Старые фото\9Мая 2010г\Изображение 047.jpg"/>
          <p:cNvPicPr/>
          <p:nvPr/>
        </p:nvPicPr>
        <p:blipFill>
          <a:blip r:embed="rId3"/>
          <a:stretch/>
        </p:blipFill>
        <p:spPr>
          <a:xfrm>
            <a:off x="6643800" y="2643120"/>
            <a:ext cx="2334960" cy="1785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8" descr="H:\Фото 2013\Герой-антифашист\CIMG6647.JPG"/>
          <p:cNvPicPr/>
          <p:nvPr/>
        </p:nvPicPr>
        <p:blipFill>
          <a:blip r:embed="rId4"/>
          <a:stretch/>
        </p:blipFill>
        <p:spPr>
          <a:xfrm>
            <a:off x="1857240" y="4071960"/>
            <a:ext cx="250056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3" descr="http://900igr.net/datai/prazdniki/9-maja-Den-Pobedy/0004-003-Mogila-Neizvestnogo-Soldata-v-Moskv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857160" y="1071720"/>
            <a:ext cx="75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eorgia"/>
              </a:rPr>
              <a:t>Вечная Памя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eorgia"/>
              </a:rPr>
              <a:t>И  вечная Слав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eorgia"/>
              </a:rPr>
              <a:t>Героям Велик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eorgia"/>
              </a:rPr>
              <a:t>Отечественной  войн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7" descr="http://cool-pictures.su/_ph/55/2/37449887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071880" y="1785960"/>
            <a:ext cx="50720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юнь. Россия. Воскресен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свет в объятьях тиш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талось хрупкое мгновень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 первых выстрелов войн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https://encrypted-tbn1.gstatic.com/images?q=tbn:ANd9GcTR9n8MqXsW2CJBmQZAJqXFl_oYJvdLgRTx6jhnFEr12QZMhH2LHQ"/>
          <p:cNvPicPr/>
          <p:nvPr/>
        </p:nvPicPr>
        <p:blipFill>
          <a:blip r:embed="rId2"/>
          <a:stretch/>
        </p:blipFill>
        <p:spPr>
          <a:xfrm>
            <a:off x="5143680" y="38577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p:transition advTm="10000">
    <p:cut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2286000" y="2071800"/>
            <a:ext cx="6429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шла война, отгремели орудия, но нельзя забыть настоящих героев своего времени. Людей, которые принимали непосредственное участие  в борьбе против фашистских оккупантов нашей Родины, людей, которые отдали  свою жизнь за счастье , свободу и чистое небо над головой своих потом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2857680" y="228600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ром мужества и храбрости  были для меня мои прадедушка и прабабушка. Они были очень смелые и бесстрашные воины. Воины-герои.  Именно им я хочу посвятить свою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C:\Users\Администратор\AppData\Local\Microsoft\Windows\Temporary Internet Files\Content.Word\2 001.jpg"/>
          <p:cNvPicPr/>
          <p:nvPr/>
        </p:nvPicPr>
        <p:blipFill>
          <a:blip r:embed="rId2"/>
          <a:stretch/>
        </p:blipFill>
        <p:spPr>
          <a:xfrm>
            <a:off x="2571840" y="1643040"/>
            <a:ext cx="1998720" cy="2502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2571840" y="442908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ауленко Максим Алекс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4929120" y="1500120"/>
            <a:ext cx="3857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одился  30 апреля 1923 года в  селе Скнаровка Кантемировского района Воронежской области . Окончил 7 классов   в 1940 году. Основная гражданская специальность –счетовод. Призван на действительную военную службу и направлен в часть 10 июля 194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ходил действительную школу в Воронежской школе младших авиационных специалистов. С июля по сентябрь 1941 года являлся курсантом авиационной школы. По окончанию -механик авиаприб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 сентября 1941 года- 6-й запасной авиационный полк «механик авиаприбо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C:\Users\Администратор\AppData\Local\Microsoft\Windows\Temporary Internet Files\Content.Word\5 001.jpg"/>
          <p:cNvPicPr/>
          <p:nvPr/>
        </p:nvPicPr>
        <p:blipFill>
          <a:blip r:embed="rId2"/>
          <a:stretch/>
        </p:blipFill>
        <p:spPr>
          <a:xfrm>
            <a:off x="5429160" y="1143000"/>
            <a:ext cx="3571920" cy="2714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57280" y="1500120"/>
            <a:ext cx="29289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амбовской области городе  Рассказово  с  сентября 1941  по март 1943   мой прадедушка находилс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435-м  истребительном авиационном пол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марта 1943 по март 1945-го был в 81-м отдельном Свирском авиационном пол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2143080" y="3857760"/>
            <a:ext cx="7000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инимал участие в ожесточенных боях под Тулой, затем в Симферополе (Южный фронт). В 1941 году –Керчь, Зуя, Феодосия. Отступали , в основном, в направлении г. Молотов-Краснодар, затем Тихорецк, Челябинск, Куйбышев, Сталинград, Волгоград, Ярославль. Карельский фронт с 15.10.1943. Стал летать , был пилотом самолета У-2. 3 июня 1944 года получил ранение  в руку, месяц находился в госпитале. Затем работал меха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1945 году находился на Дальневосточном фронте  в г. Липовске (возле Уссурийска). Таким образом, прадедушка  участвовал в ВО войне  с сентября 1941- по май 1945 и в войне с Японией  с августа по сентябрь 1945 года.  Демобилизован- 11.03.1948 г. Домой прибыл  30.03. 194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3857760" y="13572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грады  Осауленко М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2071800" y="2000160"/>
            <a:ext cx="4786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аль «За победу над Германией в Великой Отечественной войне 1941-1945 г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аль «За Победу над Япони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аль «За боевые заслуг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аль «За оборону Советского Заполяр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билейные мед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ден «Октябрьской револю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аль «За Доблестный тру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аль «Ветеран тру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ден «Отечественной войн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из базы данных сайта «Подви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род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8" descr="C:\Users\Администратор\AppData\Local\Microsoft\Windows\Temporary Internet Files\Content.Word\002.jpg"/>
          <p:cNvPicPr/>
          <p:nvPr/>
        </p:nvPicPr>
        <p:blipFill>
          <a:blip r:embed="rId2"/>
          <a:stretch/>
        </p:blipFill>
        <p:spPr>
          <a:xfrm>
            <a:off x="5929200" y="4429080"/>
            <a:ext cx="307188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День Победы. Шаблон для презентац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57280" y="1857240"/>
            <a:ext cx="3357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сле Великой Отечественной войны окончил 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ухгалтеров и  курсы Парт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ботал бригадиром плотницкой бригады в селе Скнаров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тем инструктором райкома партии с/х отд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сле парторгом колхоза имени Стал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ригадиром полеводческой бригады  в Скна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следние 25 лет возглавлял  СТФ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6" descr="C:\Users\Администратор\AppData\Local\Microsoft\Windows\Temporary Internet Files\Content.Word\005.jpg"/>
          <p:cNvPicPr/>
          <p:nvPr/>
        </p:nvPicPr>
        <p:blipFill>
          <a:blip r:embed="rId2"/>
          <a:stretch/>
        </p:blipFill>
        <p:spPr>
          <a:xfrm>
            <a:off x="5643720" y="1143000"/>
            <a:ext cx="3286080" cy="4143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5890320" y="5500800"/>
            <a:ext cx="31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ередов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реди них прадед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низу 1-й с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09:57:09Z</dcterms:created>
  <dc:creator>DNA7 X64</dc:creator>
  <dc:description/>
  <dc:language>en-US</dc:language>
  <cp:lastModifiedBy>Customer</cp:lastModifiedBy>
  <dcterms:modified xsi:type="dcterms:W3CDTF">2016-11-10T21:54:19Z</dcterms:modified>
  <cp:revision>94</cp:revision>
  <dc:subject/>
  <dc:title>Слайд 1</dc:title>
</cp:coreProperties>
</file>