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gif" ContentType="image/gif"/>
  <Override PartName="/ppt/media/image5.gif" ContentType="image/gif"/>
  <Override PartName="/ppt/media/image14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E65A-ED22-4955-AAC8-7B46CE5E3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12CE-F2E1-41F2-AD7A-091D35D74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4B67-7FA9-4CEB-AD1A-0D9762743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5C4F-10BD-4ECE-B814-9F136BFB2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BE295-AD6D-42BD-85BD-3BA9D3568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BC602-DA07-4954-8A96-BEE0FD434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D3732-DC1F-42E2-B70D-361FD1ADE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253EC-1B6E-468A-AC70-940D3E48B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8C7E2-916B-4197-8F4C-37242BD60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A0C8F-CE76-47FE-96AE-982DEC43B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83A22-B3F4-4F1C-AAF3-6D519AD27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DB0B-3CA1-4443-ACCA-445D32732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6D646-001E-47F1-81A5-DB88A6051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AFD6C-431B-4DB6-BE1A-830B0330A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25809-F4C7-470C-A944-300B805A7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25AC8-980E-4E37-8A1F-31FFB0325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D6E62-3AF1-4939-8BA1-91561F11D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18A1B-FE4A-4054-964C-019ED00A4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31925-9267-410E-96AE-A78BF9BA1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3893E-062F-4450-A254-046FA9E24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5B16B-72C0-4FD5-BB3D-6F8E61CBC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202F5-AA00-4D0A-93EC-92376AD2F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766A-FD6C-4CB9-BFE8-8F65E0AEC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56623-B926-4662-B06C-5831D3E57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CE35C-B66C-4291-9320-983A62FAE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DB73D-1943-49F6-A0C8-B2850C33C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F79D2-215B-4CF7-8DB9-7AFB18D2E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7DB33-A6D8-4298-86E9-0FE2B3A4B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72292-A124-45A5-8F05-2C4AB1451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B2FBF-A7D5-4B26-B8A4-955C0CDAC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0E01-7685-4E7B-9A60-B8C9996BB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F78B-EA71-424C-8064-9C794FF12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9AAA-83B8-4E31-9F36-E8117EE55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4E7C-99A0-4853-B5C0-F6F945D7B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9A32-BC8F-4A97-A0A7-EDE8D0653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F133-96B4-45EC-A367-1FFC80008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3B82A-550A-4807-97FC-EAB2DD937571}" type="datetime">
              <a:rPr b="0" lang="ru-RU" sz="1200" spc="-1" strike="noStrike">
                <a:solidFill>
                  <a:srgbClr val="ba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8447B-9E56-4263-A44F-26749F0DF23A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42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pic>
          <p:nvPicPr>
            <p:cNvPr id="43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4F42B-71BA-4A86-91CC-350C2BEA5BC8}" type="datetime"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D6D6F-83DF-48EC-AAFC-93F369CAEF25}" type="slidenum"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5CDCE-B4A5-44A7-A2A8-F24338F0B362}" type="datetime"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3DFA3-C24F-4F59-A82D-4C1F3337617E}" type="slidenum"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H:\Documents and Settings\Aida\Рабочий стол\НОвая ГРАФИКА сборник\КАРТИНКИ СБОРНИК_ школьные\__Flo11.gif"/>
          <p:cNvPicPr/>
          <p:nvPr/>
        </p:nvPicPr>
        <p:blipFill>
          <a:blip r:embed="rId2"/>
          <a:stretch/>
        </p:blipFill>
        <p:spPr>
          <a:xfrm>
            <a:off x="7215120" y="4286160"/>
            <a:ext cx="857160" cy="11192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85880" y="1642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Индивидуальные занятия  у логопеда</a:t>
            </a: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643040" y="37148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1f497d"/>
                </a:solidFill>
                <a:latin typeface="Arial"/>
              </a:rPr>
              <a:t>Подготовила логопед:       Бекетова Ольга Борисовна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pic>
        <p:nvPicPr>
          <p:cNvPr id="130" name="Picture 3" descr="H:\Documents and Settings\Aida\Рабочий стол\НОвая ГРАФИКА сборник\КАРТИНКИ СБОРНИК_ школьные\flow58.gif"/>
          <p:cNvPicPr/>
          <p:nvPr/>
        </p:nvPicPr>
        <p:blipFill>
          <a:blip r:embed="rId3"/>
          <a:stretch/>
        </p:blipFill>
        <p:spPr>
          <a:xfrm>
            <a:off x="3929040" y="5500800"/>
            <a:ext cx="1023840" cy="10238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H:\Documents and Settings\Aida\Рабочий стол\НОвая ГРАФИКА сборник\КАРТИНКИ СБОРНИК_ школьные\flow58.gif"/>
          <p:cNvPicPr/>
          <p:nvPr/>
        </p:nvPicPr>
        <p:blipFill>
          <a:blip r:embed="rId4"/>
          <a:stretch/>
        </p:blipFill>
        <p:spPr>
          <a:xfrm>
            <a:off x="7072200" y="42876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H:\Documents and Settings\Aida\Рабочий стол\НОвая ГРАФИКА сборник\КАРТИНКИ СБОРНИК_ школьные\flow58.gif"/>
          <p:cNvPicPr/>
          <p:nvPr/>
        </p:nvPicPr>
        <p:blipFill>
          <a:blip r:embed="rId5"/>
          <a:stretch/>
        </p:blipFill>
        <p:spPr>
          <a:xfrm>
            <a:off x="7786800" y="5429160"/>
            <a:ext cx="690480" cy="6904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H:\Documents and Settings\Aida\Рабочий стол\НОвая ГРАФИКА сборник\КАРТИНКИ СБОРНИК_ школьные\flow58.gif"/>
          <p:cNvPicPr/>
          <p:nvPr/>
        </p:nvPicPr>
        <p:blipFill>
          <a:blip r:embed="rId6"/>
          <a:stretch/>
        </p:blipFill>
        <p:spPr>
          <a:xfrm>
            <a:off x="4357800" y="0"/>
            <a:ext cx="69048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Calibri"/>
              </a:rPr>
              <a:t>9.Итог занятия.</a:t>
            </a:r>
            <a:br>
              <a:rPr sz="4000"/>
            </a:br>
            <a:r>
              <a:rPr b="0" lang="ru-RU" sz="4000" spc="-1" strike="noStrike">
                <a:solidFill>
                  <a:srgbClr val="990000"/>
                </a:solidFill>
                <a:latin typeface="Calibri"/>
              </a:rPr>
              <a:t>10.Оценка</a:t>
            </a:r>
            <a:endParaRPr b="0" lang="en-US" sz="4000" spc="-1" strike="noStrike">
              <a:solidFill>
                <a:srgbClr val="990000"/>
              </a:solidFill>
              <a:latin typeface="Calibri"/>
            </a:endParaRPr>
          </a:p>
        </p:txBody>
      </p:sp>
      <p:pic>
        <p:nvPicPr>
          <p:cNvPr id="167" name="Picture 7" descr="DSC00503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9" descr="DSC00522"/>
          <p:cNvPicPr/>
          <p:nvPr/>
        </p:nvPicPr>
        <p:blipFill>
          <a:blip r:embed="rId2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990000"/>
                </a:solidFill>
                <a:uFillTx/>
                <a:latin typeface="Arial"/>
              </a:rPr>
              <a:t>Этапы занятия</a:t>
            </a: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35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3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397D7-908C-4DD2-8EFA-1B312F4D9119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0000"/>
              </a:solidFill>
              <a:latin typeface="Arial"/>
            </a:endParaRPr>
          </a:p>
        </p:txBody>
      </p:sp>
      <p:grpSp>
        <p:nvGrpSpPr>
          <p:cNvPr id="137" name="Diagram 8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38" name="Rectangle 23"/>
          <p:cNvSpPr/>
          <p:nvPr/>
        </p:nvSpPr>
        <p:spPr>
          <a:xfrm>
            <a:off x="416052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39" name="Rectangle 24"/>
          <p:cNvSpPr/>
          <p:nvPr/>
        </p:nvSpPr>
        <p:spPr>
          <a:xfrm>
            <a:off x="2843280" y="1700280"/>
            <a:ext cx="417672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1.Орг. момент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2. Подготовительная часть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3.Основная часть</a:t>
            </a: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Calibri"/>
              </a:rPr>
              <a:t>Подготовительная часть</a:t>
            </a:r>
            <a:br>
              <a:rPr sz="4000"/>
            </a:br>
            <a:r>
              <a:rPr b="0" lang="ru-RU" sz="3600" spc="-1" strike="noStrike">
                <a:solidFill>
                  <a:srgbClr val="0000ff"/>
                </a:solidFill>
                <a:latin typeface="Calibri"/>
              </a:rPr>
              <a:t>Артикуляционная гимнастика</a:t>
            </a:r>
            <a:endParaRPr b="0" lang="en-US" sz="3600" spc="-1" strike="noStrike">
              <a:solidFill>
                <a:srgbClr val="990000"/>
              </a:solidFill>
              <a:latin typeface="Calibri"/>
            </a:endParaRPr>
          </a:p>
        </p:txBody>
      </p:sp>
      <p:pic>
        <p:nvPicPr>
          <p:cNvPr id="141" name="Picture 8" descr="DSC00520"/>
          <p:cNvPicPr/>
          <p:nvPr/>
        </p:nvPicPr>
        <p:blipFill>
          <a:blip r:embed="rId1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2" descr="DSC00504"/>
          <p:cNvPicPr/>
          <p:nvPr/>
        </p:nvPicPr>
        <p:blipFill>
          <a:blip r:embed="rId2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4" descr="DSC00519"/>
          <p:cNvPicPr/>
          <p:nvPr/>
        </p:nvPicPr>
        <p:blipFill>
          <a:blip r:embed="rId3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5" descr="DSC00502"/>
          <p:cNvPicPr/>
          <p:nvPr/>
        </p:nvPicPr>
        <p:blipFill>
          <a:blip r:embed="rId4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Calibri"/>
              </a:rPr>
              <a:t>Основная часть</a:t>
            </a: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Calibri"/>
              </a:rPr>
              <a:t>1.Объявление темы. 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Calibri"/>
              </a:rPr>
              <a:t>Анализ артикуляции звука.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pic>
        <p:nvPicPr>
          <p:cNvPr id="147" name="Picture 23" descr="DSC00535"/>
          <p:cNvPicPr/>
          <p:nvPr/>
        </p:nvPicPr>
        <p:blipFill>
          <a:blip r:embed="rId1"/>
          <a:stretch/>
        </p:blipFill>
        <p:spPr>
          <a:xfrm>
            <a:off x="497052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Calibri"/>
              </a:rPr>
              <a:t>Основная часть</a:t>
            </a: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Calibri"/>
              </a:rPr>
              <a:t>2.Характеристика звука.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Calibri"/>
              </a:rPr>
              <a:t>3.Постановка звука.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Calibri"/>
              </a:rPr>
              <a:t>4.Закрепление звука в изолированном виде</a:t>
            </a:r>
            <a:r>
              <a:rPr b="0" lang="ru-RU" sz="2800" spc="-1" strike="noStrike">
                <a:solidFill>
                  <a:srgbClr val="99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99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Calibri"/>
            </a:endParaRPr>
          </a:p>
        </p:txBody>
      </p:sp>
      <p:pic>
        <p:nvPicPr>
          <p:cNvPr id="150" name="Picture 6" descr="DSC00534"/>
          <p:cNvPicPr/>
          <p:nvPr/>
        </p:nvPicPr>
        <p:blipFill>
          <a:blip r:embed="rId1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DSC00503"/>
          <p:cNvPicPr/>
          <p:nvPr/>
        </p:nvPicPr>
        <p:blipFill>
          <a:blip r:embed="rId2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Calibri"/>
              </a:rPr>
              <a:t>Физкультминутка</a:t>
            </a: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pic>
        <p:nvPicPr>
          <p:cNvPr id="153" name="Picture 6" descr="DSC00507"/>
          <p:cNvPicPr/>
          <p:nvPr/>
        </p:nvPicPr>
        <p:blipFill>
          <a:blip r:embed="rId1"/>
          <a:stretch/>
        </p:blipFill>
        <p:spPr>
          <a:xfrm>
            <a:off x="468360" y="234936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DSC00524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Calibri"/>
              </a:rPr>
              <a:t>Массаж рук</a:t>
            </a: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pic>
        <p:nvPicPr>
          <p:cNvPr id="156" name="Picture 8" descr="DSC00496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DSC00499"/>
          <p:cNvPicPr/>
          <p:nvPr/>
        </p:nvPicPr>
        <p:blipFill>
          <a:blip r:embed="rId2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5" descr="DSC00514"/>
          <p:cNvPicPr/>
          <p:nvPr/>
        </p:nvPicPr>
        <p:blipFill>
          <a:blip r:embed="rId3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7" descr="DSC00542"/>
          <p:cNvPicPr/>
          <p:nvPr/>
        </p:nvPicPr>
        <p:blipFill>
          <a:blip r:embed="rId4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Calibri"/>
              </a:rPr>
              <a:t>6.Развитие фонематического слуха</a:t>
            </a:r>
            <a:endParaRPr b="0" lang="en-US" sz="4000" spc="-1" strike="noStrike">
              <a:solidFill>
                <a:srgbClr val="990000"/>
              </a:solidFill>
              <a:latin typeface="Calibri"/>
            </a:endParaRPr>
          </a:p>
        </p:txBody>
      </p:sp>
      <p:pic>
        <p:nvPicPr>
          <p:cNvPr id="161" name="Picture 7" descr="DSC00525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9" descr="DSC00526"/>
          <p:cNvPicPr/>
          <p:nvPr/>
        </p:nvPicPr>
        <p:blipFill>
          <a:blip r:embed="rId2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Calibri"/>
              </a:rPr>
              <a:t>7.Связь звука с буквой.</a:t>
            </a:r>
            <a:br>
              <a:rPr sz="4000"/>
            </a:br>
            <a:r>
              <a:rPr b="0" lang="ru-RU" sz="4000" spc="-1" strike="noStrike">
                <a:solidFill>
                  <a:srgbClr val="990000"/>
                </a:solidFill>
                <a:latin typeface="Calibri"/>
              </a:rPr>
              <a:t>8.Домашнее задание.</a:t>
            </a:r>
            <a:endParaRPr b="0" lang="en-US" sz="4000" spc="-1" strike="noStrike">
              <a:solidFill>
                <a:srgbClr val="990000"/>
              </a:solidFill>
              <a:latin typeface="Calibri"/>
            </a:endParaRPr>
          </a:p>
        </p:txBody>
      </p:sp>
      <p:pic>
        <p:nvPicPr>
          <p:cNvPr id="164" name="Picture 9" descr="DSC00505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1" descr="DSC00537"/>
          <p:cNvPicPr/>
          <p:nvPr/>
        </p:nvPicPr>
        <p:blipFill>
          <a:blip r:embed="rId2"/>
          <a:stretch/>
        </p:blipFill>
        <p:spPr>
          <a:xfrm>
            <a:off x="77940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5T17:56:44Z</dcterms:created>
  <dc:creator>user</dc:creator>
  <dc:description>http://aida.ucoz.ru</dc:description>
  <dc:language>en-US</dc:language>
  <cp:lastModifiedBy>ADM</cp:lastModifiedBy>
  <dcterms:modified xsi:type="dcterms:W3CDTF">2016-11-29T17:43:26Z</dcterms:modified>
  <cp:revision>4</cp:revision>
  <dc:subject/>
  <dc:title>Индивидуальные занятия  у логопеда</dc:title>
</cp:coreProperties>
</file>