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962-0985-4E93-A7BC-B21E03D5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A5C-9F56-4B6A-A32D-E1B14600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2A295-01C3-48F0-A793-832A95BA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9AB02-D812-407A-9945-CF7A6066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B5DCB-CA10-4834-98E2-6349474B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D38B3-060E-4D34-A181-B3F71E38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59B2F-629A-43E5-90D5-FE92F782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6B496-101B-458B-93D8-7D87A0F6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FB05B-7392-4FB9-8382-6989E33F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30AC8-788D-4788-A191-76C4D381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70D64-C01A-4D13-90CD-2B57497D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DCC-B4E6-495F-B127-7F9AB510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73F-4E74-48D5-88FC-C919BABF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C1A1-D543-4EB5-A8C6-0C7C1644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59EB-945E-48BB-84A3-FEB3CEAC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BCF7-CBF7-4D58-9134-79C89206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45E8-B077-4313-A59A-6548D174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D9EF-A449-49B6-A60A-D4CB300F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9D85-3B79-4841-8F72-8D05B236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9473-7D82-4A93-AE7A-E8E9D257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E2F-83BB-4F7D-AC93-67DCD25F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0E97-552A-44C0-8C69-2EA41BAD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56C1-76AE-47B1-9A9A-BE52596A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E6FD-99CE-4418-81D2-5DA0BA11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8C40-0614-4EFA-853C-4E4A9D3E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97D8-9BE2-4AB7-9C3D-148CEFBE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09737-0348-4D43-97BC-DCA57425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48CFF-FDF3-4DFB-89BA-A5408AA1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7ED9A-610E-4338-B6EC-2F3CCFF9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0F94-4CE1-4120-BCA0-C8434A8A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80F89-F1F9-421B-8844-4BE70AA2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EFB-AF26-4B06-BC7C-0927BD7B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BE022-A458-42BB-B9B9-475EDF35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1EB60-43B5-47F0-8409-9CCBFBCA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06F5A-F223-46A0-9F8E-FF143F50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E0F6E-8B1A-47EE-9DE1-71776511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90EB0-CCED-41E5-A62E-F3B4F6BE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B25E9-9EA4-47F4-B527-BF23A8B5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01ECD-403D-4744-B152-B549C927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49B9B-0377-43D1-9EA4-F424700B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1D759-7486-4E23-888C-91415A13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99501-1E0A-4894-944A-94D01552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D7B-466E-444C-B518-FC91CC28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0F4D5-9A6E-4069-A885-7AD52AF6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4956F-CD93-4007-8A40-E27DDFB7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EC622-AB8C-442B-A2D4-8CC67954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971E8-F9B5-44F4-B0AD-7B522C18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B9187-EF8B-4878-8BBE-1CD60DA3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CE9C4-204E-4D5A-8B0A-BE0C8E38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B8167-E270-418D-BDC6-9768B156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A7A35-18A1-4854-A304-8B804D44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CF76B-0995-43DA-86C4-73667216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6085A-F5A5-4B2C-B168-3D3778BA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E89-D9CF-4C10-89EC-A4CCBABC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787D1-C565-47D2-A484-8F5B3F84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3F9E1-D04A-4792-8A3E-540E2AC7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8A780-C6E6-4B2E-98D8-9CB1E02F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45997-157D-4D95-8C45-03A9A0B8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BF9F2-131A-44F2-92C6-D4D0F2C0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75048-100C-430B-A54F-F7B32311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8FE06-97C7-440F-9EE6-0BBC0698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E97AC-5F22-4116-9FA5-5F4C6C53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387C1-A577-48E6-A4F6-D49D176F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B404A-435D-46CE-BB1C-BE7AEBAC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883-739E-4DB9-9DA0-FF8918B5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1CFF9-EA6A-4EEA-88A7-4DCB3491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31F5D-EEA8-4F21-BAE5-99E1AAFA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D29C3-AF36-41A6-BB0B-5435811F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355B6-6075-446C-B5AF-4648CE66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0F538-E27C-4C69-A285-3BACD49E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A3A30-D96C-4D41-8A78-5AD9FF6C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917D1-E17C-412D-B8A2-06A58BEE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D573B-B68D-424F-88F3-56DFB372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00E08-EB11-4533-898D-9D7225CA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FAC5C-1B5E-4EFF-ABE8-0221E476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343-0368-40D6-8C01-6E19D7FE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0AF37-888A-4D31-927B-1991AEB2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5A91A-3EE9-4485-B450-33D6C62D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58BE1-BDB1-4E5C-9024-0A3E320B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ED42B-374A-4C48-BBBB-82E3EA30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71ABF-AF6F-4E4E-B906-DD5B39C6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CDE79-0F80-4830-B1E8-C6EEE105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4D575-30FA-493D-BD6B-50573077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71848-9CD0-4621-A1AF-C5C05143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E280F-AC18-41FE-ABF7-39498EBC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80B1E-3062-4CD9-A655-DAD3EC8D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D4C-FAD1-4299-8382-36BB9623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4AFAD-F694-4E92-B1AD-E3E28250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6E2F4-E534-4FA5-97EB-E720AAFD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DA555-F36A-40DF-87C6-4A9E94C8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794BC-DC13-4BC7-AB72-999A59C3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B7929-496E-4D81-A1A8-2CCBFCD9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4B03F-C45E-41CC-B997-203A840F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D0F88-2F3D-4028-95D5-F86D0AFA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73635-516A-494D-BEF1-7225A916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A34F9-E705-44BA-A25F-C74CFD5E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3C68D-A699-48FA-A5C2-4DB089C2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ED8-0C2B-431E-BD5A-5F748B46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4CC31-0268-438F-B0AC-7F89A05F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59AFB-0AEF-4FBA-986D-F3FB10F5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1DD44-5C4E-4810-97A7-746B4010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A096A-20A7-4590-8086-76B059A6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5C217-8ACA-45DE-B63D-0C59B1B1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9987E-C1B4-47E6-83C7-C8925532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B482F-EF16-49E9-852D-C9B53860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0043B-8679-40DF-B192-223B44BD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28F5D-D9B3-4EF5-A111-5E949A21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3E5BE-B2F5-41FB-8F65-DED5CAD2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8312-C01B-4AA6-B8BB-B94A2F722E8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0D5D-B98F-4958-A9D4-0A84B6720F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56F0-7539-4DC9-8050-5AA6FE5642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4A63-DADE-48D4-99A0-98EB0103741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E07E-7604-4273-BB9F-D3F643A110B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E305-9061-4C53-BE90-C8749A3974C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3A19-4E0F-47A8-855B-C2446EC4C09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FA19-F27B-4586-A2EF-E55DA5736A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9767-070F-4AD0-A72D-F27AC9B8D85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6.xml"/><Relationship Id="rId7" Type="http://schemas.openxmlformats.org/officeDocument/2006/relationships/image" Target="../media/image10.png"/><Relationship Id="rId8" Type="http://schemas.openxmlformats.org/officeDocument/2006/relationships/slide" Target="slide7.xml"/><Relationship Id="rId9" Type="http://schemas.openxmlformats.org/officeDocument/2006/relationships/image" Target="../media/image11.png"/><Relationship Id="rId10" Type="http://schemas.openxmlformats.org/officeDocument/2006/relationships/slide" Target="slide8.xml"/><Relationship Id="rId11" Type="http://schemas.openxmlformats.org/officeDocument/2006/relationships/image" Target="../media/image12.png"/><Relationship Id="rId12" Type="http://schemas.openxmlformats.org/officeDocument/2006/relationships/slide" Target="slide11.xml"/><Relationship Id="rId13" Type="http://schemas.openxmlformats.org/officeDocument/2006/relationships/image" Target="../media/image13.png"/><Relationship Id="rId14" Type="http://schemas.openxmlformats.org/officeDocument/2006/relationships/slide" Target="slide9.xml"/><Relationship Id="rId15" Type="http://schemas.openxmlformats.org/officeDocument/2006/relationships/image" Target="../media/image14.png"/><Relationship Id="rId16" Type="http://schemas.openxmlformats.org/officeDocument/2006/relationships/slide" Target="slide10.xml"/><Relationship Id="rId17" Type="http://schemas.openxmlformats.org/officeDocument/2006/relationships/image" Target="../media/image15.jpeg"/><Relationship Id="rId18" Type="http://schemas.openxmlformats.org/officeDocument/2006/relationships/slide" Target="slide12.xml"/><Relationship Id="rId19" Type="http://schemas.openxmlformats.org/officeDocument/2006/relationships/image" Target="../media/image16.jpeg"/><Relationship Id="rId20" Type="http://schemas.openxmlformats.org/officeDocument/2006/relationships/slide" Target="slide13.xml"/><Relationship Id="rId21" Type="http://schemas.openxmlformats.org/officeDocument/2006/relationships/image" Target="../media/image17.png"/><Relationship Id="rId2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6.xml"/><Relationship Id="rId7" Type="http://schemas.openxmlformats.org/officeDocument/2006/relationships/image" Target="../media/image10.png"/><Relationship Id="rId8" Type="http://schemas.openxmlformats.org/officeDocument/2006/relationships/slide" Target="slide7.xml"/><Relationship Id="rId9" Type="http://schemas.openxmlformats.org/officeDocument/2006/relationships/image" Target="../media/image11.png"/><Relationship Id="rId10" Type="http://schemas.openxmlformats.org/officeDocument/2006/relationships/slide" Target="slide8.xml"/><Relationship Id="rId11" Type="http://schemas.openxmlformats.org/officeDocument/2006/relationships/image" Target="../media/image12.png"/><Relationship Id="rId12" Type="http://schemas.openxmlformats.org/officeDocument/2006/relationships/slide" Target="slide11.xml"/><Relationship Id="rId13" Type="http://schemas.openxmlformats.org/officeDocument/2006/relationships/image" Target="../media/image13.png"/><Relationship Id="rId14" Type="http://schemas.openxmlformats.org/officeDocument/2006/relationships/slide" Target="slide9.xml"/><Relationship Id="rId15" Type="http://schemas.openxmlformats.org/officeDocument/2006/relationships/image" Target="../media/image14.png"/><Relationship Id="rId16" Type="http://schemas.openxmlformats.org/officeDocument/2006/relationships/slide" Target="slide10.xml"/><Relationship Id="rId17" Type="http://schemas.openxmlformats.org/officeDocument/2006/relationships/image" Target="../media/image15.jpeg"/><Relationship Id="rId18" Type="http://schemas.openxmlformats.org/officeDocument/2006/relationships/slide" Target="slide12.xml"/><Relationship Id="rId19" Type="http://schemas.openxmlformats.org/officeDocument/2006/relationships/image" Target="../media/image16.jpeg"/><Relationship Id="rId20" Type="http://schemas.openxmlformats.org/officeDocument/2006/relationships/slide" Target="slide13.xml"/><Relationship Id="rId21" Type="http://schemas.openxmlformats.org/officeDocument/2006/relationships/image" Target="../media/image17.png"/><Relationship Id="rId2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6.xml"/><Relationship Id="rId7" Type="http://schemas.openxmlformats.org/officeDocument/2006/relationships/image" Target="../media/image10.png"/><Relationship Id="rId8" Type="http://schemas.openxmlformats.org/officeDocument/2006/relationships/slide" Target="slide7.xml"/><Relationship Id="rId9" Type="http://schemas.openxmlformats.org/officeDocument/2006/relationships/image" Target="../media/image11.png"/><Relationship Id="rId10" Type="http://schemas.openxmlformats.org/officeDocument/2006/relationships/slide" Target="slide8.xml"/><Relationship Id="rId11" Type="http://schemas.openxmlformats.org/officeDocument/2006/relationships/image" Target="../media/image12.png"/><Relationship Id="rId12" Type="http://schemas.openxmlformats.org/officeDocument/2006/relationships/slide" Target="slide11.xml"/><Relationship Id="rId13" Type="http://schemas.openxmlformats.org/officeDocument/2006/relationships/image" Target="../media/image13.png"/><Relationship Id="rId14" Type="http://schemas.openxmlformats.org/officeDocument/2006/relationships/slide" Target="slide9.xml"/><Relationship Id="rId15" Type="http://schemas.openxmlformats.org/officeDocument/2006/relationships/image" Target="../media/image14.png"/><Relationship Id="rId16" Type="http://schemas.openxmlformats.org/officeDocument/2006/relationships/slide" Target="slide10.xml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6.xml"/><Relationship Id="rId7" Type="http://schemas.openxmlformats.org/officeDocument/2006/relationships/image" Target="../media/image10.png"/><Relationship Id="rId8" Type="http://schemas.openxmlformats.org/officeDocument/2006/relationships/slide" Target="slide7.xml"/><Relationship Id="rId9" Type="http://schemas.openxmlformats.org/officeDocument/2006/relationships/image" Target="../media/image11.png"/><Relationship Id="rId10" Type="http://schemas.openxmlformats.org/officeDocument/2006/relationships/slide" Target="slide8.xml"/><Relationship Id="rId11" Type="http://schemas.openxmlformats.org/officeDocument/2006/relationships/image" Target="../media/image12.png"/><Relationship Id="rId12" Type="http://schemas.openxmlformats.org/officeDocument/2006/relationships/slide" Target="slide11.xml"/><Relationship Id="rId13" Type="http://schemas.openxmlformats.org/officeDocument/2006/relationships/image" Target="../media/image13.png"/><Relationship Id="rId14" Type="http://schemas.openxmlformats.org/officeDocument/2006/relationships/slide" Target="slide9.xml"/><Relationship Id="rId15" Type="http://schemas.openxmlformats.org/officeDocument/2006/relationships/image" Target="../media/image14.png"/><Relationship Id="rId16" Type="http://schemas.openxmlformats.org/officeDocument/2006/relationships/slide" Target="slide10.xml"/><Relationship Id="rId17" Type="http://schemas.openxmlformats.org/officeDocument/2006/relationships/image" Target="../media/image15.jpeg"/><Relationship Id="rId18" Type="http://schemas.openxmlformats.org/officeDocument/2006/relationships/slide" Target="slide12.xml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6.xml"/><Relationship Id="rId7" Type="http://schemas.openxmlformats.org/officeDocument/2006/relationships/image" Target="../media/image10.png"/><Relationship Id="rId8" Type="http://schemas.openxmlformats.org/officeDocument/2006/relationships/slide" Target="slide7.xml"/><Relationship Id="rId9" Type="http://schemas.openxmlformats.org/officeDocument/2006/relationships/image" Target="../media/image11.png"/><Relationship Id="rId10" Type="http://schemas.openxmlformats.org/officeDocument/2006/relationships/slide" Target="slide8.xml"/><Relationship Id="rId11" Type="http://schemas.openxmlformats.org/officeDocument/2006/relationships/image" Target="../media/image12.png"/><Relationship Id="rId12" Type="http://schemas.openxmlformats.org/officeDocument/2006/relationships/slide" Target="slide11.xml"/><Relationship Id="rId13" Type="http://schemas.openxmlformats.org/officeDocument/2006/relationships/image" Target="../media/image13.png"/><Relationship Id="rId14" Type="http://schemas.openxmlformats.org/officeDocument/2006/relationships/slide" Target="slide9.xml"/><Relationship Id="rId15" Type="http://schemas.openxmlformats.org/officeDocument/2006/relationships/image" Target="../media/image14.png"/><Relationship Id="rId16" Type="http://schemas.openxmlformats.org/officeDocument/2006/relationships/slide" Target="slide10.xml"/><Relationship Id="rId17" Type="http://schemas.openxmlformats.org/officeDocument/2006/relationships/image" Target="../media/image15.jpeg"/><Relationship Id="rId18" Type="http://schemas.openxmlformats.org/officeDocument/2006/relationships/slide" Target="slide12.xml"/><Relationship Id="rId19" Type="http://schemas.openxmlformats.org/officeDocument/2006/relationships/image" Target="../media/image16.jpeg"/><Relationship Id="rId20" Type="http://schemas.openxmlformats.org/officeDocument/2006/relationships/slide" Target="slide13.xml"/><Relationship Id="rId21" Type="http://schemas.openxmlformats.org/officeDocument/2006/relationships/image" Target="../media/image17.png"/><Relationship Id="rId22" Type="http://schemas.openxmlformats.org/officeDocument/2006/relationships/slide" Target="slide13.xml"/><Relationship Id="rId23" Type="http://schemas.openxmlformats.org/officeDocument/2006/relationships/image" Target="../media/image17.png"/><Relationship Id="rId2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6.xml"/><Relationship Id="rId7" Type="http://schemas.openxmlformats.org/officeDocument/2006/relationships/image" Target="../media/image10.png"/><Relationship Id="rId8" Type="http://schemas.openxmlformats.org/officeDocument/2006/relationships/slide" Target="slide7.xml"/><Relationship Id="rId9" Type="http://schemas.openxmlformats.org/officeDocument/2006/relationships/image" Target="../media/image11.png"/><Relationship Id="rId10" Type="http://schemas.openxmlformats.org/officeDocument/2006/relationships/slide" Target="slide8.xml"/><Relationship Id="rId11" Type="http://schemas.openxmlformats.org/officeDocument/2006/relationships/image" Target="../media/image12.png"/><Relationship Id="rId12" Type="http://schemas.openxmlformats.org/officeDocument/2006/relationships/slide" Target="slide11.xml"/><Relationship Id="rId13" Type="http://schemas.openxmlformats.org/officeDocument/2006/relationships/image" Target="../media/image13.png"/><Relationship Id="rId14" Type="http://schemas.openxmlformats.org/officeDocument/2006/relationships/slide" Target="slide9.xml"/><Relationship Id="rId15" Type="http://schemas.openxmlformats.org/officeDocument/2006/relationships/image" Target="../media/image14.png"/><Relationship Id="rId16" Type="http://schemas.openxmlformats.org/officeDocument/2006/relationships/slide" Target="slide10.xml"/><Relationship Id="rId17" Type="http://schemas.openxmlformats.org/officeDocument/2006/relationships/image" Target="../media/image15.jpeg"/><Relationship Id="rId18" Type="http://schemas.openxmlformats.org/officeDocument/2006/relationships/slide" Target="slide12.xml"/><Relationship Id="rId19" Type="http://schemas.openxmlformats.org/officeDocument/2006/relationships/image" Target="../media/image16.jpeg"/><Relationship Id="rId20" Type="http://schemas.openxmlformats.org/officeDocument/2006/relationships/slide" Target="slide13.xml"/><Relationship Id="rId21" Type="http://schemas.openxmlformats.org/officeDocument/2006/relationships/image" Target="../media/image17.png"/><Relationship Id="rId2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6.xml"/><Relationship Id="rId7" Type="http://schemas.openxmlformats.org/officeDocument/2006/relationships/image" Target="../media/image10.png"/><Relationship Id="rId8" Type="http://schemas.openxmlformats.org/officeDocument/2006/relationships/slide" Target="slide7.xml"/><Relationship Id="rId9" Type="http://schemas.openxmlformats.org/officeDocument/2006/relationships/image" Target="../media/image11.png"/><Relationship Id="rId10" Type="http://schemas.openxmlformats.org/officeDocument/2006/relationships/slide" Target="slide8.xml"/><Relationship Id="rId11" Type="http://schemas.openxmlformats.org/officeDocument/2006/relationships/image" Target="../media/image12.png"/><Relationship Id="rId12" Type="http://schemas.openxmlformats.org/officeDocument/2006/relationships/slide" Target="slide11.xml"/><Relationship Id="rId13" Type="http://schemas.openxmlformats.org/officeDocument/2006/relationships/image" Target="../media/image13.png"/><Relationship Id="rId14" Type="http://schemas.openxmlformats.org/officeDocument/2006/relationships/slide" Target="slide9.xml"/><Relationship Id="rId15" Type="http://schemas.openxmlformats.org/officeDocument/2006/relationships/image" Target="../media/image14.png"/><Relationship Id="rId16" Type="http://schemas.openxmlformats.org/officeDocument/2006/relationships/slide" Target="slide10.xml"/><Relationship Id="rId17" Type="http://schemas.openxmlformats.org/officeDocument/2006/relationships/image" Target="../media/image15.jpeg"/><Relationship Id="rId18" Type="http://schemas.openxmlformats.org/officeDocument/2006/relationships/slide" Target="slide12.xml"/><Relationship Id="rId19" Type="http://schemas.openxmlformats.org/officeDocument/2006/relationships/image" Target="../media/image16.jpeg"/><Relationship Id="rId20" Type="http://schemas.openxmlformats.org/officeDocument/2006/relationships/slide" Target="slide13.xml"/><Relationship Id="rId21" Type="http://schemas.openxmlformats.org/officeDocument/2006/relationships/image" Target="../media/image17.png"/><Relationship Id="rId2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6.xml"/><Relationship Id="rId7" Type="http://schemas.openxmlformats.org/officeDocument/2006/relationships/image" Target="../media/image10.png"/><Relationship Id="rId8" Type="http://schemas.openxmlformats.org/officeDocument/2006/relationships/slide" Target="slide7.xml"/><Relationship Id="rId9" Type="http://schemas.openxmlformats.org/officeDocument/2006/relationships/image" Target="../media/image11.png"/><Relationship Id="rId10" Type="http://schemas.openxmlformats.org/officeDocument/2006/relationships/slide" Target="slide8.xml"/><Relationship Id="rId11" Type="http://schemas.openxmlformats.org/officeDocument/2006/relationships/image" Target="../media/image12.png"/><Relationship Id="rId12" Type="http://schemas.openxmlformats.org/officeDocument/2006/relationships/slide" Target="slide11.xml"/><Relationship Id="rId13" Type="http://schemas.openxmlformats.org/officeDocument/2006/relationships/image" Target="../media/image13.png"/><Relationship Id="rId14" Type="http://schemas.openxmlformats.org/officeDocument/2006/relationships/slide" Target="slide9.xml"/><Relationship Id="rId15" Type="http://schemas.openxmlformats.org/officeDocument/2006/relationships/image" Target="../media/image14.png"/><Relationship Id="rId16" Type="http://schemas.openxmlformats.org/officeDocument/2006/relationships/slide" Target="slide10.xml"/><Relationship Id="rId17" Type="http://schemas.openxmlformats.org/officeDocument/2006/relationships/image" Target="../media/image15.jpeg"/><Relationship Id="rId18" Type="http://schemas.openxmlformats.org/officeDocument/2006/relationships/slide" Target="slide12.xml"/><Relationship Id="rId19" Type="http://schemas.openxmlformats.org/officeDocument/2006/relationships/image" Target="../media/image16.jpeg"/><Relationship Id="rId20" Type="http://schemas.openxmlformats.org/officeDocument/2006/relationships/slide" Target="slide13.xml"/><Relationship Id="rId21" Type="http://schemas.openxmlformats.org/officeDocument/2006/relationships/image" Target="../media/image17.png"/><Relationship Id="rId2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6.xml"/><Relationship Id="rId7" Type="http://schemas.openxmlformats.org/officeDocument/2006/relationships/image" Target="../media/image10.png"/><Relationship Id="rId8" Type="http://schemas.openxmlformats.org/officeDocument/2006/relationships/slide" Target="slide7.xml"/><Relationship Id="rId9" Type="http://schemas.openxmlformats.org/officeDocument/2006/relationships/image" Target="../media/image11.png"/><Relationship Id="rId10" Type="http://schemas.openxmlformats.org/officeDocument/2006/relationships/slide" Target="slide8.xml"/><Relationship Id="rId11" Type="http://schemas.openxmlformats.org/officeDocument/2006/relationships/image" Target="../media/image12.png"/><Relationship Id="rId12" Type="http://schemas.openxmlformats.org/officeDocument/2006/relationships/slide" Target="slide11.xml"/><Relationship Id="rId13" Type="http://schemas.openxmlformats.org/officeDocument/2006/relationships/image" Target="../media/image13.png"/><Relationship Id="rId14" Type="http://schemas.openxmlformats.org/officeDocument/2006/relationships/slide" Target="slide9.xml"/><Relationship Id="rId15" Type="http://schemas.openxmlformats.org/officeDocument/2006/relationships/image" Target="../media/image14.png"/><Relationship Id="rId16" Type="http://schemas.openxmlformats.org/officeDocument/2006/relationships/slide" Target="slide10.xml"/><Relationship Id="rId17" Type="http://schemas.openxmlformats.org/officeDocument/2006/relationships/image" Target="../media/image15.jpeg"/><Relationship Id="rId18" Type="http://schemas.openxmlformats.org/officeDocument/2006/relationships/slide" Target="slide12.xml"/><Relationship Id="rId19" Type="http://schemas.openxmlformats.org/officeDocument/2006/relationships/image" Target="../media/image16.jpeg"/><Relationship Id="rId20" Type="http://schemas.openxmlformats.org/officeDocument/2006/relationships/slide" Target="slide13.xml"/><Relationship Id="rId21" Type="http://schemas.openxmlformats.org/officeDocument/2006/relationships/image" Target="../media/image17.png"/><Relationship Id="rId2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8.pn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6.xml"/><Relationship Id="rId7" Type="http://schemas.openxmlformats.org/officeDocument/2006/relationships/image" Target="../media/image10.png"/><Relationship Id="rId8" Type="http://schemas.openxmlformats.org/officeDocument/2006/relationships/slide" Target="slide7.xml"/><Relationship Id="rId9" Type="http://schemas.openxmlformats.org/officeDocument/2006/relationships/image" Target="../media/image11.png"/><Relationship Id="rId10" Type="http://schemas.openxmlformats.org/officeDocument/2006/relationships/slide" Target="slide8.xml"/><Relationship Id="rId11" Type="http://schemas.openxmlformats.org/officeDocument/2006/relationships/image" Target="../media/image12.png"/><Relationship Id="rId12" Type="http://schemas.openxmlformats.org/officeDocument/2006/relationships/slide" Target="slide11.xml"/><Relationship Id="rId13" Type="http://schemas.openxmlformats.org/officeDocument/2006/relationships/image" Target="../media/image13.png"/><Relationship Id="rId14" Type="http://schemas.openxmlformats.org/officeDocument/2006/relationships/slide" Target="slide9.xml"/><Relationship Id="rId15" Type="http://schemas.openxmlformats.org/officeDocument/2006/relationships/image" Target="../media/image14.png"/><Relationship Id="rId16" Type="http://schemas.openxmlformats.org/officeDocument/2006/relationships/slide" Target="slide10.xml"/><Relationship Id="rId17" Type="http://schemas.openxmlformats.org/officeDocument/2006/relationships/image" Target="../media/image15.jpeg"/><Relationship Id="rId18" Type="http://schemas.openxmlformats.org/officeDocument/2006/relationships/slide" Target="slide12.xml"/><Relationship Id="rId19" Type="http://schemas.openxmlformats.org/officeDocument/2006/relationships/image" Target="../media/image16.jpeg"/><Relationship Id="rId20" Type="http://schemas.openxmlformats.org/officeDocument/2006/relationships/slide" Target="slide13.xml"/><Relationship Id="rId21" Type="http://schemas.openxmlformats.org/officeDocument/2006/relationships/image" Target="../media/image17.png"/><Relationship Id="rId2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12760" y="1987560"/>
            <a:ext cx="8632800" cy="14875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68720" y="3285000"/>
            <a:ext cx="84582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Учитель немецкого язы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МБОУ «Розентальская ООШ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Сердега О.С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C:\Users\user\Desktop\инт. тр\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C:\Users\user\Desktop\инт. тр\огурцы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2863800" cy="2125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" descr="C:\Users\user\Desktop\инт. тр\лук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76720" y="0"/>
            <a:ext cx="2360520" cy="27129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C:\Users\user\Desktop\инт. тр\морковь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rot="17302200">
            <a:off x="5284080" y="-183240"/>
            <a:ext cx="2825640" cy="2477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" descr="C:\Users\user\Desktop\инт. тр\помидор 1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020000" y="1557360"/>
            <a:ext cx="1763640" cy="25812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6" descr="C:\Users\user\Desktop\инт. тр\яблоко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724360" y="3716280"/>
            <a:ext cx="2318040" cy="2475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7" descr="C:\Users\user\Desktop\инт. тр\виног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79280" y="2736720"/>
            <a:ext cx="2540160" cy="41212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8" descr="C:\Users\user\Desktop\инт. тр\арбуз.png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924360" y="4149720"/>
            <a:ext cx="1942920" cy="1996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9" descr="C:\Users\user\Desktop\инт. тр\vorona.jpg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340000" y="4941720"/>
            <a:ext cx="1434960" cy="14335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0" descr="C:\Users\user\Desktop\инт. тр\-Воробей.jpg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1403280" y="227664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497" name="Блок-схема: альтернативный процесс 12"/>
          <p:cNvSpPr/>
          <p:nvPr/>
        </p:nvSpPr>
        <p:spPr>
          <a:xfrm>
            <a:off x="3492360" y="2349360"/>
            <a:ext cx="3095640" cy="1656000"/>
          </a:xfrm>
          <a:prstGeom prst="flowChartAlternateProcess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ranklin Gothic Book"/>
              </a:rPr>
              <a:t>Der Ra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C:\Users\user\Desktop\инт. тр\exit.png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924680" y="537372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C:\Users\user\Desktop\инт. тр\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C:\Users\user\Desktop\инт. тр\огурцы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2863800" cy="21254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" descr="C:\Users\user\Desktop\инт. тр\лук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03640" y="0"/>
            <a:ext cx="2361960" cy="27129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Users\user\Desktop\инт. тр\морковь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rot="17302200">
            <a:off x="5284080" y="-183240"/>
            <a:ext cx="2825640" cy="24778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C:\Users\user\Desktop\инт. тр\помидор 1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020000" y="1557360"/>
            <a:ext cx="1763640" cy="25812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C:\Users\user\Desktop\инт. тр\яблоко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724360" y="3716280"/>
            <a:ext cx="2318040" cy="24750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7" descr="C:\Users\user\Desktop\инт. тр\виног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79280" y="2736720"/>
            <a:ext cx="2540160" cy="41212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C:\Users\user\Desktop\инт. тр\арбуз.png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924360" y="4149720"/>
            <a:ext cx="1942920" cy="1996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9" descr="C:\Users\user\Desktop\инт. тр\vorona.jpg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340000" y="4941720"/>
            <a:ext cx="1434960" cy="1433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0" descr="C:\Users\user\Desktop\инт. тр\-Воробей.jpg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1187280" y="256536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509" name="Блок-схема: альтернативный процесс 12"/>
          <p:cNvSpPr/>
          <p:nvPr/>
        </p:nvSpPr>
        <p:spPr>
          <a:xfrm>
            <a:off x="2843280" y="2492280"/>
            <a:ext cx="4032360" cy="1478160"/>
          </a:xfrm>
          <a:prstGeom prst="flowChartAlternateProcess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ranklin Gothic Book"/>
              </a:rPr>
              <a:t>Die Weintra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C:\Users\user\Desktop\инт. тр\exit.png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924680" y="537372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C:\Users\user\Desktop\инт. тр\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C:\Users\user\Desktop\инт. тр\огурцы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2863800" cy="21254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C:\Users\user\Desktop\инт. тр\лук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03640" y="0"/>
            <a:ext cx="2361960" cy="27129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C:\Users\user\Desktop\инт. тр\морковь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rot="17302200">
            <a:off x="5284080" y="-183240"/>
            <a:ext cx="2825640" cy="24778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C:\Users\user\Desktop\инт. тр\помидор 1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020000" y="1557360"/>
            <a:ext cx="1763640" cy="25812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C:\Users\user\Desktop\инт. тр\яблоко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724360" y="3716280"/>
            <a:ext cx="2318040" cy="24750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C:\Users\user\Desktop\инт. тр\виног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79280" y="2736720"/>
            <a:ext cx="2540160" cy="4121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C:\Users\user\Desktop\инт. тр\арбуз.png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924360" y="4149720"/>
            <a:ext cx="1942920" cy="1996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9" descr="C:\Users\user\Desktop\инт. тр\vorona.jpg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340000" y="4941720"/>
            <a:ext cx="1434960" cy="14335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0" descr="C:\Users\user\Desktop\инт. тр\-Воробей.jpg"/>
          <p:cNvPicPr/>
          <p:nvPr/>
        </p:nvPicPr>
        <p:blipFill>
          <a:blip r:embed="rId18"/>
          <a:stretch/>
        </p:blipFill>
        <p:spPr>
          <a:xfrm>
            <a:off x="755640" y="24210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521" name="Блок-схема: альтернативный процесс 12"/>
          <p:cNvSpPr/>
          <p:nvPr/>
        </p:nvSpPr>
        <p:spPr>
          <a:xfrm>
            <a:off x="3132000" y="2565360"/>
            <a:ext cx="3168720" cy="1405080"/>
          </a:xfrm>
          <a:prstGeom prst="flowChartAlternateProcess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ranklin Gothic Book"/>
              </a:rPr>
              <a:t>Der Spa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C:\Users\user\Desktop\инт. тр\exit.png"/>
          <p:cNvPicPr/>
          <p:nvPr/>
        </p:nvPicPr>
        <p:blipFill>
          <a:blip r:embed="rId19"/>
          <a:stretch/>
        </p:blipFill>
        <p:spPr>
          <a:xfrm>
            <a:off x="7924680" y="537372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C:\Users\user\Desktop\инт. тр\спасиб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http://allforchildren.ru/pictures/disney_icons.php?page=6&amp;rows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http://www.liveinternet.ru/users/3897189/post332638595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http://zaikinmir.ru/kartinki/vorona-kartinki.php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http://ru.123rf.com/Ф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https://yandex.ru/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C:\Users\user\Desktop\инт. тр\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Users\user\Desktop\инт. тр\disney068.png"/>
          <p:cNvPicPr/>
          <p:nvPr/>
        </p:nvPicPr>
        <p:blipFill>
          <a:blip r:embed="rId2"/>
          <a:stretch/>
        </p:blipFill>
        <p:spPr>
          <a:xfrm>
            <a:off x="0" y="1484280"/>
            <a:ext cx="3887640" cy="4608720"/>
          </a:xfrm>
          <a:prstGeom prst="rect">
            <a:avLst/>
          </a:prstGeom>
          <a:ln w="0">
            <a:noFill/>
          </a:ln>
        </p:spPr>
      </p:pic>
      <p:sp>
        <p:nvSpPr>
          <p:cNvPr id="403" name="Овальная выноска 3"/>
          <p:cNvSpPr/>
          <p:nvPr/>
        </p:nvSpPr>
        <p:spPr>
          <a:xfrm>
            <a:off x="2916360" y="620640"/>
            <a:ext cx="6227640" cy="23767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ет! Сегодня я помогу вам вспомнить слова по теме «Осен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C:\Users\user\Desktop\инт. тр\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C:\Users\user\Desktop\инт. тр\огурцы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2863800" cy="21254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C:\Users\user\Desktop\инт. тр\лук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03640" y="0"/>
            <a:ext cx="2361960" cy="2712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C:\Users\user\Desktop\инт. тр\морковь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rot="17302200">
            <a:off x="5284080" y="-183240"/>
            <a:ext cx="2825640" cy="2477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C:\Users\user\Desktop\инт. тр\помидор 1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020000" y="1557360"/>
            <a:ext cx="1763640" cy="25812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C:\Users\user\Desktop\инт. тр\яблоко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443640" y="4149720"/>
            <a:ext cx="2319480" cy="2473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C:\Users\user\Desktop\инт. тр\виног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79280" y="2736720"/>
            <a:ext cx="2540160" cy="4121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C:\Users\user\Desktop\инт. тр\арбуз.png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924360" y="4149720"/>
            <a:ext cx="1942920" cy="1996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C:\Users\user\Desktop\инт. тр\vorona.jpg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340000" y="4941720"/>
            <a:ext cx="1434960" cy="1433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C:\Users\user\Desktop\инт. тр\-Воробей.jpg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1116000" y="249228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C:\Users\user\Desktop\инт. тр\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C:\Users\user\Desktop\инт. тр\огурцы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2863800" cy="2125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C:\Users\user\Desktop\инт. тр\лук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03640" y="0"/>
            <a:ext cx="2361960" cy="2712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C:\Users\user\Desktop\инт. тр\морковь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rot="17302200">
            <a:off x="5284080" y="-183240"/>
            <a:ext cx="2825640" cy="24778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C:\Users\user\Desktop\инт. тр\помидор 1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020000" y="1557360"/>
            <a:ext cx="1763640" cy="2581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C:\Users\user\Desktop\инт. тр\яблоко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724360" y="3716280"/>
            <a:ext cx="2318040" cy="2475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C:\Users\user\Desktop\инт. тр\виног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79280" y="2736720"/>
            <a:ext cx="2540160" cy="4121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C:\Users\user\Desktop\инт. тр\арбуз.png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924360" y="4149720"/>
            <a:ext cx="1942920" cy="1996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9" descr="C:\Users\user\Desktop\инт. тр\vorona.jpg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340000" y="4941720"/>
            <a:ext cx="1434960" cy="14335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0" descr="C:\Users\user\Desktop\инт. тр\-Воробей.jpg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1116000" y="234936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Users\user\Desktop\инт. тр\exit.png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924680" y="537372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25" name="Блок-схема: альтернативный процесс 12"/>
          <p:cNvSpPr/>
          <p:nvPr/>
        </p:nvSpPr>
        <p:spPr>
          <a:xfrm>
            <a:off x="3132000" y="2492280"/>
            <a:ext cx="3095640" cy="1044720"/>
          </a:xfrm>
          <a:prstGeom prst="flowChartAlternateProcess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ranklin Gothic Book"/>
              </a:rPr>
              <a:t>Die Gur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C:\Users\user\Desktop\инт. тр\exit.png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7924680" y="537372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C:\Users\user\Desktop\инт. тр\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C:\Users\user\Desktop\инт. тр\огурцы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2863800" cy="21254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C:\Users\user\Desktop\инт. тр\лук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03640" y="0"/>
            <a:ext cx="2361960" cy="2712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Users\user\Desktop\инт. тр\морковь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rot="17302200">
            <a:off x="5284080" y="-183240"/>
            <a:ext cx="2825640" cy="2477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C:\Users\user\Desktop\инт. тр\помидор 1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020000" y="1557360"/>
            <a:ext cx="1763640" cy="25812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C:\Users\user\Desktop\инт. тр\яблоко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724360" y="3716280"/>
            <a:ext cx="2318040" cy="2475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7" descr="C:\Users\user\Desktop\инт. тр\виног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79280" y="2736720"/>
            <a:ext cx="2540160" cy="4121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C:\Users\user\Desktop\инт. тр\арбуз.png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924360" y="4149720"/>
            <a:ext cx="1942920" cy="1996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C:\Users\user\Desktop\инт. тр\vorona.jpg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340000" y="4941720"/>
            <a:ext cx="1434960" cy="1433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0" descr="C:\Users\user\Desktop\инт. тр\-Воробей.jpg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1042920" y="24210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437" name="Блок-схема: альтернативный процесс 12"/>
          <p:cNvSpPr/>
          <p:nvPr/>
        </p:nvSpPr>
        <p:spPr>
          <a:xfrm>
            <a:off x="2843280" y="2637000"/>
            <a:ext cx="3816360" cy="1260360"/>
          </a:xfrm>
          <a:prstGeom prst="flowChartAlternateProcess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ranklin Gothic Book"/>
              </a:rPr>
              <a:t>Die Zwie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C:\Users\user\Desktop\инт. тр\exit.png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924680" y="537372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C:\Users\user\Desktop\инт. тр\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C:\Users\user\Desktop\инт. тр\огурцы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2863800" cy="21254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C:\Users\user\Desktop\инт. тр\лук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03640" y="0"/>
            <a:ext cx="2361960" cy="2712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C:\Users\user\Desktop\инт. тр\морковь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rot="17302200">
            <a:off x="5284080" y="-183240"/>
            <a:ext cx="2825640" cy="24778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C:\Users\user\Desktop\инт. тр\помидор 1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020000" y="1557360"/>
            <a:ext cx="1763640" cy="25812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C:\Users\user\Desktop\инт. тр\яблоко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724360" y="3716280"/>
            <a:ext cx="2318040" cy="24750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C:\Users\user\Desktop\инт. тр\виног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79280" y="2736720"/>
            <a:ext cx="2540160" cy="4121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C:\Users\user\Desktop\инт. тр\арбуз.png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924360" y="4149720"/>
            <a:ext cx="1942920" cy="19969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9" descr="C:\Users\user\Desktop\инт. тр\vorona.jpg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268360" y="5013360"/>
            <a:ext cx="1433520" cy="14349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0" descr="C:\Users\user\Desktop\инт. тр\-Воробей.jpg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971640" y="249228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449" name="Блок-схема: альтернативный процесс 12"/>
          <p:cNvSpPr/>
          <p:nvPr/>
        </p:nvSpPr>
        <p:spPr>
          <a:xfrm>
            <a:off x="2627280" y="2492280"/>
            <a:ext cx="3960720" cy="1224000"/>
          </a:xfrm>
          <a:prstGeom prst="flowChartAlternateProcess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ranklin Gothic Book"/>
              </a:rPr>
              <a:t>Die Mohrrü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C:\Users\user\Desktop\инт. тр\exit.png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924680" y="537372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C:\Users\user\Desktop\инт. тр\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Users\user\Desktop\инт. тр\огурцы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2863800" cy="21254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C:\Users\user\Desktop\инт. тр\лук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03640" y="0"/>
            <a:ext cx="2361960" cy="2712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" descr="C:\Users\user\Desktop\инт. тр\морковь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rot="17302200">
            <a:off x="5284080" y="-183240"/>
            <a:ext cx="2825640" cy="2477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C:\Users\user\Desktop\инт. тр\помидор 1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020000" y="1557360"/>
            <a:ext cx="1763640" cy="2581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C:\Users\user\Desktop\инт. тр\яблоко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724360" y="3716280"/>
            <a:ext cx="2318040" cy="247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C:\Users\user\Desktop\инт. тр\виног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79280" y="2736720"/>
            <a:ext cx="2540160" cy="41212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8" descr="C:\Users\user\Desktop\инт. тр\арбуз.png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924360" y="4149720"/>
            <a:ext cx="1942920" cy="19969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C:\Users\user\Desktop\инт. тр\vorona.jpg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340000" y="4941720"/>
            <a:ext cx="1434960" cy="1433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0" descr="C:\Users\user\Desktop\инт. тр\-Воробей.jpg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971640" y="24210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461" name="Блок-схема: альтернативный процесс 12"/>
          <p:cNvSpPr/>
          <p:nvPr/>
        </p:nvSpPr>
        <p:spPr>
          <a:xfrm>
            <a:off x="3492360" y="2565360"/>
            <a:ext cx="2808360" cy="1224000"/>
          </a:xfrm>
          <a:prstGeom prst="flowChartAlternateProcess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ranklin Gothic Book"/>
              </a:rPr>
              <a:t>Die To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" descr="C:\Users\user\Desktop\инт. тр\exit.png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924680" y="537372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C:\Users\user\Desktop\инт. тр\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C:\Users\user\Desktop\инт. тр\огурцы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2863800" cy="21254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" descr="C:\Users\user\Desktop\инт. тр\лук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03640" y="0"/>
            <a:ext cx="2361960" cy="27129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" descr="C:\Users\user\Desktop\инт. тр\морковь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rot="17302200">
            <a:off x="5284080" y="-183240"/>
            <a:ext cx="2825640" cy="24778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C:\Users\user\Desktop\инт. тр\помидор 1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020000" y="1557360"/>
            <a:ext cx="1763640" cy="25812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C:\Users\user\Desktop\инт. тр\яблоко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724360" y="3716280"/>
            <a:ext cx="2318040" cy="2475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C:\Users\user\Desktop\инт. тр\виног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79280" y="2736720"/>
            <a:ext cx="2540160" cy="4121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8" descr="C:\Users\user\Desktop\инт. тр\арбуз.png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924360" y="4149720"/>
            <a:ext cx="1942920" cy="19969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9" descr="C:\Users\user\Desktop\инт. тр\vorona.jpg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340000" y="4941720"/>
            <a:ext cx="1434960" cy="14335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0" descr="C:\Users\user\Desktop\инт. тр\-Воробей.jpg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900000" y="24210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473" name="Блок-схема: альтернативный процесс 12"/>
          <p:cNvSpPr/>
          <p:nvPr/>
        </p:nvSpPr>
        <p:spPr>
          <a:xfrm>
            <a:off x="3276720" y="2492280"/>
            <a:ext cx="3095640" cy="1405080"/>
          </a:xfrm>
          <a:prstGeom prst="flowChartAlternateProcess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ranklin Gothic Book"/>
              </a:rPr>
              <a:t>Der Apf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2" descr="C:\Users\user\Desktop\инт. тр\exit.png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924680" y="537372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C:\Users\user\Desktop\инт. тр\фон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" descr="C:\Users\user\Desktop\инт. тр\огурцы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2863800" cy="21254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" descr="C:\Users\user\Desktop\инт. тр\лук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03640" y="0"/>
            <a:ext cx="2361960" cy="27129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" descr="C:\Users\user\Desktop\инт. тр\морковь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rot="17302200">
            <a:off x="5284080" y="-183240"/>
            <a:ext cx="2825640" cy="2477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5" descr="C:\Users\user\Desktop\инт. тр\помидор 1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020000" y="1557360"/>
            <a:ext cx="1763640" cy="2581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6" descr="C:\Users\user\Desktop\инт. тр\яблоко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724360" y="3716280"/>
            <a:ext cx="2318040" cy="24750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7" descr="C:\Users\user\Desktop\инт. тр\виног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79280" y="2736720"/>
            <a:ext cx="2540160" cy="4121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:\Users\user\Desktop\инт. тр\арбуз.png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924360" y="4149720"/>
            <a:ext cx="1942920" cy="19969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9" descr="C:\Users\user\Desktop\инт. тр\vorona.jpg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340000" y="4941720"/>
            <a:ext cx="1434960" cy="14335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0" descr="C:\Users\user\Desktop\инт. тр\-Воробей.jpg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971640" y="24210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485" name="Блок-схема: альтернативный процесс 12"/>
          <p:cNvSpPr/>
          <p:nvPr/>
        </p:nvSpPr>
        <p:spPr>
          <a:xfrm>
            <a:off x="2411280" y="2421000"/>
            <a:ext cx="4392720" cy="1728720"/>
          </a:xfrm>
          <a:prstGeom prst="flowChartAlternateProcess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ranklin Gothic Book"/>
              </a:rPr>
              <a:t>Die Wassermel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C:\Users\user\Desktop\инт. тр\exit.png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924680" y="537372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7T12:43:22Z</dcterms:created>
  <dc:creator>user</dc:creator>
  <dc:description/>
  <dc:language>en-US</dc:language>
  <cp:lastModifiedBy>user</cp:lastModifiedBy>
  <dcterms:modified xsi:type="dcterms:W3CDTF">2016-11-29T14:40:19Z</dcterms:modified>
  <cp:revision>9</cp:revision>
  <dc:subject/>
  <dc:title>Слайд 1</dc:title>
</cp:coreProperties>
</file>