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FB6D-B760-4928-AC51-00504559FB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9F98-5A75-4C3D-897E-98785A162A2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F1C8-5936-4AE9-BF62-CE5B78305BE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D715-F46A-4C2B-BF9E-537DAAAD81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146-F183-4B7D-917E-F8F78881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439C-B8C2-4955-96AD-33369FF7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149-6976-4072-9551-0A0710AA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15A9-2BA0-46D1-B0C5-EF316E1B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5DBF-A34A-4976-B36D-E627B5B7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5C13-9839-4765-BDCB-84F8B7EF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5E9A-15D0-40CF-9CA9-45127E98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0E4A-D66E-466D-99D0-52D2E341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ABCD-D548-4673-B787-4F05F9F0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4187-D68F-4BA6-841F-125D8A94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0946-509B-4FC3-80F5-C93D6ADD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4DD-58B6-4103-8FFB-FB363051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3714-FBF9-4E49-BC43-8F0B7F9D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941D-F2D3-4497-BC55-37FAAF28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0F23-4AD0-4FB5-AD44-E5B637DA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16AA-1C82-4AF3-B9B7-25D080AE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A8AF-F526-4D4A-A075-F6C3B46F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ABF-E6A7-4141-BF95-511F2666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6410-E23E-4873-83EF-C7A7D038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A59B-21A0-4402-800D-AC0CBCE7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1296-6A03-49AB-B25F-9D1213E8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543D-B4AA-4FD7-8004-038D0728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A3C6-2669-4AB6-BB01-50C308ED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AFCF-9548-426F-B926-5B942E59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67F5-0982-4906-86B4-57012F8F70E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CF07-84CE-46AB-80A1-3D998B8FF67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Логика построения собственного </a:t>
            </a:r>
            <a:br>
              <a:rPr sz="6000"/>
            </a:b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рассуждения</a:t>
            </a:r>
            <a:br>
              <a:rPr sz="6000"/>
            </a:br>
            <a:br>
              <a:rPr sz="72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подготовка к сочинению по тексту С.Казначеева)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5" descr="12082013-40.jpg"/>
          <p:cNvPicPr/>
          <p:nvPr/>
        </p:nvPicPr>
        <p:blipFill>
          <a:blip r:embed="rId1"/>
          <a:stretch/>
        </p:blipFill>
        <p:spPr>
          <a:xfrm>
            <a:off x="495360" y="720720"/>
            <a:ext cx="8018280" cy="5181480"/>
          </a:xfrm>
          <a:prstGeom prst="rect">
            <a:avLst/>
          </a:prstGeom>
          <a:ln w="0">
            <a:noFill/>
          </a:ln>
        </p:spPr>
      </p:pic>
      <p:sp>
        <p:nvSpPr>
          <p:cNvPr id="115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19F1-6E3E-441D-B19A-9E8824D732E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6184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Формулировка проблем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 влияют заимствования на русскую графику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гащается или портится речь благодаря заимствованиям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 влияет современная жизнь на состояние русского языка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ой язык мы оставим нашим детям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C2A4-FDB7-4490-B6B3-81450C1DD62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95160" y="49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Проблема – позиция автор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33440" y="2128680"/>
          <a:ext cx="8405640" cy="3657600"/>
        </p:xfrm>
        <a:graphic>
          <a:graphicData uri="http://schemas.openxmlformats.org/drawingml/2006/table">
            <a:tbl>
              <a:tblPr/>
              <a:tblGrid>
                <a:gridCol w="3556080"/>
                <a:gridCol w="48495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влияют заимствования на русскую графику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f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никновение иноязычных символов в русскую графику может привести к гибели алфавит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f5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гащается или портится речь благодаря заимствованиям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правданное употребление заимствований наносит непоправимый вред русской реч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влияет современная жизнь на состояние русского языка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сорение языка различным «мусором» отражает неблагополучие нашего обществ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 язык мы оставим нашим детям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ой речи угрожает потеря самобытности. Русский язык должен оставаться русским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ff"/>
                    </a:solidFill>
                  </a:tcPr>
                </a:tc>
              </a:tr>
            </a:tbl>
          </a:graphicData>
        </a:graphic>
      </p:graphicFrame>
      <p:sp>
        <p:nvSpPr>
          <p:cNvPr id="121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5DB0-B53F-48B7-ABA2-96BC441FC36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От позиции автора к своей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р приходит к выводу, чт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сорение языка различным «мусором» отражает неблагополучие нашего общества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 согласен с автором в том, чт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до бороться за чистоту языка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понятием «свобода слова» часто скрывается элементарная безграмотность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зык человека - точный показатель его человеческих качеств, его культуры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рмальное состояние языка – один из показателей благополучного состояния общества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От позиции автора к своей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9810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р приходит к выводу, чт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сской речи угрожает потеря самобытности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 согласен с автором в том, чт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ть только один путь сохранить язык – это научиться его любить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годня русский язык, втянутый в процесс глобализации мира, проходит своеобразное испытание на жизненную силу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 в ответе за наш язык, так как с помощью языка передаются культурные и интеллектуальные богатства из поколения в поколение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Задани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6720" y="1981080"/>
            <a:ext cx="8452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озиция автор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___________________________________________________________________________________________________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Ваша позиция (тезис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Аргумент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страция к аргументу 1 (дан на выбор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Аргумент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страция к аргументу 2 (дан на выбор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Вывод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C9BE-12FF-4ECE-AB5A-B5B0F9E0E8A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BA98-DE52-4883-B5EB-5C8BE96C0BD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Содержимое 8" descr="karavan.jpg"/>
          <p:cNvPicPr/>
          <p:nvPr/>
        </p:nvPicPr>
        <p:blipFill>
          <a:blip r:embed="rId1"/>
          <a:stretch/>
        </p:blipFill>
        <p:spPr>
          <a:xfrm>
            <a:off x="923760" y="758880"/>
            <a:ext cx="7259760" cy="50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0A22-8659-4B64-9BCF-422EDC13BC9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F:\вывески ТП\CIMG0854.JPG"/>
          <p:cNvPicPr/>
          <p:nvPr/>
        </p:nvPicPr>
        <p:blipFill>
          <a:blip r:embed="rId1"/>
          <a:stretch/>
        </p:blipFill>
        <p:spPr>
          <a:xfrm>
            <a:off x="379440" y="379440"/>
            <a:ext cx="5595840" cy="419724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6" descr="CIMG0855.JPG"/>
          <p:cNvPicPr/>
          <p:nvPr/>
        </p:nvPicPr>
        <p:blipFill>
          <a:blip r:embed="rId2"/>
          <a:stretch/>
        </p:blipFill>
        <p:spPr>
          <a:xfrm>
            <a:off x="3297240" y="236844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10" descr="CIMG0787.JPG"/>
          <p:cNvPicPr/>
          <p:nvPr/>
        </p:nvPicPr>
        <p:blipFill>
          <a:blip r:embed="rId1"/>
          <a:stretch/>
        </p:blipFill>
        <p:spPr>
          <a:xfrm>
            <a:off x="1809720" y="200160"/>
            <a:ext cx="4869000" cy="64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одержимое 4" descr="CIMG0788.JPG"/>
          <p:cNvPicPr/>
          <p:nvPr/>
        </p:nvPicPr>
        <p:blipFill>
          <a:blip r:embed="rId1"/>
          <a:stretch/>
        </p:blipFill>
        <p:spPr>
          <a:xfrm>
            <a:off x="852480" y="507960"/>
            <a:ext cx="7524720" cy="5643720"/>
          </a:xfrm>
          <a:prstGeom prst="rect">
            <a:avLst/>
          </a:prstGeom>
          <a:ln w="0">
            <a:noFill/>
          </a:ln>
        </p:spPr>
      </p:pic>
      <p:sp>
        <p:nvSpPr>
          <p:cNvPr id="104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3ABD-8EDB-4AE9-987B-CB90931BAAD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08C0-C590-4578-B79E-55C436CC380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" descr="F:\вывески ТП\CIMG0865.JPG"/>
          <p:cNvPicPr/>
          <p:nvPr/>
        </p:nvPicPr>
        <p:blipFill>
          <a:blip r:embed="rId1"/>
          <a:stretch/>
        </p:blipFill>
        <p:spPr>
          <a:xfrm>
            <a:off x="973080" y="600120"/>
            <a:ext cx="7118280" cy="53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EEF0-B7DD-4A17-828B-C2815200148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2" descr="F:\вывески ТП\P1000675.JPG"/>
          <p:cNvPicPr/>
          <p:nvPr/>
        </p:nvPicPr>
        <p:blipFill>
          <a:blip r:embed="rId1"/>
          <a:stretch/>
        </p:blipFill>
        <p:spPr>
          <a:xfrm>
            <a:off x="582480" y="341280"/>
            <a:ext cx="7905960" cy="59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59E4-F0C7-46A5-9F02-AEDB95458DA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F:\вывески ТП\CIMG0810.JPG"/>
          <p:cNvPicPr/>
          <p:nvPr/>
        </p:nvPicPr>
        <p:blipFill>
          <a:blip r:embed="rId1"/>
          <a:stretch/>
        </p:blipFill>
        <p:spPr>
          <a:xfrm>
            <a:off x="757080" y="471600"/>
            <a:ext cx="7499520" cy="56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одержимое 4" descr="Torgoyi-centr-Tandem-2-tandemkazan.ru.jpg"/>
          <p:cNvPicPr/>
          <p:nvPr/>
        </p:nvPicPr>
        <p:blipFill>
          <a:blip r:embed="rId1"/>
          <a:stretch/>
        </p:blipFill>
        <p:spPr>
          <a:xfrm>
            <a:off x="409680" y="955800"/>
            <a:ext cx="579420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8B6A-F9B0-43DD-8585-18A26BCAAFA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Содержимое 8" descr="599193.w640.jpg"/>
          <p:cNvPicPr/>
          <p:nvPr/>
        </p:nvPicPr>
        <p:blipFill>
          <a:blip r:embed="rId2"/>
          <a:stretch/>
        </p:blipFill>
        <p:spPr>
          <a:xfrm>
            <a:off x="5259240" y="858960"/>
            <a:ext cx="3160800" cy="50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6-11-29T10:22:38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