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D7B7C-9CA4-436E-B19C-CE9AE6246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35E45-55C4-4683-A6EB-70A76D288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FC3D0-CB7F-4A1C-96BD-A4C03F424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A3053-D380-4AB7-ADA6-224D171E7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F7463-B5B6-4F9C-9C33-6E8A651E5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8B796-0AA7-47B4-8105-D9138A15C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86C6F-72B3-4536-8440-23B76E81F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778B-513B-4095-9DF7-8D40FE20B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6073B-32F0-49CB-844E-D7ED84954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43AA5-E38D-4DD5-B909-9A9DD04DE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F05C-C83B-43F9-B8B7-AE4C9C5AA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5EEEF-C245-4802-B891-1017F48A9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40A1-DD04-409C-8FB5-51D16BA567B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емля моя, Алта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 Познакомиться с поэтическим и прозаическим восприятием малой Родины</a:t>
            </a:r>
            <a:endParaRPr b="0" lang="en-US" sz="3200" spc="-1" strike="noStrike">
              <a:solidFill>
                <a:srgbClr val="000000"/>
              </a:solidFill>
              <a:latin typeface="Times New Roman"/>
            </a:endParaRPr>
          </a:p>
        </p:txBody>
      </p:sp>
      <p:sp>
        <p:nvSpPr>
          <p:cNvPr id="43" name="Rectangle 37"/>
          <p:cNvSpPr/>
          <p:nvPr/>
        </p:nvSpPr>
        <p:spPr>
          <a:xfrm>
            <a:off x="3938760" y="2833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Алексей Власов</a:t>
            </a:r>
            <a:endParaRPr b="0" lang="en-US" sz="4400" spc="-1" strike="noStrike">
              <a:solidFill>
                <a:srgbClr val="000000"/>
              </a:solidFill>
              <a:latin typeface="Times New Roman"/>
            </a:endParaRPr>
          </a:p>
        </p:txBody>
      </p:sp>
      <p:sp>
        <p:nvSpPr>
          <p:cNvPr id="63" name="PlaceHolder 2"/>
          <p:cNvSpPr>
            <a:spLocks noGrp="1"/>
          </p:cNvSpPr>
          <p:nvPr>
            <p:ph/>
          </p:nvPr>
        </p:nvSpPr>
        <p:spPr>
          <a:xfrm>
            <a:off x="2356920" y="1981080"/>
            <a:ext cx="428652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ый главный волшебник-время.</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ый главный правитель-время.</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ый главный ценитель-время,</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целителя лучше нет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анет дубом могучим семя.</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зовётся народом племя.</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босвода ночного бремя</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лучит долгожданный свет</a:t>
            </a:r>
            <a:r>
              <a:rPr b="0" lang="ru-RU"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Было </a:t>
            </a:r>
            <a:endParaRPr b="0" lang="en-US" sz="4400" spc="-1" strike="noStrike">
              <a:solidFill>
                <a:srgbClr val="000000"/>
              </a:solidFill>
              <a:latin typeface="Times New Roman"/>
            </a:endParaRPr>
          </a:p>
        </p:txBody>
      </p:sp>
      <p:sp>
        <p:nvSpPr>
          <p:cNvPr id="65" name="Rectangle 5"/>
          <p:cNvSpPr/>
          <p:nvPr/>
        </p:nvSpPr>
        <p:spPr>
          <a:xfrm>
            <a:off x="0" y="1600200"/>
            <a:ext cx="9144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ступил звёздный час Алтая. Быстрыми темпами строились новые заводы, добывались драгоценные металлы: золото и серебро.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Алтай сказочно богател. Барнаул превращался в один из самых красивых городов России. Расцветала культура, образование, наука. В эти славные времена блеснули своим талантом изобретатель первого в мире пароатмосферного двигателя И.И. Ползунов, строитель первой в России чугунно-рельсовой дороги П.К. Фролов, металлург, раскрывший тайну булата, П.П. Аносов. С восторгом отзывались об Алтае прошлого века всемирно известные путешественники и учёные А. Гумбольд, К.Ф. Ледебур, А.Э Брем, П.П. Семёнов - Тян- Шанский.</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И. Ползунов.</a:t>
            </a:r>
            <a:br>
              <a:rPr sz="2800"/>
            </a:br>
            <a:endParaRPr b="0" lang="en-US" sz="2800" spc="-1" strike="noStrike">
              <a:solidFill>
                <a:srgbClr val="000000"/>
              </a:solidFill>
              <a:latin typeface="Times New Roman"/>
            </a:endParaRPr>
          </a:p>
        </p:txBody>
      </p:sp>
      <p:sp>
        <p:nvSpPr>
          <p:cNvPr id="67" name="PlaceHolder 2"/>
          <p:cNvSpPr>
            <a:spLocks noGrp="1"/>
          </p:cNvSpPr>
          <p:nvPr>
            <p:ph/>
          </p:nvPr>
        </p:nvSpPr>
        <p:spPr>
          <a:xfrm>
            <a:off x="857160" y="1981080"/>
            <a:ext cx="557208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ea typeface="Times New Roman"/>
              </a:rPr>
              <a:t>Дабы сей славы (если силы допустят) Отечеству</a:t>
            </a:r>
            <a:r>
              <a:rPr b="0" lang="ru-RU" sz="1600" spc="-1" strike="noStrike">
                <a:solidFill>
                  <a:srgbClr val="000000"/>
                </a:solidFill>
                <a:latin typeface="Times New Roman"/>
              </a:rPr>
              <a:t> </a:t>
            </a:r>
            <a:r>
              <a:rPr b="0" lang="ru-RU" sz="1600" spc="-1" strike="noStrike">
                <a:solidFill>
                  <a:srgbClr val="000000"/>
                </a:solidFill>
                <a:latin typeface="Times New Roman"/>
                <a:ea typeface="Times New Roman"/>
              </a:rPr>
              <a:t>достигнуть, облегчая труд по нас грядущим                                                            Так что я должен все возможные</a:t>
            </a:r>
            <a:r>
              <a:rPr b="0" lang="ru-RU" sz="1600" spc="-1" strike="noStrike">
                <a:solidFill>
                  <a:srgbClr val="000000"/>
                </a:solidFill>
                <a:latin typeface="Times New Roman"/>
              </a:rPr>
              <a:t> </a:t>
            </a:r>
            <a:r>
              <a:rPr b="0" lang="ru-RU" sz="1600" spc="-1" strike="noStrike">
                <a:solidFill>
                  <a:srgbClr val="000000"/>
                </a:solidFill>
                <a:latin typeface="Times New Roman"/>
                <a:ea typeface="Times New Roman"/>
              </a:rPr>
              <a:t>труды и силы </a:t>
            </a:r>
            <a:r>
              <a:rPr b="0" lang="ru-RU" sz="28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то устремить, коим бы образом огонь   слугою                                                              к машине склонить.</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rPr>
              <a:t>                       </a:t>
            </a:r>
            <a:r>
              <a:rPr b="0" lang="ru-RU" sz="1600" spc="-1" strike="noStrike">
                <a:solidFill>
                  <a:srgbClr val="000000"/>
                </a:solidFill>
                <a:latin typeface="Times New Roman"/>
                <a:ea typeface="Times New Roman"/>
              </a:rPr>
              <a:t>И.И. Ползунов.</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Rectangle 6"/>
          <p:cNvSpPr/>
          <p:nvPr/>
        </p:nvSpPr>
        <p:spPr>
          <a:xfrm>
            <a:off x="4062240" y="269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Панов</a:t>
            </a: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люнет в реку, как хрюкнет с моста,</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ноземец - и совесть чиста.</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за плату готов нашу речь</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нцелярским шпицрутеном сечь, </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амородную мысль растереть, как плевок,</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крахмальным платком отереть свой сапог.</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ва столетья прошло, а прочтёшь - бросит в дрожь,</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ходил Ползунов на духовный правёж.</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араканьим усом шевеля над губой,</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мец-канцелярист упивался</a:t>
            </a:r>
            <a:r>
              <a:rPr b="0" lang="ru-RU" sz="24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бой.</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нижая талант, педантично с листа</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читал, как вбивал гвозди в руки Христа:</a:t>
            </a:r>
            <a:endParaRPr b="0" lang="en-US" sz="1600" spc="-1" strike="noStrike">
              <a:solidFill>
                <a:srgbClr val="000000"/>
              </a:solidFill>
              <a:latin typeface="Times New Roman"/>
            </a:endParaRPr>
          </a:p>
          <a:p>
            <a:pPr marL="31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литье в стеклянном заводе, у механикуса Ползунова к машине , из горну в выпуск медь нисколько не пошла. И видно, что оное производится от несмотрения его,</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лзунова, а особливо от нерачения плутов мастер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яжко слушать булыжно-облыжный приказ,</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дто мчится с горы на тебя тарантас:</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здно вспять отступать,</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лько грудью вперёд.</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Пусть уж лучше меня, но машина живёт!</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усть уж лучше меня, но останется нить,</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б огонь к той машине слугою склонить!</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усть уж лучше меня - колесом тарантас,</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о облегчится</a:t>
            </a:r>
            <a:r>
              <a:rPr b="0" lang="ru-RU" sz="2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труд грядущим по нас!»</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ди дела стократ стоит сжаться в комок</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принять, как Сократ. Яд язвительных строк.</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 сдаваясь, терпеть – все труды впереди!</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шь только успеть…. И кольнуло в груди!</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Чад бессонных свечей, чертежи, чертежи.</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д плавильных печей. Сквозняки - крутежи.</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скалённая медь. Молот  мал, да удал.</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о надо суметь: расковать в лист металл.</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гнуть сферу котла. Камнем выложить печь.</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ть, сгорая дотла, и себя не беречь…</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рлом хлынула кровь. А потом - забытьё.</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уже отходя, я увидел Её!</a:t>
            </a:r>
            <a:endParaRPr b="0" lang="en-US" sz="1600" spc="-1" strike="noStrike">
              <a:solidFill>
                <a:srgbClr val="000000"/>
              </a:solidFill>
              <a:latin typeface="Times New Roman"/>
            </a:endParaRPr>
          </a:p>
          <a:p>
            <a:pPr marL="312120" indent="-3121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anchor="t">
            <a:normAutofit fontScale="89000"/>
          </a:bodyPr>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машина огнём задышала (пора!),</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р в движенье привёл (молодцы мастера!)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ршень, вал-кривошип  (взад-вперёд, взад-вперёд).</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т волненья прошиб любопытный народ.</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вздохнули большие меха для литья-</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ребристым потоком хлестнула струя!</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Стеклянного взвоза,у самой реки,</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мянули механика ученики,</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сенили перстами творенье его…</a:t>
            </a:r>
            <a:endParaRPr b="0" lang="en-US" sz="1600" spc="-1" strike="noStrike">
              <a:solidFill>
                <a:srgbClr val="000000"/>
              </a:solidFill>
              <a:latin typeface="Times New Roman"/>
            </a:endParaRPr>
          </a:p>
          <a:p>
            <a:pPr marL="305280" indent="-3052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Он не дожил до пуска неделю всего!</a:t>
            </a:r>
            <a:endParaRPr b="0" lang="en-US" sz="1600" spc="-1" strike="noStrike">
              <a:solidFill>
                <a:srgbClr val="000000"/>
              </a:solidFill>
              <a:latin typeface="Times New Roman"/>
            </a:endParaRPr>
          </a:p>
          <a:p>
            <a:pPr marL="305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Было </a:t>
            </a:r>
            <a:endParaRPr b="0" lang="en-US" sz="4400" spc="-1" strike="noStrike">
              <a:solidFill>
                <a:srgbClr val="000000"/>
              </a:solidFill>
              <a:latin typeface="Times New Roman"/>
            </a:endParaRPr>
          </a:p>
        </p:txBody>
      </p:sp>
      <p:sp>
        <p:nvSpPr>
          <p:cNvPr id="79" name="Rectangle 3"/>
          <p:cNvSpPr/>
          <p:nvPr/>
        </p:nvSpPr>
        <p:spPr>
          <a:xfrm>
            <a:off x="0" y="1447920"/>
            <a:ext cx="9144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ru-RU" sz="1100" spc="-1" strike="noStrike">
                <a:solidFill>
                  <a:srgbClr val="000000"/>
                </a:solidFill>
                <a:latin typeface="Times New Roman"/>
              </a:rPr>
              <a:t>     </a:t>
            </a:r>
            <a:r>
              <a:rPr b="0" lang="en-US" sz="11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семирную славу Алтаю принесло и камнерезное искусство</a:t>
            </a:r>
            <a:r>
              <a:rPr b="0" lang="ru-RU" sz="2000" spc="-1" strike="noStrike">
                <a:solidFill>
                  <a:srgbClr val="ff0000"/>
                </a:solidFill>
                <a:latin typeface="Times New Roman"/>
              </a:rPr>
              <a:t>.</a:t>
            </a:r>
            <a:r>
              <a:rPr b="0" lang="en-US" sz="2000" spc="-1" strike="noStrike">
                <a:solidFill>
                  <a:srgbClr val="000000"/>
                </a:solidFill>
                <a:latin typeface="Times New Roman"/>
                <a:ea typeface="Times New Roman"/>
              </a:rPr>
              <a:t> На Алтае были обнаружены богатейшие запасы яшм, порфиров, мраморов, гранитов. При Екатерине II в глубинном селе Колывань, у подножия горы Синюхи, был основан камнерезный завод, ориентированный на изготовление крупных высокохудожественных изделий.</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Здесь были созданы мировые шедевры камнерезного искусства, многие из которых сохранились и до наших дней. Они находятся в залах Московского Кремля, в Эрмитаже,  в Гатчинском,  Павловском,  Пушкинском дворцах- музеях под  Петербургом.</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К концу 19 века горнозаводское дело на Алтае стало приходить в упадок. В 1893 году основные заводы были закрыты. Славная эпоха « серебряного» Алтая закончилас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ло </a:t>
            </a:r>
            <a:endParaRPr b="0" lang="en-US" sz="4400" spc="-1" strike="noStrike">
              <a:solidFill>
                <a:srgbClr val="000000"/>
              </a:solidFill>
              <a:latin typeface="Times New Roman"/>
            </a:endParaRPr>
          </a:p>
        </p:txBody>
      </p:sp>
      <p:sp>
        <p:nvSpPr>
          <p:cNvPr id="81" name="Rectangle 3"/>
          <p:cNvSpPr/>
          <p:nvPr/>
        </p:nvSpPr>
        <p:spPr>
          <a:xfrm>
            <a:off x="0" y="1523880"/>
            <a:ext cx="914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а смену пришёл Алтай аграрный и купеческий. Возросший спрос на сельскохозяйственную продукцию, строительство железных дорог способствовали массовому переселению крестьян из европейской части России на богатые вольные земли южной Сибири.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 начале XX века сельское хозяйство играло в экономике Алтая главную роль. В больших количествах производилась пшеница и другие зерновые культуры. Хлеб вывозился в северные уезды Западной Сибири, в Восточную Сибирь и Урал.</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колько сил, любви отдавалось и отдаётся алтайской земле-кормилице. А как торжественно и поэтично о труде хлеборобов, о земле, о хлебе писали алтайские поэты</a:t>
            </a:r>
            <a:r>
              <a:rPr b="0" lang="en-US" sz="2000" spc="-1" strike="noStrike">
                <a:solidFill>
                  <a:srgbClr val="000000"/>
                </a:solidFill>
                <a:latin typeface="Times New Roman"/>
              </a:rPr>
              <a:t> </a:t>
            </a:r>
            <a:r>
              <a:rPr b="0" lang="ru-RU"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А. Сотников</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Хлеб</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м трудам основа первозданная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равай пшеничный на столе.</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амая высокая гражданственность-</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увство уважения к земле.</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усть в любом селе утрами ранними</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хнет миром тёплый свежий хлеб.</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вая основа мироздания-</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леб у человека на столе.</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anchor="t">
            <a:normAutofit fontScale="86000"/>
          </a:bodyPr>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осле жатвы</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щё тепло, а с полевого стана,</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на пути скитальцы – журавли,</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жёлтому раздолью караваном </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лывут в село «степные корабли».</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кой зерна, обозом, песней звонкой</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шла с полей обильная страда,</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по стерне за трактором вдогонку</a:t>
            </a:r>
            <a:endParaRPr b="0" lang="en-US" sz="1600" spc="-1" strike="noStrike">
              <a:solidFill>
                <a:srgbClr val="000000"/>
              </a:solidFill>
              <a:latin typeface="Times New Roman"/>
            </a:endParaRPr>
          </a:p>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пять бежит, вскипая, борозда</a:t>
            </a:r>
            <a:r>
              <a:rPr b="0"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за рекой, в раскидистой долине,</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себе стада колхозные маня,</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горизонта на озимом клине </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вром весны лоснятся зеленя.</a:t>
            </a:r>
            <a:endParaRPr b="0" lang="en-US" sz="1600" spc="-1" strike="noStrike">
              <a:solidFill>
                <a:srgbClr val="000000"/>
              </a:solidFill>
              <a:latin typeface="Times New Roman"/>
            </a:endParaRPr>
          </a:p>
          <a:p>
            <a:pPr marL="294840" indent="-294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Анатолий Прохода</a:t>
            </a:r>
            <a:endParaRPr b="0" lang="en-US" sz="4400" spc="-1" strike="noStrike">
              <a:solidFill>
                <a:srgbClr val="000000"/>
              </a:solidFill>
              <a:latin typeface="Times New Roman"/>
            </a:endParaRPr>
          </a:p>
        </p:txBody>
      </p:sp>
      <p:sp>
        <p:nvSpPr>
          <p:cNvPr id="86" name="PlaceHolder 2"/>
          <p:cNvSpPr>
            <a:spLocks noGrp="1"/>
          </p:cNvSpPr>
          <p:nvPr>
            <p:ph/>
          </p:nvPr>
        </p:nvSpPr>
        <p:spPr>
          <a:xfrm>
            <a:off x="2499840" y="1523880"/>
            <a:ext cx="4357800" cy="45720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емной монолог                                     </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Я над пашней стою,</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 от солнца ослеп…</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откуда пришло</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 нам поверие это?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ало модным в любви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знаваться земле.</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жет, больше других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ом виновны поэты?</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к любовь доказать?</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словах - смертный грех,</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дь земля - не судья,</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казательств не спросит.</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на самых виновных,</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правых, и всех</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аже в трудные годы </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уском не обносит.</a:t>
            </a:r>
            <a:endParaRPr b="0" lang="en-US" sz="1400" spc="-1" strike="noStrike">
              <a:solidFill>
                <a:srgbClr val="000000"/>
              </a:solidFill>
              <a:latin typeface="Times New Roman"/>
            </a:endParaRPr>
          </a:p>
          <a:p>
            <a:pPr marL="329040" indent="-3290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0" y="1433520"/>
            <a:ext cx="9144000" cy="478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Земля моя, Алтай,</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Твоё величье дух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тепная Кулунд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ершинная Белух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бской равнинный плё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тёс, что древность видел,</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с хлебом не обнё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 словом не обидел.</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ороз- железо рвёт, жара-бетонка тает,</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 мой земляк поёт и в космосе летает!</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А те, что на земле, звёзд не хватают с неб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Раздумья на челе о вечной сути хлеб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Шумят в полях хлеба. И от хлебов светает.</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Завидная судьба - родиться на Алта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Геннадий Панов.</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емля моя, Алта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ло</a:t>
            </a:r>
            <a:endParaRPr b="0" lang="en-US" sz="4400" spc="-1" strike="noStrike">
              <a:solidFill>
                <a:srgbClr val="000000"/>
              </a:solidFill>
              <a:latin typeface="Times New Roman"/>
            </a:endParaRPr>
          </a:p>
        </p:txBody>
      </p:sp>
      <p:sp>
        <p:nvSpPr>
          <p:cNvPr id="88" name="PlaceHolder 2"/>
          <p:cNvSpPr>
            <a:spLocks noGrp="1"/>
          </p:cNvSpPr>
          <p:nvPr>
            <p:ph/>
          </p:nvPr>
        </p:nvSpPr>
        <p:spPr>
          <a:xfrm>
            <a:off x="1928520" y="1981080"/>
            <a:ext cx="5429160" cy="4114800"/>
          </a:xfrm>
          <a:prstGeom prst="rect">
            <a:avLst/>
          </a:prstGeom>
          <a:noFill/>
          <a:ln w="0">
            <a:noFill/>
          </a:ln>
        </p:spPr>
        <p:txBody>
          <a:bodyPr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огатая алтайская земля радовала не только хлебом, обширные пойменные луга давали возможность заниматься молочным животноводством и маслоделием, великолепные алтайские масло и сыр высоко ценились даже на рынках Западной Европы.</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ажнейшими центрами торговли стали Барнаул и Бийск. Они были крупнейшими пунктами скупки сельскохозяйственной</a:t>
            </a:r>
            <a:r>
              <a:rPr b="0" lang="ru-RU" sz="24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дукции. Через Бийск шла торговля с Монголией и Китаем. Активная купеческая деятельность благотворно повлияла на облик этих городов, и поныне доходные и жилые дома, построенные на рубеже веков, являются украшением Барнаула и Бийска.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лександр Зуев</a:t>
            </a:r>
            <a:endParaRPr b="0" lang="en-US" sz="3200" spc="-1" strike="noStrike">
              <a:solidFill>
                <a:srgbClr val="000000"/>
              </a:solidFill>
              <a:latin typeface="Times New Roman"/>
            </a:endParaRPr>
          </a:p>
        </p:txBody>
      </p:sp>
      <p:sp>
        <p:nvSpPr>
          <p:cNvPr id="90" name="PlaceHolder 2"/>
          <p:cNvSpPr>
            <a:spLocks noGrp="1"/>
          </p:cNvSpPr>
          <p:nvPr>
            <p:ph/>
          </p:nvPr>
        </p:nvSpPr>
        <p:spPr>
          <a:xfrm>
            <a:off x="2928960" y="1981080"/>
            <a:ext cx="421488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личник резной на окошке,</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аринных домов благодать…</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десь тополи, дети и кош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ерань, голубятни, года….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ково поэтическое воспоминание о родном городе Александра Зуева в его стихотворении « Старый Барнаул</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еликий перелом</a:t>
            </a:r>
            <a:endParaRPr b="0" lang="en-US" sz="4400" spc="-1" strike="noStrike">
              <a:solidFill>
                <a:srgbClr val="000000"/>
              </a:solidFill>
              <a:latin typeface="Times New Roman"/>
            </a:endParaRPr>
          </a:p>
        </p:txBody>
      </p:sp>
      <p:sp>
        <p:nvSpPr>
          <p:cNvPr id="92" name="PlaceHolder 2"/>
          <p:cNvSpPr>
            <a:spLocks noGrp="1"/>
          </p:cNvSpPr>
          <p:nvPr>
            <p:ph/>
          </p:nvPr>
        </p:nvSpPr>
        <p:spPr>
          <a:xfrm>
            <a:off x="499680" y="1981080"/>
            <a:ext cx="864396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тория Алтая </a:t>
            </a:r>
            <a:r>
              <a:rPr b="0" lang="en-US" sz="1800" spc="-1" strike="noStrike">
                <a:solidFill>
                  <a:srgbClr val="000000"/>
                </a:solidFill>
                <a:latin typeface="Times New Roman"/>
                <a:ea typeface="Times New Roman"/>
              </a:rPr>
              <a:t>XX</a:t>
            </a:r>
            <a:r>
              <a:rPr b="0" lang="ru-RU" sz="1800" spc="-1" strike="noStrike">
                <a:solidFill>
                  <a:srgbClr val="000000"/>
                </a:solidFill>
                <a:latin typeface="Times New Roman"/>
                <a:ea typeface="Times New Roman"/>
              </a:rPr>
              <a:t> века во многом схожа с историей всей России: революция, братоубийственная гражданская война, установление советской власт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вадцатые годы ознаменованы коллективизацией. Собственно, с Алтая и начался  «великий перелом» в жизни сибирского крестьянства.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еннадий Панов</a:t>
            </a:r>
            <a:endParaRPr b="0" lang="en-US" sz="4400" spc="-1" strike="noStrike">
              <a:solidFill>
                <a:srgbClr val="000000"/>
              </a:solidFill>
              <a:latin typeface="Times New Roman"/>
            </a:endParaRPr>
          </a:p>
        </p:txBody>
      </p:sp>
      <p:sp>
        <p:nvSpPr>
          <p:cNvPr id="94" name=""/>
          <p:cNvSpPr txBox="1"/>
          <p:nvPr/>
        </p:nvSpPr>
        <p:spPr>
          <a:xfrm>
            <a:off x="685800" y="1642680"/>
            <a:ext cx="7772400" cy="4452840"/>
          </a:xfrm>
          <a:prstGeom prst="rect">
            <a:avLst/>
          </a:prstGeom>
          <a:noFill/>
          <a:ln w="0">
            <a:noFill/>
          </a:ln>
        </p:spPr>
        <p:txBody>
          <a:bodyPr anchor="t">
            <a:normAutofit fontScale="87000"/>
          </a:bodyPr>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лхоз итожит трудный год,</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задки людям выдаёт</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по два центнера пшеницы-</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в складе</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ыль до потолка:</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лькают радостные плицы,</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 знает устали рука.</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кладовщик стоит, дивится</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 праздник</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ела и души.</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егодня плицы, словно птицы!</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Ты так, поэт, и напиши.)</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 взяв большую горсть пшеницы.</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помнил</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удрость старины:</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от так бы</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ждый день трудиться-</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нам бы</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е было</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цены!…</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Геннадий Панов</a:t>
            </a:r>
            <a:endParaRPr b="0" lang="en-US" sz="1200" spc="-1" strike="noStrike">
              <a:solidFill>
                <a:srgbClr val="000000"/>
              </a:solidFill>
              <a:latin typeface="Times New Roman"/>
            </a:endParaRPr>
          </a:p>
          <a:p>
            <a:pPr marL="298440" indent="-2984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Rectangle 6"/>
          <p:cNvSpPr/>
          <p:nvPr/>
        </p:nvSpPr>
        <p:spPr>
          <a:xfrm>
            <a:off x="4048200" y="2714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о имя Победы</a:t>
            </a:r>
            <a:endParaRPr b="0" lang="en-US" sz="4400" spc="-1" strike="noStrike">
              <a:solidFill>
                <a:srgbClr val="000000"/>
              </a:solidFill>
              <a:latin typeface="Times New Roman"/>
            </a:endParaRPr>
          </a:p>
        </p:txBody>
      </p:sp>
      <p:sp>
        <p:nvSpPr>
          <p:cNvPr id="97" name="Rectangle 3"/>
          <p:cNvSpPr/>
          <p:nvPr/>
        </p:nvSpPr>
        <p:spPr>
          <a:xfrm>
            <a:off x="0" y="261144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В тридцатые годы в истории Алтая произошло ещё одно событие. Постановлением ЦИК СССР от 28 сентября 1937 года был образован Алтайский край. В него вошли Ойротская (Горно-Алтайская) автономная область и 55 районов Западно-Сибирского края. К сороковым годам край превратился в один из крупнейших аграрно-индустриальных регионов стран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А потом была война…Великая Отечественная война…. Несмотря на то, что боевые действия проходили за тысячи километров от Алтая, жители края приняли в войне самое активное участие. В общей сложности Алтайский край дал фронту более 500 тысяч человек. Подвиг воинов – сибиряков чтит весь освобождённый от фашизма мир. Более 240 тысяч жизней - такова дань Алтая страшной войне. Вот как писал об этом участник ВОВ, наш земляк, Алексей Сотников,  в стихотворении « В окопа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Алексей Сотников</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fontScale="86000"/>
          </a:bodyPr>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гда сползёт в траншею с кручи</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лдат, ни слова не сказав,</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гда песок струёй сыпучей </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чёт в открытые глаза, -</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ы видим смерть. И пальцы сами</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прямо тянутся к куркам,</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скорби дым, и мести пламя</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шуют в залпе по врагам.</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вместе с тем, и это свято,</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гда солдат падёт в бою,</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уша поющего солдата</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алеет сироту- семью.</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ускай, недолог срок до боя,</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котором пасть ему черёд.</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помнит он, в село какое</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 семье кормилец не придёт.</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0000"/>
          </a:bodyPr>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спокойный час единый за день,</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точит карандаш штыком</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лист, разгладив на прикладе,</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н долго шепчет над листом;</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к будто тут, в окопе длинном.</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н - перед женщиной седой,</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 сотни раз оплачет сына,</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будет ждать его домой.</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ывает, дружная пехота</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друг распоётся - не унять.</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 и тогда не в силах рота</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быть горюющую мать.</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ют бойцы, а в песне снова</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ё те же горечь и беда.</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i="1" lang="ru-RU" sz="1400" spc="-1" strike="noStrike">
                <a:solidFill>
                  <a:srgbClr val="000000"/>
                </a:solidFill>
                <a:latin typeface="Times New Roman"/>
                <a:ea typeface="Times New Roman"/>
              </a:rPr>
              <a:t>…Жена найдёт себе другого,</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а мать сыночка - никогда»</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0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бщее дело</a:t>
            </a:r>
            <a:endParaRPr b="0" lang="en-US" sz="4400" spc="-1" strike="noStrike">
              <a:solidFill>
                <a:srgbClr val="000000"/>
              </a:solidFill>
              <a:latin typeface="Times New Roman"/>
            </a:endParaRPr>
          </a:p>
        </p:txBody>
      </p:sp>
      <p:sp>
        <p:nvSpPr>
          <p:cNvPr id="102" name="Rectangle 5"/>
          <p:cNvSpPr/>
          <p:nvPr/>
        </p:nvSpPr>
        <p:spPr>
          <a:xfrm>
            <a:off x="0" y="244332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рай снабжал фронт продовольствием, обмундированием. Особенно ценили бойцы знаменитые барнаульские полушубки и валенки. Все жители края, от подростков до стариков, трудились на Победу: монтировали оборудование, выпускали военную продукцию. И победили. Прошло уже полвека, а День Победы остаётся для нас самым почитаемым праздником.</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обилизация всех средств для обеспечения победы дала мощный толчок развитию индустрии на Алтае. За годы войны промышленное производство выросло в 1,6 раза, было построено более 50 крупных предприятий. В Барнауле снова вступили в строй действующих эвакуированные из западных районов страны заводы - транспортного машиностроения, котельный, механических прессов. Станкостроительный, в Новоалтайске - вагоностроительный, в Рубцовске - тракторны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Был ещё один звёздный час  Алтая - освоение целинных и залежных земел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б этом очень поэтично сказал </a:t>
            </a:r>
            <a:r>
              <a:rPr b="1" lang="en-US" sz="1800" spc="-1" strike="noStrike">
                <a:solidFill>
                  <a:srgbClr val="000000"/>
                </a:solidFill>
                <a:latin typeface="Times New Roman"/>
                <a:ea typeface="Times New Roman"/>
              </a:rPr>
              <a:t>Евгений Каширский</a:t>
            </a:r>
            <a:r>
              <a:rPr b="0" lang="en-US" sz="1800" spc="-1" strike="noStrike">
                <a:solidFill>
                  <a:srgbClr val="000000"/>
                </a:solidFill>
                <a:latin typeface="Times New Roman"/>
                <a:ea typeface="Times New Roman"/>
              </a:rPr>
              <a:t> в стихотворении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1357200" y="1981080"/>
            <a:ext cx="621504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Целина»</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шина стала.</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звенели ветры.</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Шофёр сказал:</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т это целина.</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ежит она на сотни километров,</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 зная вкуса хлебного зерна.</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жухлом ковыле белоголовом</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ались крылья утренней зар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верное, отсюда к Васнецову</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шли на полотно богатыри!</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Rectangle 8"/>
          <p:cNvSpPr/>
          <p:nvPr/>
        </p:nvSpPr>
        <p:spPr>
          <a:xfrm>
            <a:off x="3743280" y="2419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999720" y="928440"/>
            <a:ext cx="7286760" cy="516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ктивная индустриализация края в годы войны. Ускоренный подъём сельскохозяйственного производства в целинные годы энергично раскрутили маховик экономического развития Алтайского края. Край уверенно набирал силы. Строились современные кварталы городов. Появились и новые населённые пункты на карте Алтайского края, возводились гиганты индустрии, открывались новые вузы, школы, театры, дворцы культуры. Развивались не только города, но и сёла. Вот как описал родное село </a:t>
            </a:r>
            <a:r>
              <a:rPr b="1" lang="ru-RU" sz="2000" spc="-1" strike="noStrike">
                <a:solidFill>
                  <a:srgbClr val="000000"/>
                </a:solidFill>
                <a:latin typeface="Times New Roman"/>
                <a:ea typeface="Times New Roman"/>
              </a:rPr>
              <a:t>Геннадий Ударцев, уроженец села Анисимово Тальменского района: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 самом дорогом</a:t>
            </a:r>
            <a:endParaRPr b="0" lang="en-US" sz="4400" spc="-1" strike="noStrike">
              <a:solidFill>
                <a:srgbClr val="000000"/>
              </a:solidFill>
              <a:latin typeface="Times New Roman"/>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fontScale="83000"/>
          </a:bodyPr>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 в деревне, как издревле,</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одят гуси в клевере,</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сидят в моей деревне</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оробьи на дереве.</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сосны изба и сенки-</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смолистой звончатой,</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Я ступаю по ступенькам , </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к по колокольчикам.</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Я иду деревней. Где ты,</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ереулок с лывами?</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ут асфальты. Тут паркеты.</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Запорожцы» с « Нивами».</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емляки мои на город </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мотрят не без вызова:</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 кого, мол, будет скоро</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ольше телевизоров?</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олько я дивлюсь, не этим</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рибутам времени-</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колько тут , в деревне, света</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роскошной зелени.</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Люди старые твердили:</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Есть, мол, кущи райские…</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Я уверен, что затмили б</a:t>
            </a:r>
            <a:endParaRPr b="0" lang="en-US" sz="1200" spc="-1" strike="noStrike">
              <a:solidFill>
                <a:srgbClr val="000000"/>
              </a:solidFill>
              <a:latin typeface="Times New Roman"/>
            </a:endParaRPr>
          </a:p>
          <a:p>
            <a:pPr marL="284400" indent="-284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х края алтайские! </a:t>
            </a:r>
            <a:endParaRPr b="0" lang="en-US" sz="1200" spc="-1" strike="noStrike">
              <a:solidFill>
                <a:srgbClr val="000000"/>
              </a:solidFill>
              <a:latin typeface="Times New Roman"/>
            </a:endParaRPr>
          </a:p>
          <a:p>
            <a:pPr marL="2844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09" name="Picture 8" descr="C:\Documents and Settings\Эльдорадо\Мои документы\школа\разн\мои наработки\воспитт. раб\алтай скан\с.к. домик у дороги.jpg"/>
          <p:cNvPicPr/>
          <p:nvPr/>
        </p:nvPicPr>
        <p:blipFill>
          <a:blip r:embed="rId1"/>
          <a:stretch/>
        </p:blipFill>
        <p:spPr>
          <a:xfrm>
            <a:off x="4983120" y="1981080"/>
            <a:ext cx="31384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Алтайский край</a:t>
            </a:r>
            <a:endParaRPr b="0" lang="en-US" sz="4400" spc="-1" strike="noStrike">
              <a:solidFill>
                <a:srgbClr val="000000"/>
              </a:solidFill>
              <a:latin typeface="Times New Roman"/>
            </a:endParaRPr>
          </a:p>
        </p:txBody>
      </p:sp>
      <p:sp>
        <p:nvSpPr>
          <p:cNvPr id="4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йти Алтайский край несложно. Посмотрите на карту мира. В самом центре Евразии маленький жёлтый флажок. Это и есть Алтайский край. Конфигурация территории края напоминает развевающийся на ветру флаг. Жёлтый цвет выбран не по политическим соображениям. Слово « Алтай» происходит от тюркского «алтан»-«золотой»За сказочную красоту дано нашей земле такое название.</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8" name="Picture 7" descr="Алтай - душа"/>
          <p:cNvPicPr/>
          <p:nvPr/>
        </p:nvPicPr>
        <p:blipFill>
          <a:blip r:embed="rId1"/>
          <a:stretch/>
        </p:blipFill>
        <p:spPr>
          <a:xfrm>
            <a:off x="689040" y="2719440"/>
            <a:ext cx="3803760" cy="263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 богатстве Алтая</a:t>
            </a:r>
            <a:endParaRPr b="0" lang="en-US" sz="4400" spc="-1" strike="noStrike">
              <a:solidFill>
                <a:srgbClr val="000000"/>
              </a:solidFill>
              <a:latin typeface="Times New Roman"/>
            </a:endParaRPr>
          </a:p>
        </p:txBody>
      </p:sp>
      <p:sp>
        <p:nvSpPr>
          <p:cNvPr id="111" name="Rectangle 3"/>
          <p:cNvSpPr/>
          <p:nvPr/>
        </p:nvSpPr>
        <p:spPr>
          <a:xfrm>
            <a:off x="0" y="2625840"/>
            <a:ext cx="914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Алтай набирал силы, известность его росла, и к началу девяностых годов он встал в один ряд с ведущими регионами страны. Его успехи отмечены двумя высшими государственными наградам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Да, богат Алтайский край. Богат своей историей. Богат ресурсами. А главное его богатство- люди! Семья у нас большая, свыше 2686, 4 тысяч человек. В мире и согласии живут десятки национальностей: более 90 % -русские,3,9%- немцы,2,9 % - украинцы. Другие национальности представлены немногочисленными группами. В состав края входит Немецкий национальный район, работает Центр немецкой культур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Иностранные гости отмечают высокую образованность жителей Алтайского края, способность сибиряков уверенно включаться в серьёзные проекты, их партнёрскую надёжность. Да и как может быть иначе, ведь на земле Алтайской живут потомки покорителей Сибири - людей мужественных, сметливых, для которых риск был привычным делом.</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Физически сибиряки крупнее  других россиян, круче в плечах, действуют спокойнее, увереннее - Сибирь не терпит суетливых.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этический образ нашего земляка - крепкого, трудолюбивого сибиряка можно увидеть в поэме- хронике </a:t>
            </a:r>
            <a:r>
              <a:rPr b="1" lang="ru-RU" sz="1600" spc="-1" strike="noStrike">
                <a:solidFill>
                  <a:srgbClr val="000000"/>
                </a:solidFill>
                <a:latin typeface="Times New Roman"/>
                <a:ea typeface="Times New Roman"/>
              </a:rPr>
              <a:t>Геннадия Панова «Сын села</a:t>
            </a: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Геннади</a:t>
            </a:r>
            <a:r>
              <a:rPr b="1" lang="ru-RU" sz="3200" spc="-1" strike="noStrike">
                <a:solidFill>
                  <a:srgbClr val="000000"/>
                </a:solidFill>
                <a:latin typeface="Times New Roman"/>
              </a:rPr>
              <a:t>й</a:t>
            </a:r>
            <a:r>
              <a:rPr b="1" lang="ru-RU" sz="3200" spc="-1" strike="noStrike">
                <a:solidFill>
                  <a:srgbClr val="000000"/>
                </a:solidFill>
                <a:latin typeface="Times New Roman"/>
                <a:ea typeface="Times New Roman"/>
              </a:rPr>
              <a:t> Панов</a:t>
            </a:r>
            <a:endParaRPr b="0" lang="en-US" sz="32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fontScale="92000"/>
          </a:bodyPr>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 Отцовская сила»</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родилась трава на славу,</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а- мужику по грудь.</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гласили песни дубраву:</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шел в поле « Единый путь».</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т струится , трещат рубахи,</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олнце выкатилось слепить.</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ж землёю и небом птахи </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дрываются, просят пить.</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Эй, Петро Панов, отдохни-ка,</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то завёлся, как трактор прёшь!</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Кровенеет в траве клубника,</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падёшь - губами берёшь.</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вариха наварит каши-</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поле ужинать хорошо! -</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Дружно ложки по кругу пляшут:</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Эй, Петро, положить ещё?</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ыпьет квасу ведро, как банку,</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 до зорьки гулять айда.</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тепь не вывернешь наизнанку,</a:t>
            </a:r>
            <a:endParaRPr b="0" lang="en-US" sz="1200" spc="-1" strike="noStrike">
              <a:solidFill>
                <a:srgbClr val="000000"/>
              </a:solidFill>
              <a:latin typeface="Times New Roman"/>
            </a:endParaRPr>
          </a:p>
          <a:p>
            <a:pPr marL="315360" indent="-3153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олчалива над ней звезда.</a:t>
            </a:r>
            <a:endParaRPr b="0" lang="en-US" sz="1200" spc="-1" strike="noStrike">
              <a:solidFill>
                <a:srgbClr val="000000"/>
              </a:solidFill>
              <a:latin typeface="Times New Roman"/>
            </a:endParaRPr>
          </a:p>
          <a:p>
            <a:pPr marL="3153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4" name="Picture 8" descr="C:\Documents and Settings\Эльдорадо\Мои документы\школа\разн\мои наработки\воспитт. раб\алтай скан\P037_097.JPG"/>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Геннадий Жиров</a:t>
            </a:r>
            <a:endParaRPr b="0" lang="en-US" sz="2800" spc="-1" strike="noStrike">
              <a:solidFill>
                <a:srgbClr val="000000"/>
              </a:solidFill>
              <a:latin typeface="Times New Roman"/>
            </a:endParaRPr>
          </a:p>
        </p:txBody>
      </p:sp>
      <p:sp>
        <p:nvSpPr>
          <p:cNvPr id="116" name="PlaceHolder 2"/>
          <p:cNvSpPr>
            <a:spLocks noGrp="1"/>
          </p:cNvSpPr>
          <p:nvPr>
            <p:ph/>
          </p:nvPr>
        </p:nvSpPr>
        <p:spPr>
          <a:xfrm>
            <a:off x="4647960" y="1981080"/>
            <a:ext cx="3809880" cy="4114800"/>
          </a:xfrm>
          <a:prstGeom prst="rect">
            <a:avLst/>
          </a:prstGeom>
          <a:noFill/>
          <a:ln w="0">
            <a:noFill/>
          </a:ln>
        </p:spPr>
        <p:txBody>
          <a:bodyPr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риглашение в Налобиху</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ведомо, с какой и с чьей руки</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 лбу увала счёт открыт домишкам.</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ело на лбу, - язвили остряки.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приросло: Налобиха и – крышка.</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с речкой тоже вышло наобум:</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отя бобры в ней никогда не жили,</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 всё ж взбрело озорникам на ум-</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обровкою в насмешку окрестили.</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 ты к нам лучше в гости приезжай.</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 хвастаюсь. Чудес увидишь вдоволь,</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тоб убедиться - наш Бобровский край</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 солнца – медный, от цветов – медовый.</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пусть речушка узенька, мелка,</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итай, любую кочку огибает.</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 это детства моего строка,</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дна строка, но ярко-голубая.</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Rectangle 6"/>
          <p:cNvSpPr/>
          <p:nvPr/>
        </p:nvSpPr>
        <p:spPr>
          <a:xfrm>
            <a:off x="3833640" y="2924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7" descr="Аг. Р."/>
          <p:cNvPicPr/>
          <p:nvPr/>
        </p:nvPicPr>
        <p:blipFill>
          <a:blip r:embed="rId1"/>
          <a:stretch/>
        </p:blipFill>
        <p:spPr>
          <a:xfrm>
            <a:off x="685800" y="2735280"/>
            <a:ext cx="3809880" cy="2604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Иван Мордвинов</a:t>
            </a:r>
            <a:r>
              <a:rPr b="1" lang="ru-RU" sz="3200" spc="-1" strike="noStrike">
                <a:solidFill>
                  <a:srgbClr val="000000"/>
                </a:solidFill>
                <a:latin typeface="Times New Roman"/>
              </a:rPr>
              <a:t>  </a:t>
            </a:r>
            <a:r>
              <a:rPr b="0"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На РОДИНЕ</a:t>
            </a:r>
            <a:r>
              <a:rPr b="0" lang="ru-RU"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120" name="PlaceHolder 2"/>
          <p:cNvSpPr>
            <a:spLocks noGrp="1"/>
          </p:cNvSpPr>
          <p:nvPr>
            <p:ph/>
          </p:nvPr>
        </p:nvSpPr>
        <p:spPr>
          <a:xfrm>
            <a:off x="1928880" y="1981080"/>
            <a:ext cx="564336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 Алтайском крае говорить можно бесконечно… Он красив, могуч, бога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 вместе с ним богаты и мы, живущие на Алтае. Богаты от осознания того, что у нас есть место, где всё нам мило и дорого - наша малая РОДИНА - Алтайский кра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ван Мордвинов</a:t>
            </a:r>
            <a:r>
              <a:rPr b="0" lang="ru-RU" sz="2400" spc="-1" strike="noStrike">
                <a:solidFill>
                  <a:srgbClr val="000000"/>
                </a:solidFill>
                <a:latin typeface="Times New Roman"/>
                <a:ea typeface="Times New Roman"/>
              </a:rPr>
              <a:t>    « </a:t>
            </a:r>
            <a:r>
              <a:rPr b="1" lang="ru-RU" sz="2400" spc="-1" strike="noStrike">
                <a:solidFill>
                  <a:srgbClr val="000000"/>
                </a:solidFill>
                <a:latin typeface="Times New Roman"/>
                <a:ea typeface="Times New Roman"/>
              </a:rPr>
              <a:t>На РОДИНЕ</a:t>
            </a:r>
            <a:r>
              <a:rPr b="0" lang="ru-RU" sz="2400" spc="-1" strike="noStrike">
                <a:solidFill>
                  <a:srgbClr val="000000"/>
                </a:solidFill>
                <a:latin typeface="Times New Roman"/>
                <a:ea typeface="Times New Roman"/>
              </a:rPr>
              <a:t>»</a:t>
            </a:r>
            <a:r>
              <a:rPr b="0" lang="ru-RU" sz="4400" spc="-1" strike="noStrike">
                <a:solidFill>
                  <a:srgbClr val="000000"/>
                </a:solidFill>
                <a:latin typeface="Times New Roman"/>
                <a:ea typeface="Times New Roman"/>
              </a:rPr>
              <a:t> </a:t>
            </a:r>
            <a:br>
              <a:rPr sz="4400"/>
            </a:br>
            <a:br>
              <a:rPr sz="4400"/>
            </a:br>
            <a:endParaRPr b="0" lang="en-US" sz="4400" spc="-1" strike="noStrike">
              <a:solidFill>
                <a:srgbClr val="000000"/>
              </a:solidFill>
              <a:latin typeface="Times New Roman"/>
            </a:endParaRPr>
          </a:p>
        </p:txBody>
      </p:sp>
      <p:sp>
        <p:nvSpPr>
          <p:cNvPr id="122" name="PlaceHolder 2"/>
          <p:cNvSpPr>
            <a:spLocks noGrp="1"/>
          </p:cNvSpPr>
          <p:nvPr>
            <p:ph/>
          </p:nvPr>
        </p:nvSpPr>
        <p:spPr>
          <a:xfrm>
            <a:off x="3286080" y="1981080"/>
            <a:ext cx="3286080" cy="4114800"/>
          </a:xfrm>
          <a:prstGeom prst="rect">
            <a:avLst/>
          </a:prstGeom>
          <a:noFill/>
          <a:ln w="0">
            <a:noFill/>
          </a:ln>
        </p:spPr>
        <p:txBody>
          <a:bodyPr anchor="t">
            <a:normAutofit fontScale="90000"/>
          </a:bodyPr>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родине поля без края,</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зелёном мареве леса,</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десь наши дети вырастают</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обретают голоса.</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десь, как и я однажды, близко</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свой срок нагрянувшей весной</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ын ощутит у обелиска </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пло и боль земли родной.</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нём будет жить моё волненье,</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 оборвётся предков нить.</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емли весеннее цветенье</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ой сын сумеет сохранить.</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как бы не гудели ветры</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не металось вороньё-</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д родиной восходы светлы</a:t>
            </a:r>
            <a:endParaRPr b="0" lang="en-US" sz="1400" spc="-1" strike="noStrike">
              <a:solidFill>
                <a:srgbClr val="000000"/>
              </a:solidFill>
              <a:latin typeface="Times New Roman"/>
            </a:endParaRPr>
          </a:p>
          <a:p>
            <a:pPr marL="308520" indent="-30852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чисты помыслы её.</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4400" spc="-1" strike="noStrike">
                <a:solidFill>
                  <a:srgbClr val="000000"/>
                </a:solidFill>
                <a:latin typeface="Times New Roman"/>
                <a:ea typeface="Times New Roman"/>
              </a:rPr>
              <a:t>Обь                                                      Валерий Крючков </a:t>
            </a:r>
            <a:endParaRPr b="0" lang="en-US" sz="4400" spc="-1" strike="noStrike">
              <a:solidFill>
                <a:srgbClr val="000000"/>
              </a:solidFill>
              <a:latin typeface="Times New Roman"/>
            </a:endParaRPr>
          </a:p>
        </p:txBody>
      </p:sp>
      <p:sp>
        <p:nvSpPr>
          <p:cNvPr id="124" name="PlaceHolder 2"/>
          <p:cNvSpPr>
            <a:spLocks noGrp="1"/>
          </p:cNvSpPr>
          <p:nvPr>
            <p:ph/>
          </p:nvPr>
        </p:nvSpPr>
        <p:spPr>
          <a:xfrm>
            <a:off x="4647960" y="1981080"/>
            <a:ext cx="3809880" cy="4114800"/>
          </a:xfrm>
          <a:prstGeom prst="rect">
            <a:avLst/>
          </a:prstGeom>
          <a:noFill/>
          <a:ln w="0">
            <a:noFill/>
          </a:ln>
        </p:spPr>
        <p:txBody>
          <a:bodyPr anchor="t">
            <a:normAutofit fontScale="88000"/>
          </a:bodyPr>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авно тебя самоеды</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бушкой - « Обя » прозвали.</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исчислимые леты,</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ысячеверстные дали.</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олько народов вспоила,</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пасши от глада и мора, -</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кумандинских аилов</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до студёного моря.</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ть ли река величавей,</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ть ли просторнее воды?</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десь оно, наше начало,</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ней наши главные годы.</a:t>
            </a:r>
            <a:endParaRPr b="0" lang="en-US" sz="16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ыбке качала, венчала,</a:t>
            </a:r>
            <a:endParaRPr b="0" lang="en-US" sz="1600" spc="-1" strike="noStrike">
              <a:solidFill>
                <a:srgbClr val="000000"/>
              </a:solidFill>
              <a:latin typeface="Times New Roman"/>
            </a:endParaRPr>
          </a:p>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 дома</a:t>
            </a:r>
            <a:r>
              <a:rPr b="0" lang="ru-RU" sz="2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чала за счастьем,</a:t>
            </a:r>
            <a:endParaRPr b="0" lang="en-US" sz="1400" spc="-1" strike="noStrike">
              <a:solidFill>
                <a:srgbClr val="000000"/>
              </a:solidFill>
              <a:latin typeface="Times New Roman"/>
            </a:endParaRPr>
          </a:p>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возвращала к причалам</a:t>
            </a:r>
            <a:endParaRPr b="0" lang="en-US" sz="1400" spc="-1" strike="noStrike">
              <a:solidFill>
                <a:srgbClr val="000000"/>
              </a:solidFill>
              <a:latin typeface="Times New Roman"/>
            </a:endParaRPr>
          </a:p>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шёпотом:</a:t>
            </a:r>
            <a:endParaRPr b="0" lang="en-US" sz="1400" spc="-1" strike="noStrike">
              <a:solidFill>
                <a:srgbClr val="000000"/>
              </a:solidFill>
              <a:latin typeface="Times New Roman"/>
            </a:endParaRPr>
          </a:p>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Бабушка, здравствуй!</a:t>
            </a:r>
            <a:endParaRPr b="0" lang="en-US" sz="1400" spc="-1" strike="noStrike">
              <a:solidFill>
                <a:srgbClr val="000000"/>
              </a:solidFill>
              <a:latin typeface="Times New Roman"/>
            </a:endParaRPr>
          </a:p>
        </p:txBody>
      </p:sp>
      <p:sp>
        <p:nvSpPr>
          <p:cNvPr id="125" name="Rectangle 6"/>
          <p:cNvSpPr/>
          <p:nvPr/>
        </p:nvSpPr>
        <p:spPr>
          <a:xfrm>
            <a:off x="3510000" y="2890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Picture 7" descr="дет.рис. 008"/>
          <p:cNvPicPr/>
          <p:nvPr/>
        </p:nvPicPr>
        <p:blipFill>
          <a:blip r:embed="rId1"/>
          <a:stretch/>
        </p:blipFill>
        <p:spPr>
          <a:xfrm>
            <a:off x="685800" y="3073320"/>
            <a:ext cx="3809880" cy="1930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зба                                    Геннадий Панов</a:t>
            </a:r>
            <a:r>
              <a:rPr b="0" lang="ru-RU" sz="4400" spc="-1" strike="noStrike">
                <a:solidFill>
                  <a:srgbClr val="ff0000"/>
                </a:solidFill>
                <a:latin typeface="Times New Roman"/>
                <a:ea typeface="Times New Roman"/>
              </a:rPr>
              <a:t> </a:t>
            </a:r>
            <a:endParaRPr b="0" lang="en-US" sz="4400" spc="-1" strike="noStrike">
              <a:solidFill>
                <a:srgbClr val="000000"/>
              </a:solidFill>
              <a:latin typeface="Times New Roman"/>
            </a:endParaRPr>
          </a:p>
        </p:txBody>
      </p:sp>
      <p:sp>
        <p:nvSpPr>
          <p:cNvPr id="128" name="PlaceHolder 2"/>
          <p:cNvSpPr>
            <a:spLocks noGrp="1"/>
          </p:cNvSpPr>
          <p:nvPr>
            <p:ph/>
          </p:nvPr>
        </p:nvSpPr>
        <p:spPr>
          <a:xfrm>
            <a:off x="4647960" y="1981080"/>
            <a:ext cx="3809880" cy="4114800"/>
          </a:xfrm>
          <a:prstGeom prst="rect">
            <a:avLst/>
          </a:prstGeom>
          <a:noFill/>
          <a:ln w="0">
            <a:noFill/>
          </a:ln>
        </p:spPr>
        <p:txBody>
          <a:bodyPr anchor="t">
            <a:normAutofit fontScale="94000"/>
          </a:bodyPr>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иву в бревенчатой избе-</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ставни красные в резьбе.</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гда усталая планета</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пит неспокойно в тишине,</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избе задолго до рассвета</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гонь</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теплится в окне.</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 подпирая мир углами</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в них не иструх столетний мох!),</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ба стоит,</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в сказке камень,</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перепутье</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сех дорог.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129" name="Rectangle 6"/>
          <p:cNvSpPr/>
          <p:nvPr/>
        </p:nvSpPr>
        <p:spPr>
          <a:xfrm>
            <a:off x="3881520" y="2928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 name="Picture 7" descr="б.л. родная улочка"/>
          <p:cNvPicPr/>
          <p:nvPr/>
        </p:nvPicPr>
        <p:blipFill>
          <a:blip r:embed="rId1"/>
          <a:stretch/>
        </p:blipFill>
        <p:spPr>
          <a:xfrm>
            <a:off x="685800" y="1828800"/>
            <a:ext cx="3809880" cy="3962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Ночь      </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Валерий Котелене</a:t>
            </a:r>
            <a:r>
              <a:rPr b="0" lang="ru-RU" sz="4400" spc="-1" strike="noStrike">
                <a:solidFill>
                  <a:srgbClr val="ff0000"/>
                </a:solidFill>
                <a:latin typeface="Times New Roman"/>
                <a:ea typeface="Times New Roman"/>
              </a:rPr>
              <a:t> </a:t>
            </a:r>
            <a:endParaRPr b="0" lang="en-US" sz="4400" spc="-1" strike="noStrike">
              <a:solidFill>
                <a:srgbClr val="000000"/>
              </a:solidFill>
              <a:latin typeface="Times New Roman"/>
            </a:endParaRPr>
          </a:p>
        </p:txBody>
      </p:sp>
      <p:sp>
        <p:nvSpPr>
          <p:cNvPr id="132" name="PlaceHolder 2"/>
          <p:cNvSpPr>
            <a:spLocks noGrp="1"/>
          </p:cNvSpPr>
          <p:nvPr>
            <p:ph/>
          </p:nvPr>
        </p:nvSpPr>
        <p:spPr>
          <a:xfrm>
            <a:off x="2500200" y="1981080"/>
            <a:ext cx="3929040" cy="4114800"/>
          </a:xfrm>
          <a:prstGeom prst="rect">
            <a:avLst/>
          </a:prstGeom>
          <a:noFill/>
          <a:ln w="0">
            <a:noFill/>
          </a:ln>
        </p:spPr>
        <p:txBody>
          <a:bodyPr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чь вздыхает, щёлкает, стрекочет,</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елестит и стонет вдалеке,</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о-то непонятное бормочет</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своём заумном языке.</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умный бор толпится за деревней.</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лачет ветер. Ухает сова.</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 о чём, тревожные деревья?</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 о чём, печальные стога?</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ожди, обидчивая птица,</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спеши, не улетай во тьму.</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моги мне снова научиться</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Языку родному моему.</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Людмила Короткина</a:t>
            </a:r>
            <a:br>
              <a:rPr sz="2800"/>
            </a:br>
            <a:endParaRPr b="0" lang="en-US" sz="2800" spc="-1" strike="noStrike">
              <a:solidFill>
                <a:srgbClr val="000000"/>
              </a:solidFill>
              <a:latin typeface="Times New Roman"/>
            </a:endParaRPr>
          </a:p>
        </p:txBody>
      </p:sp>
      <p:sp>
        <p:nvSpPr>
          <p:cNvPr id="134" name="PlaceHolder 2"/>
          <p:cNvSpPr>
            <a:spLocks noGrp="1"/>
          </p:cNvSpPr>
          <p:nvPr>
            <p:ph/>
          </p:nvPr>
        </p:nvSpPr>
        <p:spPr>
          <a:xfrm>
            <a:off x="4647960" y="1981080"/>
            <a:ext cx="3809880" cy="41148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тица белая, белым крылом</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сени сиротливый мой дом.</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усть он вспомнит забытый полёт.</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усть он ставнями смело взмахнёт…</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лько ставни от боли свело.</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 поднимется дом на крыло.                      </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6" descr="C:\Documents and Settings\Эльдорадо\Мои документы\школа\разн\мои наработки\воспитт. раб\алтай скан\Фр.С домик.jpg"/>
          <p:cNvPicPr/>
          <p:nvPr/>
        </p:nvPicPr>
        <p:blipFill>
          <a:blip r:embed="rId1"/>
          <a:stretch/>
        </p:blipFill>
        <p:spPr>
          <a:xfrm>
            <a:off x="685800" y="2619360"/>
            <a:ext cx="3809880" cy="2836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Леонид Мерзликин</a:t>
            </a:r>
            <a:br>
              <a:rPr sz="2800"/>
            </a:br>
            <a:endParaRPr b="0" lang="en-US" sz="2800" spc="-1" strike="noStrike">
              <a:solidFill>
                <a:srgbClr val="000000"/>
              </a:solidFill>
              <a:latin typeface="Times New Roman"/>
            </a:endParaRPr>
          </a:p>
        </p:txBody>
      </p:sp>
      <p:sp>
        <p:nvSpPr>
          <p:cNvPr id="137" name="PlaceHolder 2"/>
          <p:cNvSpPr>
            <a:spLocks noGrp="1"/>
          </p:cNvSpPr>
          <p:nvPr>
            <p:ph/>
          </p:nvPr>
        </p:nvSpPr>
        <p:spPr>
          <a:xfrm>
            <a:off x="2285640" y="1981080"/>
            <a:ext cx="442908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глажу ствол берёзки бел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траву прилягу - благода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х, что ни думай, что ни дела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 слёз в душе не удержа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не эти слёзы - очищенье.</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и теплы, они тих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 я готов просить прощенье</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 несвершённые грехи.</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Анатолий Шестаков</a:t>
            </a:r>
            <a:endParaRPr b="0" lang="en-US" sz="4400" spc="-1" strike="noStrike">
              <a:solidFill>
                <a:srgbClr val="000000"/>
              </a:solidFill>
              <a:latin typeface="Times New Roman"/>
            </a:endParaRPr>
          </a:p>
        </p:txBody>
      </p:sp>
      <p:sp>
        <p:nvSpPr>
          <p:cNvPr id="50" name="PlaceHolder 2"/>
          <p:cNvSpPr>
            <a:spLocks noGrp="1"/>
          </p:cNvSpPr>
          <p:nvPr>
            <p:ph/>
          </p:nvPr>
        </p:nvSpPr>
        <p:spPr>
          <a:xfrm>
            <a:off x="2214720" y="1981080"/>
            <a:ext cx="6929280" cy="4114800"/>
          </a:xfrm>
          <a:prstGeom prst="rect">
            <a:avLst/>
          </a:prstGeom>
          <a:noFill/>
          <a:ln w="0">
            <a:noFill/>
          </a:ln>
        </p:spPr>
        <p:txBody>
          <a:bodyPr anchor="t">
            <a:normAutofit fontScale="82000"/>
          </a:bodyPr>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Алтай»</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сота…Ветер осени ласков.                              </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ка - хоть плечом подпирай…</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внизу, в предрассветных красках, </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ахнулся дремотный Алтай.</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ры слева, долины - справа.</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Жилки рек, нити троп и дорог…</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а! Назвать его веще «Ал-тау»</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 высокий кому-то помог.</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то нарёк? Не узнать про это.</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м он был? Древним старцем? юнцом?</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беждён, что в душе был поэтом</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любившим свой край мудрецом…</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Высота. Небо  осени молодо.</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д Алтаем – голубизна.</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арит людям природное золото</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олочёных кедров страна!</a:t>
            </a:r>
            <a:endParaRPr b="0" lang="en-US" sz="1400" spc="-1" strike="noStrike">
              <a:solidFill>
                <a:srgbClr val="000000"/>
              </a:solidFill>
              <a:latin typeface="Times New Roman"/>
            </a:endParaRPr>
          </a:p>
          <a:p>
            <a:pPr marL="281160" indent="-2811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Фарида Габдраупова</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9"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лнце жадно пьёт из лужи-</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 зиму оголодало.</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Языком шершавым сушит</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нег прогорклый и проталый.</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вые ресницы клеит</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ткам, плачущим от счастья,</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живают и полнеют</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к затёкшие запястья.</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валились улиц щёки,</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лнце сытое окрепло,</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a:t>
            </a:r>
            <a:r>
              <a:rPr b="0" lang="ru-RU" sz="24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есь день сметает щёткой</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нега грязные отрепья.</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140" name="Rectangle 6"/>
          <p:cNvSpPr/>
          <p:nvPr/>
        </p:nvSpPr>
        <p:spPr>
          <a:xfrm>
            <a:off x="4071960" y="270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Picture 7" descr="б.л весна"/>
          <p:cNvPicPr/>
          <p:nvPr/>
        </p:nvPicPr>
        <p:blipFill>
          <a:blip r:embed="rId1"/>
          <a:stretch/>
        </p:blipFill>
        <p:spPr>
          <a:xfrm>
            <a:off x="1160640" y="1981080"/>
            <a:ext cx="286056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ень                                                                         Геннадий Панов.</a:t>
            </a:r>
            <a:br>
              <a:rPr sz="2800"/>
            </a:br>
            <a:endParaRPr b="0" lang="en-US" sz="2800" spc="-1" strike="noStrike">
              <a:solidFill>
                <a:srgbClr val="000000"/>
              </a:solidFill>
              <a:latin typeface="Times New Roman"/>
            </a:endParaRPr>
          </a:p>
        </p:txBody>
      </p:sp>
      <p:sp>
        <p:nvSpPr>
          <p:cNvPr id="143" name="PlaceHolder 2"/>
          <p:cNvSpPr>
            <a:spLocks noGrp="1"/>
          </p:cNvSpPr>
          <p:nvPr>
            <p:ph/>
          </p:nvPr>
        </p:nvSpPr>
        <p:spPr>
          <a:xfrm>
            <a:off x="4647960" y="1981080"/>
            <a:ext cx="3809880" cy="4114800"/>
          </a:xfrm>
          <a:prstGeom prst="rect">
            <a:avLst/>
          </a:prstGeom>
          <a:noFill/>
          <a:ln w="0">
            <a:noFill/>
          </a:ln>
        </p:spPr>
        <p:txBody>
          <a:bodyPr anchor="t">
            <a:normAutofit fontScale="79000"/>
          </a:bodyPr>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о осень горит.</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дишь:</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стья, краснея, дрожат.</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о осень горит.</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тки гроздья устали держать.</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оро выпадет снег,</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над миром взойдёт белизна,</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оро выпадет снег, </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предчувствие белого сна.</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оро выпадет снег.</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пока так легки облака.</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с стоит, как во сне,</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 колеблется тихо река.</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дишь:</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стья осин, догорая,</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рожат на ветру.</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оро выпадет снег.</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жиданно так.</a:t>
            </a:r>
            <a:endParaRPr b="0" lang="en-US" sz="1600" spc="-1" strike="noStrike">
              <a:solidFill>
                <a:srgbClr val="000000"/>
              </a:solidFill>
              <a:latin typeface="Times New Roman"/>
            </a:endParaRPr>
          </a:p>
          <a:p>
            <a:pPr marL="270720" indent="-2707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утру.</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4" name="Rectangle 6"/>
          <p:cNvSpPr/>
          <p:nvPr/>
        </p:nvSpPr>
        <p:spPr>
          <a:xfrm>
            <a:off x="4038480" y="2657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7" descr="краски осени"/>
          <p:cNvPicPr/>
          <p:nvPr/>
        </p:nvPicPr>
        <p:blipFill>
          <a:blip r:embed="rId1"/>
          <a:stretch/>
        </p:blipFill>
        <p:spPr>
          <a:xfrm>
            <a:off x="1168560" y="1981080"/>
            <a:ext cx="284472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Ёлочки</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Иван Игнатьев</a:t>
            </a:r>
            <a:br>
              <a:rPr sz="2800"/>
            </a:br>
            <a:endParaRPr b="0" lang="en-US" sz="2800" spc="-1" strike="noStrike">
              <a:solidFill>
                <a:srgbClr val="000000"/>
              </a:solidFill>
              <a:latin typeface="Times New Roman"/>
            </a:endParaRPr>
          </a:p>
        </p:txBody>
      </p:sp>
      <p:sp>
        <p:nvSpPr>
          <p:cNvPr id="147" name="PlaceHolder 2"/>
          <p:cNvSpPr>
            <a:spLocks noGrp="1"/>
          </p:cNvSpPr>
          <p:nvPr>
            <p:ph/>
          </p:nvPr>
        </p:nvSpPr>
        <p:spPr>
          <a:xfrm>
            <a:off x="4647960" y="1981080"/>
            <a:ext cx="3809880" cy="4114800"/>
          </a:xfrm>
          <a:prstGeom prst="rect">
            <a:avLst/>
          </a:prstGeom>
          <a:noFill/>
          <a:ln w="0">
            <a:noFill/>
          </a:ln>
        </p:spPr>
        <p:txBody>
          <a:bodyPr anchor="t">
            <a:normAutofit fontScale="86000"/>
          </a:bodyPr>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одеты с иголочки </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т корней до вершин,</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шли ёжики-ёлочки</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 таёжной глуши.</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у осинника,</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 смущённых берёз</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ингисханил над ними</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едоусый Мороз</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коловшись о свежесть их</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верхземной прямоты,</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збеленившейся снежностью</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тер гнул их хребты.</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 они, не напуганы</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орькой дрожью осин,</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перялись рискованным</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тремлением в синь.</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 пускай, как окажется,</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 звёздам взмыть - не пустяк,</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лед за ними увяжется</a:t>
            </a:r>
            <a:endParaRPr b="0" lang="en-US" sz="1400" spc="-1" strike="noStrike">
              <a:solidFill>
                <a:srgbClr val="000000"/>
              </a:solidFill>
              <a:latin typeface="Times New Roman"/>
            </a:endParaRPr>
          </a:p>
          <a:p>
            <a:pPr marL="294840" indent="-294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зрослевший сосняк</a:t>
            </a:r>
            <a:endParaRPr b="0" lang="en-US" sz="1400" spc="-1" strike="noStrike">
              <a:solidFill>
                <a:srgbClr val="000000"/>
              </a:solidFill>
              <a:latin typeface="Times New Roman"/>
            </a:endParaRPr>
          </a:p>
          <a:p>
            <a:pPr marL="294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Rectangle 6"/>
          <p:cNvSpPr/>
          <p:nvPr/>
        </p:nvSpPr>
        <p:spPr>
          <a:xfrm>
            <a:off x="389556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Picture 7" descr="б.л. зимняя сказка"/>
          <p:cNvPicPr/>
          <p:nvPr/>
        </p:nvPicPr>
        <p:blipFill>
          <a:blip r:embed="rId1"/>
          <a:stretch/>
        </p:blipFill>
        <p:spPr>
          <a:xfrm>
            <a:off x="798480" y="1981080"/>
            <a:ext cx="35845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Было </a:t>
            </a:r>
            <a:endParaRPr b="0" lang="en-US" sz="4400" spc="-1" strike="noStrike">
              <a:solidFill>
                <a:srgbClr val="000000"/>
              </a:solidFill>
              <a:latin typeface="Times New Roman"/>
            </a:endParaRPr>
          </a:p>
        </p:txBody>
      </p:sp>
      <p:sp>
        <p:nvSpPr>
          <p:cNvPr id="52" name="Rectangle 3"/>
          <p:cNvSpPr/>
          <p:nvPr/>
        </p:nvSpPr>
        <p:spPr>
          <a:xfrm>
            <a:off x="0" y="1523880"/>
            <a:ext cx="9144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Несколько веков находились алтайцы под гнётом завоевателей, поэтому приход русских казаков, промысловиков, крестьян в южную Сибирь не встретил сопротивления аборигенов. Наоборот, племена равнинной части искали защиты у набирающей могучие силы России. В начале XYII века на территории предгорного Алтая были срублены первые русские крепости, защищавшие новые рубежи России от набегов кочевнико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Территория востока Западной Сибири, в частности Горный Алтай, воспринимались русскими как земля дружественного народа. Более 150 лет Горный Алтай находился под патронажем России, поддерживал с русскими поселенцами представительственные и торговые отношения.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А когда в середине    </a:t>
            </a:r>
            <a:r>
              <a:rPr b="0" lang="en-US" sz="2000" spc="-1" strike="noStrike">
                <a:solidFill>
                  <a:srgbClr val="000000"/>
                </a:solidFill>
                <a:latin typeface="Times New Roman"/>
                <a:ea typeface="Times New Roman"/>
              </a:rPr>
              <a:t>XYII</a:t>
            </a:r>
            <a:r>
              <a:rPr b="0" lang="ru-RU" sz="2000" spc="-1" strike="noStrike">
                <a:solidFill>
                  <a:srgbClr val="000000"/>
                </a:solidFill>
                <a:latin typeface="Times New Roman"/>
                <a:ea typeface="Times New Roman"/>
              </a:rPr>
              <a:t> века на Горный Алтай началось опустошительное нашествие войск империи Цинов, алтайцы обратились к России с просьбой принять их в своё подданств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1756 году правительство России утвердило статус Горного Алтая в составе Российской импери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Было </a:t>
            </a:r>
            <a:endParaRPr b="0" lang="en-US" sz="4400" spc="-1" strike="noStrike">
              <a:solidFill>
                <a:srgbClr val="000000"/>
              </a:solidFill>
              <a:latin typeface="Times New Roman"/>
            </a:endParaRPr>
          </a:p>
        </p:txBody>
      </p:sp>
      <p:sp>
        <p:nvSpPr>
          <p:cNvPr id="54" name="Rectangle 5"/>
          <p:cNvSpPr/>
          <p:nvPr/>
        </p:nvSpPr>
        <p:spPr>
          <a:xfrm>
            <a:off x="0" y="1600200"/>
            <a:ext cx="9144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Долгие годы Горный Алтай в качестве автономной области входил в состав Алтайского края. В 1991 году, когда в нашей стране начался процесс самоопределения народов, входивших в СССР, алтайцы объявили о создании собственной республики. Официально она называется Республика Алтай. Так что теперь на территории России два Алтая - Республика Алтай и Алтайский край. Из-за этого происходит немало путаницы, но ни алтайцы, ни русские, не  претендуя на территорию друг друга, тем не менее, не хотят отказываться от красивого названия. Впрочем, этот факт не портит отношений между дружественными народами. По-прежнему тесны их экономические и культурные связи. Жители гор пользуются услугами промышленно развитого края, учатся в вузах Барнаула, а русские с удовольствием проводят отпуска и выходные дни в Горном Алтае. Для туристов, альпинистов, рыбаков, охотников здесь великолепное раздолье.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лее поведём речь исключительно об Алтайском крае</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2571480" y="1143000"/>
            <a:ext cx="3857400" cy="4952880"/>
          </a:xfrm>
          <a:prstGeom prst="rect">
            <a:avLst/>
          </a:prstGeom>
          <a:noFill/>
          <a:ln w="0">
            <a:noFill/>
          </a:ln>
        </p:spPr>
        <p:txBody>
          <a:bodyPr anchor="t">
            <a:normAutofit fontScale="97000"/>
          </a:bodyPr>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 родину вернулся человек.</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н не был здесь, наверно , целый век-</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мало лет не по своей вине</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н пребывал в далёкой стороне.</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вот стоит на взлобке одинок.</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Трава, как флаг полощется у ног.</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село. Родимая река.</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Лежат на дальних сопках облака.</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едрач стеной в заречной стороне .</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н трёт глаза.</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т!</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Это не во сне!</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т!</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 виденье – это наяву</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н окунулся снова в синеву.</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н говорит родной реке:</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Прости!</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н говорит родной тайге:</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сти!</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н говорит родной земле:</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сти!</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 мнёт горячий чернозём в горсти.</a:t>
            </a:r>
            <a:endParaRPr b="0" lang="en-US" sz="1200" spc="-1" strike="noStrike">
              <a:solidFill>
                <a:srgbClr val="000000"/>
              </a:solidFill>
              <a:latin typeface="Times New Roman"/>
            </a:endParaRPr>
          </a:p>
          <a:p>
            <a:pPr marL="332640" indent="-3326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 родину вернулся человек! ...</a:t>
            </a:r>
            <a:endParaRPr b="0" lang="en-US" sz="1200" spc="-1" strike="noStrike">
              <a:solidFill>
                <a:srgbClr val="000000"/>
              </a:solidFill>
              <a:latin typeface="Times New Roman"/>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Rectangle 6"/>
          <p:cNvSpPr/>
          <p:nvPr/>
        </p:nvSpPr>
        <p:spPr>
          <a:xfrm>
            <a:off x="3881520" y="2928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Было </a:t>
            </a:r>
            <a:endParaRPr b="0" lang="en-US" sz="4400" spc="-1" strike="noStrike">
              <a:solidFill>
                <a:srgbClr val="000000"/>
              </a:solidFill>
              <a:latin typeface="Times New Roman"/>
            </a:endParaRPr>
          </a:p>
        </p:txBody>
      </p:sp>
      <p:sp>
        <p:nvSpPr>
          <p:cNvPr id="59" name="Rectangle 5"/>
          <p:cNvSpPr/>
          <p:nvPr/>
        </p:nvSpPr>
        <p:spPr>
          <a:xfrm>
            <a:off x="0" y="1523880"/>
            <a:ext cx="9144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Многолетняя Северная война со Швецией, которую вёл Пётр I , дорого стоила России .Среди множества проблем, вставших перед государством, самой острой была нехватка меди , которую до войны покупали в той же Швеции. Мудрый император решил обратиться к ресурсам собственной страны. Своим Указом в 1719 году он объявил о привилегиях , согласно которым всем охотникам рудных дел представлялась свобода поиска и разработки полезных ископаемых.</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Первооткрывателями рудных мест на Алтае считаются Степан Костылёв и его сын Яков. Однако развить успех они не смогли. Умело воспользовался их находкой предприимчивый Акинфий Демидов. В 1726 году он получил монопольное право на строительство заводов и рудников на Алтае. Посланные им приказчики и мастеровые подтвердили перспективность развития горнозаводского производства. Богатое содержимое алтайских руд , отменные леса, многочисленные реки подкрепляли уверенность в успех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Было </a:t>
            </a:r>
            <a:endParaRPr b="0" lang="en-US" sz="4400" spc="-1" strike="noStrike">
              <a:solidFill>
                <a:srgbClr val="000000"/>
              </a:solidFill>
              <a:latin typeface="Times New Roman"/>
            </a:endParaRPr>
          </a:p>
        </p:txBody>
      </p:sp>
      <p:sp>
        <p:nvSpPr>
          <p:cNvPr id="61" name="Rectangle 3"/>
          <p:cNvSpPr/>
          <p:nvPr/>
        </p:nvSpPr>
        <p:spPr>
          <a:xfrm>
            <a:off x="0" y="1447920"/>
            <a:ext cx="91440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 невиданные по тем временам сроки – менее чем за два года на реке Белой был построен и в 1729 году заработал первенец алтайской металлургии- Колывано -воскресенский завод. Даже по европейским меркам это было хорошо оборудованное предприяти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За двадцать лет своей деятельности на Алтае Демидов выплавил около 25 тысяч пудов меди. Производство меди на Алтае и доставка её на уральские заводы были нерентабельны. Но предприимчивый заводчик с лихвой восполнил эти убытки добычей на Алтае серебра.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Алтайское серебро сулило огромные прибыли, на что обратил внимание царский двор. Указом от 1 мая 1747 года все демидовские владения на Алтае были конфискованы в пользу русских императоро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скоре был образован Колывано - Воскресенский ( Алтайский) горный округ с центром в Барнауле. Это была огромная территория, в которую вошли нынешний Алтайский край. Новосибирская и Кемеровская области, часть Томской и Восточно-Казахстанской областей, общей площадью свыше 5000 тысяч квадратных метро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Шло время. А время- великая вещь… Вот как о нём писал наш </a:t>
            </a:r>
            <a:r>
              <a:rPr b="1" lang="ru-RU" sz="2000" spc="-1" strike="noStrike">
                <a:solidFill>
                  <a:srgbClr val="000000"/>
                </a:solidFill>
                <a:latin typeface="Times New Roman"/>
                <a:ea typeface="Times New Roman"/>
              </a:rPr>
              <a:t>земляк-Алексей Власов</a:t>
            </a:r>
            <a:r>
              <a:rPr b="0" lang="ru-RU" sz="2000" spc="-1" strike="noStrike">
                <a:solidFill>
                  <a:srgbClr val="000000"/>
                </a:solidFill>
                <a:latin typeface="Times New Roman"/>
                <a:ea typeface="Times New Roman"/>
              </a:rPr>
              <a:t> в своём стихотворении: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6-11-29T17:21:01Z</dcterms:modified>
  <cp:revision>13</cp:revision>
  <dc:subject/>
  <dc:title>PowerPoint Presentation</dc:title>
</cp:coreProperties>
</file>