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95A-73F3-4EC7-8360-2E97D361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A2C-CB85-4E5F-97CA-8BCB93A8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B68-D9D3-48D3-A2C2-0C2F759F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F30-9119-49C9-BAC8-674EB8DD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C904-9D36-456D-AA74-08B60C13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A635-038A-42FE-9F35-CC711322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2263-7382-4B35-AA31-91691535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2B64-8007-4B22-8FBF-3C2D8D45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3AF9-C71C-4BE2-8840-F9EE342C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71BC-9CD0-4181-8DE2-B9326A1E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423A-D216-47B4-85E1-63532BE8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7C8D-E4F4-4417-B918-8E4F581C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32EA-DF5D-4564-8A8D-1CC4D5A4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F79B-CFDD-4F2F-ABED-3D70FF3B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2F7A-FA44-4634-9664-A549F8F2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D4B6-900B-42AC-84D8-A7CC1132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4088-CB73-45F4-9F23-DD474276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C0055-62D1-4DE7-ADD1-4B3D2226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0896-2AA9-4418-8CB7-187EEB59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0B9DE-C8F3-4449-AC8D-988C7852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CA41D-31D4-445E-AF22-C8C3B274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FBA8-7482-4BA4-ADBE-063AD8CC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818-4203-4415-B252-EA989981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0B5C-9D6A-42B3-896E-558228CC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0FDAE-168D-4415-B9A0-E3099503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AACFF-C23A-4C50-87FD-72740899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8CC13-ECF4-49E8-A12E-1232BC9C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A7027-2301-4DCC-B3C2-B88DB52E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DAA10-47CB-41EC-AFBA-8BDF6096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FC8B2-515B-4D38-B3F1-D7B523EE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07BB2-B853-48AC-BBCC-2924ED6C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BD53C-1582-4354-8DEC-03AACAD2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E7F2B-D44A-42B4-85BC-D9278D84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273-CD83-47BD-B52F-74A304A3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645E1-FD99-47EF-9041-04038C6F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2A481-236C-440E-81C6-6A4DE5A3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EA7DE-8F2E-495C-9FD9-17D7903C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D956E-6D1F-4007-9BF6-79C6083C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8CE91-044D-42C3-9EA7-11B23A63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F2D67-881E-4E30-A3B3-4B8A19E2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4C74A-C017-4B59-9973-12A506DB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4495F-765B-4AD2-8146-DDA22258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8B921-5D92-4E41-A325-C14DF4E8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3291-FEDF-41F1-8EAA-79760C40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FC44-821B-4C2B-A325-71CFE91A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8BD-93A6-4A78-B65E-9A272D3E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7E4-D27F-43FE-B1A6-F3D7A85E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E19-3DC1-4E43-82B8-798B1CB1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C319-C5C4-46E1-99B8-ED9E044A7F5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28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6c911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A432-F826-402C-BD04-293039C31D4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6EB8-58D8-419F-B7E1-F5F83B3EDD4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1CE8-8EBE-4A01-8543-AD4D2270D31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74872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i="1" lang="ru-RU" sz="6600" spc="-1" strike="noStrike">
                <a:solidFill>
                  <a:srgbClr val="ffff00"/>
                </a:solidFill>
                <a:latin typeface="Times New Roman"/>
              </a:rPr>
              <a:t>Виды односоставных                    предложений.</a:t>
            </a:r>
            <a:endParaRPr b="0" lang="en-US" sz="6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Простое глагольное сказуемое, </a:t>
            </a:r>
            <a:r>
              <a:rPr b="1" i="1" lang="ru-RU" sz="3200" spc="-1" strike="noStrike">
                <a:solidFill>
                  <a:srgbClr val="90c226"/>
                </a:solidFill>
                <a:latin typeface="Times New Roman"/>
              </a:rPr>
              <a:t>выраженное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030560" cy="540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Безличным глаголом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Безличной формой личного глаго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шедшее время средний род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Безличной формой глагола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быт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трицательных предложениях; словом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Неопределённой формой глагол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7280" y="1197000"/>
            <a:ext cx="471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ечерами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работалось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собенно хорошо. На дворе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вечереет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54a021"/>
                </a:solidFill>
                <a:latin typeface="Times New Roman"/>
              </a:rPr>
              <a:t>2.  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Пахнет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еном над лугами. (Майк.)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Зажгло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розою дерево (Н.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54a021"/>
                </a:solidFill>
                <a:latin typeface="Times New Roman"/>
              </a:rPr>
              <a:t>3.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ерасима уже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не было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на дворе. (Т.) Сегодня же меня здесь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не будет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(Т.) У меня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нет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линейки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54a021"/>
                </a:solidFill>
                <a:latin typeface="Times New Roman"/>
              </a:rPr>
              <a:t>4.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ам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не видать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таких сражений. (Л.)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Быть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грозе великой. (П.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9308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оставное сказуемое, </a:t>
            </a:r>
            <a:r>
              <a:rPr b="1" i="1" lang="ru-RU" sz="3200" spc="-1" strike="noStrike">
                <a:solidFill>
                  <a:srgbClr val="90c226"/>
                </a:solidFill>
                <a:latin typeface="Times New Roman"/>
              </a:rPr>
              <a:t>выраженное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572000" cy="554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ГЛАГОЛЬНО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зличным вспомогательным глаголом + неопределённая форма глаго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МЕННО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аголом-связкой в безличной форме + именная часть (наречие или краткое страдательное причастие в форме среднего рода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0" y="1052280"/>
            <a:ext cx="4572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)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ад вашим предложением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стоит подумать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 Алёнке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 спать не хотелось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 В этот час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было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всем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тихо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(Л. Т.) 2) В избе жарко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натоплено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(Ч.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975280"/>
          </a:xfrm>
          <a:prstGeom prst="rect">
            <a:avLst/>
          </a:prstGeom>
          <a:solidFill>
            <a:srgbClr val="90c226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Безличные предложения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сообщают о различных состояниях природы или люде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 животных,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 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1)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На улице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холодно.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2)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Мне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холодно.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оследнем случае в предложении обычно бывает дополнение в форме дательного падежа, указывающего, кто именно испытывает то или иное состояние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push dir="r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Назывные </a:t>
            </a:r>
            <a:r>
              <a:rPr b="0" lang="ru-RU" sz="3600" spc="-1" strike="noStrike">
                <a:solidFill>
                  <a:srgbClr val="90c226"/>
                </a:solidFill>
                <a:latin typeface="Times New Roman"/>
              </a:rPr>
              <a:t>предложения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азывные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это такие односоставные предложения, которые имеют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дин главный член – подлежаще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и сообщают о том, что какое-нибудь явление или предмет существует (имеется) в настоящем,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: 1)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Лес. Просека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есна!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частицами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от,вон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азывные предложения приобретают указательное значение: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от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парадный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подъезд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Н.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568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зывные предложения употребляются преимущественно в художественной литературе (поэзии и прозе), в газетных и журнальных очерках и статьях. С их помощью писатели и журналисты обычно в начале своих произведений (или глав, частей) очень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лаконично и точно рисуют место и время действия, пейзаж, обстановк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: 1)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очь. Землянка.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итилёк разгореле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вадцать первое. Ночь. Понедельник.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Очертанья столицы во</a:t>
            </a:r>
            <a:r>
              <a:rPr b="0" i="1" lang="ru-RU" sz="3200" spc="-1" strike="noStrike">
                <a:solidFill>
                  <a:srgbClr val="ffffff"/>
                </a:solidFill>
                <a:latin typeface="Trebuchet MS"/>
              </a:rPr>
              <a:t> мгле.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(Ахм.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8894880" cy="749160"/>
          </a:xfrm>
          <a:prstGeom prst="rect">
            <a:avLst/>
          </a:prstGeom>
          <a:ln w="0">
            <a:noFill/>
          </a:ln>
        </p:spPr>
      </p:pic>
      <p:pic>
        <p:nvPicPr>
          <p:cNvPr id="252" name="Содержимое 2" descr=""/>
          <p:cNvPicPr/>
          <p:nvPr/>
        </p:nvPicPr>
        <p:blipFill>
          <a:blip r:embed="rId2"/>
          <a:stretch/>
        </p:blipFill>
        <p:spPr>
          <a:xfrm>
            <a:off x="0" y="755640"/>
            <a:ext cx="883908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250920" y="333360"/>
            <a:ext cx="87138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кажите односоставные предлож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) Идя по орехи, топчешь ногами яго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) Кругом все молча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) Встречайте трепетную весну, люди зем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) Синее бездонное неб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) Многим не терпелось кинуться в б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108000" y="404640"/>
            <a:ext cx="8928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кажите вид односоставных предложений: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) определенно-личное;  б) неопределенно-личное;         в) безличное;                                                                             г) обобщенно-личное; д) назывн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После драки кулаками не машут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Ярмарка. Крещенский мороз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От пруда потянуло холодом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Но, бывало, бродишь по лесу и не видишь ни одного птичьего гнезд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Туши тура и кабана целиком жарили на огромных вертелах, поворачивая то одним, то другим бок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4. Найдите предложение, строение которого соответствует схеме:   [безл.], и [двусост.]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а) Спокойно дышит грудь и на душу находит странная тревога. </a:t>
            </a:r>
            <a:r>
              <a:rPr b="0" i="1" lang="ru-RU" sz="2800" spc="-1" strike="noStrike">
                <a:solidFill>
                  <a:srgbClr val="ffffff"/>
                </a:solidFill>
                <a:latin typeface="Trebuchet MS"/>
              </a:rPr>
              <a:t>(И.Тургенев)</a:t>
            </a: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б) Ее обдало сильным теплым ласковым ветром и что-то прошелестело рядом. </a:t>
            </a:r>
            <a:r>
              <a:rPr b="0" i="1" lang="ru-RU" sz="2800" spc="-1" strike="noStrike">
                <a:solidFill>
                  <a:srgbClr val="ffffff"/>
                </a:solidFill>
                <a:latin typeface="Trebuchet MS"/>
              </a:rPr>
              <a:t>(К.Паустовский)</a:t>
            </a: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в) Стоят в воде и в небе луны и пахнет донником сухим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г) Приближался конец мая и нас с сестрицей перевели из детской в так называемую столовую. </a:t>
            </a:r>
            <a:r>
              <a:rPr b="0" i="1" lang="ru-RU" sz="2800" spc="-1" strike="noStrike">
                <a:solidFill>
                  <a:srgbClr val="ffffff"/>
                </a:solidFill>
                <a:latin typeface="Trebuchet MS"/>
              </a:rPr>
              <a:t>(С.Аксаков)</a:t>
            </a: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                                                                                 (Знаки препинания не расставлены.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541800" indent="-406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50560" y="18864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5. </a:t>
            </a:r>
            <a:r>
              <a:rPr b="0" lang="ru-RU" sz="2800" spc="-1" strike="noStrike">
                <a:solidFill>
                  <a:srgbClr val="ffff00"/>
                </a:solidFill>
                <a:latin typeface="Trebuchet MS"/>
              </a:rPr>
              <a:t>Спишите предложения, подчеркните основы, укажите вид предложения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1.Стоном горю не поможешь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2.Горит восток зарёю новой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3.Зал украсили цветами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4.Работаем не покладая рук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5.Поёт зима, аукает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6.Положи книгу на полку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7.Вечерами нам рассказывают сказки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8.Нет предела совершенству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9.Утренняя свежесть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10.С вечера всё спится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11.Опять зима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12.Хорошо бы сделать снежную горку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Organization Chart 62"/>
          <p:cNvGrpSpPr/>
          <p:nvPr/>
        </p:nvGrpSpPr>
        <p:grpSpPr>
          <a:xfrm>
            <a:off x="433440" y="353880"/>
            <a:ext cx="8711640" cy="6263640"/>
            <a:chOff x="433440" y="353880"/>
            <a:chExt cx="8711640" cy="6263640"/>
          </a:xfrm>
        </p:grpSpPr>
        <p:cxnSp>
          <p:nvCxnSpPr>
            <p:cNvPr id="214" name="_s1028"/>
            <p:cNvCxnSpPr>
              <a:stCxn id="215" idx="3"/>
              <a:endCxn id="216" idx="2"/>
            </p:cNvCxnSpPr>
            <p:nvPr/>
          </p:nvCxnSpPr>
          <p:spPr>
            <a:xfrm flipV="1">
              <a:off x="2922480" y="2196360"/>
              <a:ext cx="415440" cy="4052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7" name="_s1029"/>
            <p:cNvCxnSpPr>
              <a:stCxn id="218" idx="1"/>
              <a:endCxn id="219" idx="2"/>
            </p:cNvCxnSpPr>
            <p:nvPr/>
          </p:nvCxnSpPr>
          <p:spPr>
            <a:xfrm rot="10800000">
              <a:off x="6240240" y="2196000"/>
              <a:ext cx="415440" cy="737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0" name="_s1030"/>
            <p:cNvCxnSpPr>
              <a:stCxn id="221" idx="0"/>
              <a:endCxn id="222" idx="2"/>
            </p:cNvCxnSpPr>
            <p:nvPr/>
          </p:nvCxnSpPr>
          <p:spPr>
            <a:xfrm flipV="1">
              <a:off x="1677600" y="4407840"/>
              <a:ext cx="3960" cy="369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3" name="_s1031"/>
            <p:cNvCxnSpPr>
              <a:stCxn id="222" idx="0"/>
              <a:endCxn id="224" idx="2"/>
            </p:cNvCxnSpPr>
            <p:nvPr/>
          </p:nvCxnSpPr>
          <p:spPr>
            <a:xfrm flipV="1">
              <a:off x="1677600" y="3301920"/>
              <a:ext cx="3960" cy="369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5" name="_s1032"/>
            <p:cNvCxnSpPr>
              <a:stCxn id="224" idx="3"/>
              <a:endCxn id="216" idx="2"/>
            </p:cNvCxnSpPr>
            <p:nvPr/>
          </p:nvCxnSpPr>
          <p:spPr>
            <a:xfrm flipV="1">
              <a:off x="2922480" y="2196000"/>
              <a:ext cx="415440" cy="740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1033"/>
            <p:cNvCxnSpPr>
              <a:stCxn id="219" idx="0"/>
              <a:endCxn id="227" idx="2"/>
            </p:cNvCxnSpPr>
            <p:nvPr/>
          </p:nvCxnSpPr>
          <p:spPr>
            <a:xfrm flipV="1" rot="16200000">
              <a:off x="5330520" y="548280"/>
              <a:ext cx="369000" cy="1452240"/>
            </a:xfrm>
            <a:prstGeom prst="bentConnector3">
              <a:avLst>
                <a:gd name="adj1" fmla="val 4355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8" name="_s1034"/>
            <p:cNvCxnSpPr>
              <a:stCxn id="216" idx="0"/>
              <a:endCxn id="227" idx="2"/>
            </p:cNvCxnSpPr>
            <p:nvPr/>
          </p:nvCxnSpPr>
          <p:spPr>
            <a:xfrm flipH="1" flipV="1" rot="5400000">
              <a:off x="3879000" y="548280"/>
              <a:ext cx="369000" cy="1452960"/>
            </a:xfrm>
            <a:prstGeom prst="bentConnector3">
              <a:avLst>
                <a:gd name="adj1" fmla="val 4355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7" name="_s1035"/>
            <p:cNvSpPr/>
            <p:nvPr/>
          </p:nvSpPr>
          <p:spPr>
            <a:xfrm>
              <a:off x="3544920" y="353880"/>
              <a:ext cx="2489040" cy="736920"/>
            </a:xfrm>
            <a:prstGeom prst="roundRect">
              <a:avLst>
                <a:gd name="adj" fmla="val 16667"/>
              </a:avLst>
            </a:prstGeom>
            <a:solidFill>
              <a:srgbClr val="90c22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</a:rPr>
                <a:t>Односоставные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</a:rPr>
                <a:t>предложения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_s1036"/>
            <p:cNvSpPr/>
            <p:nvPr/>
          </p:nvSpPr>
          <p:spPr>
            <a:xfrm>
              <a:off x="2092680" y="1459440"/>
              <a:ext cx="2489040" cy="736920"/>
            </a:xfrm>
            <a:prstGeom prst="roundRect">
              <a:avLst>
                <a:gd name="adj" fmla="val 16667"/>
              </a:avLst>
            </a:prstGeom>
            <a:solidFill>
              <a:srgbClr val="90c22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С главным членом –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</a:rPr>
                <a:t>сказуемым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_s1037"/>
            <p:cNvSpPr/>
            <p:nvPr/>
          </p:nvSpPr>
          <p:spPr>
            <a:xfrm>
              <a:off x="4996440" y="1459440"/>
              <a:ext cx="2489040" cy="736920"/>
            </a:xfrm>
            <a:prstGeom prst="roundRect">
              <a:avLst>
                <a:gd name="adj" fmla="val 16667"/>
              </a:avLst>
            </a:prstGeom>
            <a:solidFill>
              <a:srgbClr val="90c22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С главным членом –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imes New Roman"/>
                </a:rPr>
                <a:t>подлежащим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_s1038"/>
            <p:cNvSpPr/>
            <p:nvPr/>
          </p:nvSpPr>
          <p:spPr>
            <a:xfrm>
              <a:off x="433440" y="2565360"/>
              <a:ext cx="2489040" cy="736920"/>
            </a:xfrm>
            <a:prstGeom prst="roundRect">
              <a:avLst>
                <a:gd name="adj" fmla="val 16667"/>
              </a:avLst>
            </a:prstGeom>
            <a:solidFill>
              <a:srgbClr val="90c22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Times New Roman"/>
                </a:rPr>
                <a:t>Определённо-личные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_s1039"/>
            <p:cNvSpPr/>
            <p:nvPr/>
          </p:nvSpPr>
          <p:spPr>
            <a:xfrm>
              <a:off x="433440" y="3671280"/>
              <a:ext cx="2489040" cy="736920"/>
            </a:xfrm>
            <a:prstGeom prst="roundRect">
              <a:avLst>
                <a:gd name="adj" fmla="val 16667"/>
              </a:avLst>
            </a:prstGeom>
            <a:solidFill>
              <a:srgbClr val="90c22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Times New Roman"/>
                </a:rPr>
                <a:t>Неоперелённо-личные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_s1040"/>
            <p:cNvSpPr/>
            <p:nvPr/>
          </p:nvSpPr>
          <p:spPr>
            <a:xfrm>
              <a:off x="433440" y="4777200"/>
              <a:ext cx="2489040" cy="736920"/>
            </a:xfrm>
            <a:prstGeom prst="roundRect">
              <a:avLst>
                <a:gd name="adj" fmla="val 16667"/>
              </a:avLst>
            </a:prstGeom>
            <a:solidFill>
              <a:srgbClr val="90c22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Times New Roman"/>
                </a:rPr>
                <a:t>Обобщенно-личные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_s1041"/>
            <p:cNvSpPr/>
            <p:nvPr/>
          </p:nvSpPr>
          <p:spPr>
            <a:xfrm>
              <a:off x="6656040" y="2565360"/>
              <a:ext cx="2489040" cy="734760"/>
            </a:xfrm>
            <a:prstGeom prst="roundRect">
              <a:avLst>
                <a:gd name="adj" fmla="val 16667"/>
              </a:avLst>
            </a:prstGeom>
            <a:solidFill>
              <a:srgbClr val="90c22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Times New Roman"/>
                </a:rPr>
                <a:t>Назывные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_s1042"/>
            <p:cNvSpPr/>
            <p:nvPr/>
          </p:nvSpPr>
          <p:spPr>
            <a:xfrm>
              <a:off x="436680" y="5882760"/>
              <a:ext cx="2485440" cy="734760"/>
            </a:xfrm>
            <a:prstGeom prst="roundRect">
              <a:avLst>
                <a:gd name="adj" fmla="val 16667"/>
              </a:avLst>
            </a:prstGeom>
            <a:solidFill>
              <a:srgbClr val="90c22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Times New Roman"/>
                </a:rPr>
                <a:t>Безличные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50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Arial"/>
              </a:rPr>
              <a:t>Домашнее задание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08000" y="2160360"/>
            <a:ext cx="87120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учить теорию - параграфы 30,31,32,33,35 по учебнику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пр. 172, 175(оба упр. списать, в каждом предложении подчеркнуть основы, указать вид предложения)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036000" cy="6669000"/>
          </a:xfrm>
          <a:prstGeom prst="rect">
            <a:avLst/>
          </a:prstGeom>
          <a:solidFill>
            <a:srgbClr val="90c226"/>
          </a:solidFill>
          <a:ln w="9360">
            <a:solidFill>
              <a:srgbClr val="2c3c43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По форме главного член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дносоставного предложения делятся на две основные группы: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главным членом – сказуемым,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главным подлежащим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авните: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Вечереет. Вечер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носоставные предложения могут быть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ераспространёнными и распространёнными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Морозит.  С утра морозит. Вечер.  Тихий вечер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93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Односоставные предложения с главным членом – сказуемым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едложения определённо-личны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едложения неопределённо-личны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бобщенно-личны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езличные предложения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93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</a:rPr>
              <a:t>Предложения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определённо-личные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840200"/>
          </a:xfrm>
          <a:prstGeom prst="rect">
            <a:avLst/>
          </a:prstGeom>
          <a:solidFill>
            <a:srgbClr val="90c22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азуемое-глагол в форме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-го лица ед. и мн. ч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-го лица ед. и мн. ч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зъявительного или повелительного наклонения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можно подставить местоимения 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,  ты, мы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68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68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68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68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8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</a:rPr>
              <a:t>1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) Люблю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грозу в начале мая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) Уходим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завтра в море.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3)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е из Москвы л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удешь?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)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Чему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меётесь?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ад собой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меётесь!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5) Выберите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ебе книгу по вкусу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6) Пойдёмте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 сад.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авайте поработаем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ённо-личные предложения встречаются в живой разговорной реч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96472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imes New Roman"/>
              </a:rPr>
              <a:t>Предложения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неопределённо-личные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964720" cy="5105520"/>
          </a:xfrm>
          <a:prstGeom prst="rect">
            <a:avLst/>
          </a:prstGeom>
          <a:solidFill>
            <a:srgbClr val="90c22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азуемое – глагол в форме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-го лица множественного числа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астоящего или будущего времени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форме множественного числа  прошедшего времен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пример: 1)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Что новенького в газет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ишут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2)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В дверь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стучались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аких предложениях важно само действие, а не лица, которые его производят. Они мыслятся неопределённо. Поэтому в таких предложениях не бывает подлежащего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pull dir="r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90c226"/>
                </a:solidFill>
                <a:latin typeface="Arial"/>
              </a:rPr>
              <a:t>Предложения </a:t>
            </a:r>
            <a:br>
              <a:rPr sz="2900"/>
            </a:br>
            <a:r>
              <a:rPr b="1" i="1" lang="ru-RU" sz="2900" spc="-1" strike="noStrike">
                <a:solidFill>
                  <a:srgbClr val="ff0000"/>
                </a:solidFill>
                <a:latin typeface="Arial"/>
              </a:rPr>
              <a:t>обобщенно-личные</a:t>
            </a: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893080" cy="5472000"/>
          </a:xfrm>
          <a:prstGeom prst="rect">
            <a:avLst/>
          </a:prstGeom>
          <a:solidFill>
            <a:srgbClr val="90c22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ют значение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обобщенного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ца, т. е. указывают на то, что действие производится всеми, любим лицом,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пример: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 Цыплят  по осен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читают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Бездонную бочку водо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 наполнишь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 К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аких только птиц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 увидишь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 в весеннем лесу!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енно часто это значение имеют сказуемые, выраженные глаголом в форме 2-3 го лица. Многие пословицы представляют собой такие предложения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964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Безличные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90c226"/>
                </a:solidFill>
                <a:latin typeface="Times New Roman"/>
              </a:rPr>
              <a:t>предложения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964720" cy="4753080"/>
          </a:xfrm>
          <a:prstGeom prst="rect">
            <a:avLst/>
          </a:prstGeom>
          <a:solidFill>
            <a:srgbClr val="90c22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Безличные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это односоставные предложения со сказуемым, при котором нет и не может быть подлежащего, например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 Уже совсем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темнело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2)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Скор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ветать будет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)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На двор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ыло тихо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азуемое в безличном предложении выражается следующими способами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wipe dir="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14:27:41Z</dcterms:created>
  <dc:creator>User</dc:creator>
  <dc:description/>
  <dc:language>en-US</dc:language>
  <cp:lastModifiedBy>User</cp:lastModifiedBy>
  <dcterms:modified xsi:type="dcterms:W3CDTF">2016-11-29T11:21:38Z</dcterms:modified>
  <cp:revision>26</cp:revision>
  <dc:subject/>
  <dc:title>Односоставные                    предложения.</dc:title>
</cp:coreProperties>
</file>