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2.jpeg" ContentType="image/jpeg"/>
  <Override PartName="/ppt/media/image3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28.png" ContentType="image/png"/>
  <Override PartName="/ppt/media/image36.png" ContentType="image/png"/>
  <Override PartName="/ppt/media/image37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35.png" ContentType="image/png"/>
  <Override PartName="/ppt/media/image46.jpeg" ContentType="image/jpeg"/>
  <Override PartName="/ppt/media/image51.jpeg" ContentType="image/jpeg"/>
  <Override PartName="/ppt/media/image44.png" ContentType="image/png"/>
  <Override PartName="/ppt/media/image13.jpeg" ContentType="image/jpeg"/>
  <Override PartName="/ppt/media/image47.jpeg" ContentType="image/jpeg"/>
  <Override PartName="/ppt/media/image52.jpeg" ContentType="image/jpeg"/>
  <Override PartName="/ppt/media/image56.jpeg" ContentType="image/jpeg"/>
  <Override PartName="/ppt/media/image33.png" ContentType="image/png"/>
  <Override PartName="/ppt/media/image53.jpeg" ContentType="image/jpeg"/>
  <Override PartName="/ppt/media/image54.jpeg" ContentType="image/jpeg"/>
  <Override PartName="/ppt/media/image57.jpeg" ContentType="image/jpeg"/>
  <Override PartName="/ppt/media/image34.png" ContentType="image/png"/>
  <Override PartName="/ppt/media/image32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6.jpeg" ContentType="image/jpeg"/>
  <Override PartName="/ppt/media/image48.png" ContentType="image/png"/>
  <Override PartName="/ppt/media/image9.jpeg" ContentType="image/jpeg"/>
  <Override PartName="/ppt/media/image23.png" ContentType="image/png"/>
  <Override PartName="/ppt/media/image55.jpeg" ContentType="image/jpeg"/>
  <Override PartName="/ppt/media/image38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23D1-3580-49D9-A8B4-3DEFF7FB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79A5-37AB-405C-B345-82B00FDD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7D70-51AA-42AB-93D7-E45DA939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A456-2A97-4C19-9DA1-3C421BD5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ABDAA-AFF1-458B-B63B-F732BB5A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D9719-62C2-4ED4-BBBB-84D00A5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7988F-2255-4CD6-B6D4-CA0AA323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27E36-529D-44E7-A3C1-F85ED79F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4C0C4-F8CD-482B-B622-2E9F59E3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D939C-2D85-4108-80B7-6DF7285F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61582-A64C-49A7-8CC1-BD52087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53F0-4428-4126-9B8E-86AB992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F07D9-A0CF-489D-996B-44DD488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45DFB-BF33-42A4-9C8D-13C921B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9C011-BD2A-4BFE-8C87-0D0B7DD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C29EC-BC26-4AB7-B371-51C87057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6F074-0E76-430C-B7FF-D9C3087F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0B8C-E5F0-40A7-A8B2-777F4784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4D9F-0865-4155-9A90-B481ABB0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F9AD-7FE8-412F-B684-5087FD38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D753-938E-46E1-B644-6CBD577B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0F01-9D93-4ACF-B7C2-F276200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A9B5-ACF4-4967-8B7E-E44C0918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F7B4-DB30-4A69-813B-1A7B2536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39EA-12D4-4584-8AC9-01529BF63DF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D1B8-9C03-4ADE-8695-628A86A82DDF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1B96-D6C4-47D4-A5CF-1104BEA5C5C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4F7F-BD3A-49EF-BAB1-7E87CFB19F2B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1.jpeg"/><Relationship Id="rId3" Type="http://schemas.openxmlformats.org/officeDocument/2006/relationships/image" Target="../media/image39.png"/><Relationship Id="rId4" Type="http://schemas.openxmlformats.org/officeDocument/2006/relationships/image" Target="../media/image42.jpeg"/><Relationship Id="rId5" Type="http://schemas.openxmlformats.org/officeDocument/2006/relationships/image" Target="../media/image27.pn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image" Target="../media/image45.jpeg"/><Relationship Id="rId9" Type="http://schemas.openxmlformats.org/officeDocument/2006/relationships/image" Target="../media/image33.png"/><Relationship Id="rId10" Type="http://schemas.openxmlformats.org/officeDocument/2006/relationships/image" Target="../media/image46.jpe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735804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Verdana"/>
              </a:rPr>
              <a:t>Первая Мировая война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00080" y="2714400"/>
            <a:ext cx="7228080" cy="19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c2305"/>
                </a:solidFill>
                <a:latin typeface="Verdana"/>
              </a:rPr>
              <a:t>Оружие времён Первой мировой войны.</a:t>
            </a:r>
            <a:endParaRPr b="0" lang="en-US" sz="4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Химическое оружие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38" name="Picture 5" descr="GASM1"/>
          <p:cNvPicPr/>
          <p:nvPr/>
        </p:nvPicPr>
        <p:blipFill>
          <a:blip r:embed="rId1"/>
          <a:stretch/>
        </p:blipFill>
        <p:spPr>
          <a:xfrm>
            <a:off x="7236000" y="476280"/>
            <a:ext cx="1363320" cy="2019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80000" y="2852280"/>
            <a:ext cx="324000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2305"/>
                </a:solidFill>
                <a:latin typeface="Verdana"/>
              </a:rPr>
              <a:t>Первая газобаллонная атака со стороны русских войск в районе Сморгони 5-6 сентября 1916 г.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2305"/>
                </a:solidFill>
                <a:latin typeface="Verdana"/>
              </a:rPr>
              <a:t>За 1916 г. газобаллонные атаки на русском театре были преобладающим видом химического нападения. </a:t>
            </a:r>
            <a:endParaRPr b="0" lang="en-US" sz="1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40" name="Picture 11" descr="mggasm"/>
          <p:cNvPicPr/>
          <p:nvPr/>
        </p:nvPicPr>
        <p:blipFill>
          <a:blip r:embed="rId2"/>
          <a:stretch/>
        </p:blipFill>
        <p:spPr>
          <a:xfrm>
            <a:off x="250920" y="1982880"/>
            <a:ext cx="52578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Авиация России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42" name="Picture 5" descr="Rus"/>
          <p:cNvPicPr/>
          <p:nvPr/>
        </p:nvPicPr>
        <p:blipFill>
          <a:blip r:embed="rId1"/>
          <a:stretch/>
        </p:blipFill>
        <p:spPr>
          <a:xfrm rot="19941000">
            <a:off x="1907640" y="260280"/>
            <a:ext cx="754200" cy="50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Anade_Rus_2"/>
          <p:cNvPicPr/>
          <p:nvPr/>
        </p:nvPicPr>
        <p:blipFill>
          <a:blip r:embed="rId2"/>
          <a:stretch/>
        </p:blipFill>
        <p:spPr>
          <a:xfrm>
            <a:off x="684360" y="1413000"/>
            <a:ext cx="4249440" cy="1761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Nie11rus_1106"/>
          <p:cNvPicPr/>
          <p:nvPr/>
        </p:nvPicPr>
        <p:blipFill>
          <a:blip r:embed="rId3"/>
          <a:stretch/>
        </p:blipFill>
        <p:spPr>
          <a:xfrm>
            <a:off x="468360" y="3186000"/>
            <a:ext cx="4281480" cy="2075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0"/>
          <p:cNvSpPr/>
          <p:nvPr/>
        </p:nvSpPr>
        <p:spPr>
          <a:xfrm>
            <a:off x="2991960" y="23482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едчики "Анаде"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1763640" y="45072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требители "Ньюпор"-1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6" descr="Spad4_Rus_1"/>
          <p:cNvPicPr/>
          <p:nvPr/>
        </p:nvPicPr>
        <p:blipFill>
          <a:blip r:embed="rId4"/>
          <a:stretch/>
        </p:blipFill>
        <p:spPr>
          <a:xfrm>
            <a:off x="4427640" y="4724280"/>
            <a:ext cx="4321080" cy="15829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8"/>
          <p:cNvSpPr/>
          <p:nvPr/>
        </p:nvSpPr>
        <p:spPr>
          <a:xfrm>
            <a:off x="5729040" y="57330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едчики "Спад"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983 -0.04485 -0.19966 -0.08948 -0.21268 -0.13526 C -0.2257 -0.18104 -0.11858 -0.26358 -0.07778 -0.27491 C -0.03698 -0.28624 0.0125 -0.23214 0.03177 -0.203 C 0.05104 -0.17387 0.03993 -0.12485 0.03802 -0.09942 C 0.03611 -0.07399 0.03038 -0.06219 0.02066 -0.05086 C 0.01094 -0.03953 -0.00486 -0.0356 -0.02066 -0.03167 E">
                                      <p:cBhvr>
                                        <p:cTn id="13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983 -0.04485 -0.19966 -0.08948 -0.21268 -0.13526 C -0.2257 -0.18104 -0.11858 -0.26358 -0.07778 -0.27491 C -0.03698 -0.28624 0.0125 -0.23214 0.03177 -0.203 C 0.05104 -0.17387 0.03993 -0.12485 0.03802 -0.09942 C 0.03611 -0.07399 0.03038 -0.06219 0.02066 -0.05086 C 0.01094 -0.03953 -0.00486 -0.0356 -0.02066 -0.03167 E">
                                      <p:cBhvr>
                                        <p:cTn id="13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983 -0.04485 -0.19966 -0.08948 -0.21268 -0.13526 C -0.2257 -0.18104 -0.11858 -0.26358 -0.07778 -0.27491 C -0.03698 -0.28624 0.0125 -0.23214 0.03177 -0.203 C 0.05104 -0.17387 0.03993 -0.12485 0.03802 -0.09942 C 0.03611 -0.07399 0.03038 -0.06219 0.02066 -0.05086 C 0.01094 -0.03953 -0.00486 -0.0356 -0.02066 -0.03167 E">
                                      <p:cBhvr>
                                        <p:cTn id="13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Авиация Германии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50" name="Picture 5" descr="Ger"/>
          <p:cNvPicPr/>
          <p:nvPr/>
        </p:nvPicPr>
        <p:blipFill>
          <a:blip r:embed="rId1"/>
          <a:stretch/>
        </p:blipFill>
        <p:spPr>
          <a:xfrm rot="19892400">
            <a:off x="1618920" y="333000"/>
            <a:ext cx="754200" cy="50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AlbC3_4057_15"/>
          <p:cNvPicPr/>
          <p:nvPr/>
        </p:nvPicPr>
        <p:blipFill>
          <a:blip r:embed="rId2"/>
          <a:stretch/>
        </p:blipFill>
        <p:spPr>
          <a:xfrm>
            <a:off x="5508720" y="549360"/>
            <a:ext cx="3411360" cy="143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Kissenberth_FokD2"/>
          <p:cNvPicPr/>
          <p:nvPr/>
        </p:nvPicPr>
        <p:blipFill>
          <a:blip r:embed="rId3"/>
          <a:stretch/>
        </p:blipFill>
        <p:spPr>
          <a:xfrm>
            <a:off x="5219640" y="2133720"/>
            <a:ext cx="3656160" cy="1436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1"/>
          <p:cNvSpPr/>
          <p:nvPr/>
        </p:nvSpPr>
        <p:spPr>
          <a:xfrm>
            <a:off x="5007240" y="141264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ведчики "Альбатрос"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225040" y="29239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стребители "Фоккер"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7" descr="Richthofen_M_AEGG2"/>
          <p:cNvPicPr/>
          <p:nvPr/>
        </p:nvPicPr>
        <p:blipFill>
          <a:blip r:embed="rId4"/>
          <a:stretch/>
        </p:blipFill>
        <p:spPr>
          <a:xfrm>
            <a:off x="2268360" y="4941720"/>
            <a:ext cx="4610160" cy="16718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9"/>
          <p:cNvSpPr/>
          <p:nvPr/>
        </p:nvSpPr>
        <p:spPr>
          <a:xfrm>
            <a:off x="5006520" y="5865480"/>
            <a:ext cx="24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омбардировщики AEG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" descr="SswR1_1"/>
          <p:cNvPicPr/>
          <p:nvPr/>
        </p:nvPicPr>
        <p:blipFill>
          <a:blip r:embed="rId5"/>
          <a:stretch/>
        </p:blipFill>
        <p:spPr>
          <a:xfrm>
            <a:off x="611280" y="3500280"/>
            <a:ext cx="4680000" cy="1343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2"/>
          <p:cNvSpPr/>
          <p:nvPr/>
        </p:nvSpPr>
        <p:spPr>
          <a:xfrm>
            <a:off x="5003640" y="427032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омбардировщики "Сименс-Шуккерт"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4" descr="JuCL1_1803"/>
          <p:cNvPicPr/>
          <p:nvPr/>
        </p:nvPicPr>
        <p:blipFill>
          <a:blip r:embed="rId6"/>
          <a:stretch/>
        </p:blipFill>
        <p:spPr>
          <a:xfrm>
            <a:off x="755640" y="1765440"/>
            <a:ext cx="3024360" cy="1123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5"/>
          <p:cNvSpPr/>
          <p:nvPr/>
        </p:nvSpPr>
        <p:spPr>
          <a:xfrm>
            <a:off x="1983240" y="249192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ведчики "Юнкерс"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003 0.0118 0.06024 0.02359 0.06667 0.0444 C 0.07309 0.06521 0.05851 0.11214 0.03819 0.12486 C 0.01788 0.13758 -0.03628 0.1318 -0.05556 0.12047 C -0.07483 0.10914 -0.07656 0.07261 -0.07778 0.05711 C -0.07899 0.04162 -0.06753 0.03977 -0.06337 0.02752 C -0.0592 0.01526 -0.05677 -0.0067 -0.05226 -0.01687 C -0.04774 -0.02705 -0.04271 -0.03121 -0.03646 -0.03375 C -0.03021 -0.0363 -0.02135 -0.0326 -0.01424 -0.03167 C -0.00712 -0.03075 -0.00035 -0.02913 0.00642 -0.02751 E">
                                      <p:cBhvr>
                                        <p:cTn id="14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003 0.0118 0.06024 0.02359 0.06667 0.0444 C 0.07309 0.06521 0.05851 0.11214 0.03819 0.12486 C 0.01788 0.13758 -0.03628 0.1318 -0.05556 0.12047 C -0.07483 0.10914 -0.07656 0.07261 -0.07778 0.05711 C -0.07899 0.04162 -0.06753 0.03977 -0.06337 0.02752 C -0.0592 0.01526 -0.05677 -0.0067 -0.05226 -0.01687 C -0.04774 -0.02705 -0.04271 -0.03121 -0.03646 -0.03375 C -0.03021 -0.0363 -0.02135 -0.0326 -0.01424 -0.03167 C -0.00712 -0.03075 -0.00035 -0.02913 0.00642 -0.02751 E">
                                      <p:cBhvr>
                                        <p:cTn id="14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5 0.01295 0.0368 0.05549 0.03333 0.07168 C 0.02986 0.08786 -0.00591 0.1052 -0.02066 0.09711 C -0.03542 0.08902 -0.05261 0.03746 -0.05556 0.02312 C -0.05851 0.00879 -0.04445 0.01526 -0.0382 0.0104 C -0.03195 0.00555 -0.02396 -0.0037 -0.01754 -0.00647 C -0.01111 -0.00925 -0.00851 -0.01295 0 0 Z">
                                      <p:cBhvr>
                                        <p:cTn id="14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5 0.01295 0.0368 0.05549 0.03333 0.07168 C 0.02986 0.08786 -0.00591 0.1052 -0.02066 0.09711 C -0.03542 0.08902 -0.05261 0.03746 -0.05556 0.02312 C -0.05851 0.00879 -0.04445 0.01526 -0.0382 0.0104 C -0.03195 0.00555 -0.02396 -0.0037 -0.01754 -0.00647 C -0.01111 -0.00925 -0.00851 -0.01295 0 0 Z">
                                      <p:cBhvr>
                                        <p:cTn id="14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5 0.01295 0.0368 0.05549 0.03333 0.07168 C 0.02986 0.08786 -0.00591 0.1052 -0.02066 0.09711 C -0.03542 0.08902 -0.05261 0.03746 -0.05556 0.02312 C -0.05851 0.00879 -0.04445 0.01526 -0.0382 0.0104 C -0.03195 0.00555 -0.02396 -0.0037 -0.01754 -0.00647 C -0.01111 -0.00925 -0.00851 -0.01295 0 0 Z">
                                      <p:cBhvr>
                                        <p:cTn id="1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Авиация Антанты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62" name="Picture 5" descr="Fra"/>
          <p:cNvPicPr/>
          <p:nvPr/>
        </p:nvPicPr>
        <p:blipFill>
          <a:blip r:embed="rId1"/>
          <a:stretch/>
        </p:blipFill>
        <p:spPr>
          <a:xfrm rot="19892400">
            <a:off x="468000" y="1052280"/>
            <a:ext cx="75384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ep1_37"/>
          <p:cNvPicPr/>
          <p:nvPr/>
        </p:nvPicPr>
        <p:blipFill>
          <a:blip r:embed="rId2"/>
          <a:stretch/>
        </p:blipFill>
        <p:spPr>
          <a:xfrm>
            <a:off x="5219640" y="1341360"/>
            <a:ext cx="3672000" cy="135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MSN_388_1"/>
          <p:cNvPicPr/>
          <p:nvPr/>
        </p:nvPicPr>
        <p:blipFill>
          <a:blip r:embed="rId3"/>
          <a:stretch/>
        </p:blipFill>
        <p:spPr>
          <a:xfrm>
            <a:off x="900000" y="1114560"/>
            <a:ext cx="4103640" cy="1769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"/>
          <p:cNvSpPr/>
          <p:nvPr/>
        </p:nvSpPr>
        <p:spPr>
          <a:xfrm>
            <a:off x="6732720" y="242100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омбардировщики "Капрони"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580000" y="62064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стребители "Ньюпор"-11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ведчики "Спад"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2127600" y="2491920"/>
            <a:ext cx="23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стребител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ора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8" descr="DH9a_E772"/>
          <p:cNvPicPr/>
          <p:nvPr/>
        </p:nvPicPr>
        <p:blipFill>
          <a:blip r:embed="rId6"/>
          <a:stretch/>
        </p:blipFill>
        <p:spPr>
          <a:xfrm>
            <a:off x="5219640" y="5300640"/>
            <a:ext cx="3597480" cy="1332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3"/>
          <p:cNvSpPr/>
          <p:nvPr/>
        </p:nvSpPr>
        <p:spPr>
          <a:xfrm>
            <a:off x="5439240" y="51573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ведчик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rc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5" descr="Bomber_9311"/>
          <p:cNvPicPr/>
          <p:nvPr/>
        </p:nvPicPr>
        <p:blipFill>
          <a:blip r:embed="rId7"/>
          <a:stretch/>
        </p:blipFill>
        <p:spPr>
          <a:xfrm>
            <a:off x="2916360" y="3141720"/>
            <a:ext cx="5472000" cy="1865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7"/>
          <p:cNvSpPr/>
          <p:nvPr/>
        </p:nvSpPr>
        <p:spPr>
          <a:xfrm>
            <a:off x="5295600" y="35017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ort Bombe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2" descr="Bri"/>
          <p:cNvPicPr/>
          <p:nvPr/>
        </p:nvPicPr>
        <p:blipFill>
          <a:blip r:embed="rId8"/>
          <a:stretch/>
        </p:blipFill>
        <p:spPr>
          <a:xfrm rot="20476200">
            <a:off x="701280" y="3338280"/>
            <a:ext cx="75420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Camel_B6313_3"/>
          <p:cNvPicPr/>
          <p:nvPr/>
        </p:nvPicPr>
        <p:blipFill>
          <a:blip r:embed="rId9"/>
          <a:stretch/>
        </p:blipFill>
        <p:spPr>
          <a:xfrm>
            <a:off x="324000" y="5084640"/>
            <a:ext cx="3240000" cy="1565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5"/>
          <p:cNvSpPr/>
          <p:nvPr/>
        </p:nvSpPr>
        <p:spPr>
          <a:xfrm>
            <a:off x="1187280" y="486900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требител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pwith F.1 Camel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68" descr="Richthofen_M_AEGG2"/>
          <p:cNvPicPr/>
          <p:nvPr/>
        </p:nvPicPr>
        <p:blipFill>
          <a:blip r:embed="rId1"/>
          <a:stretch/>
        </p:blipFill>
        <p:spPr>
          <a:xfrm>
            <a:off x="2124000" y="1341360"/>
            <a:ext cx="5616720" cy="2038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Лётчики-асы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grpSp>
        <p:nvGrpSpPr>
          <p:cNvPr id="177" name="Group 102"/>
          <p:cNvGrpSpPr/>
          <p:nvPr/>
        </p:nvGrpSpPr>
        <p:grpSpPr>
          <a:xfrm>
            <a:off x="539640" y="3645000"/>
            <a:ext cx="2232000" cy="2497320"/>
            <a:chOff x="539640" y="3645000"/>
            <a:chExt cx="2232000" cy="2497320"/>
          </a:xfrm>
        </p:grpSpPr>
        <p:sp>
          <p:nvSpPr>
            <p:cNvPr id="178" name="Rectangle 10"/>
            <p:cNvSpPr/>
            <p:nvPr/>
          </p:nvSpPr>
          <p:spPr>
            <a:xfrm>
              <a:off x="543600" y="5805000"/>
              <a:ext cx="214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99"/>
                  </a:solidFill>
                  <a:latin typeface="Times New Roman"/>
                </a:rPr>
                <a:t>Bishop William Avery</a:t>
              </a:r>
              <a:r>
                <a:rPr b="1" lang="en-US" sz="1100" spc="-1" strike="noStrike">
                  <a:solidFill>
                    <a:srgbClr val="330099"/>
                  </a:solidFill>
                  <a:latin typeface="Times New Roman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Picture 16" descr="Bishop"/>
            <p:cNvPicPr/>
            <p:nvPr/>
          </p:nvPicPr>
          <p:blipFill>
            <a:blip r:embed="rId2"/>
            <a:stretch/>
          </p:blipFill>
          <p:spPr>
            <a:xfrm>
              <a:off x="539640" y="3645000"/>
              <a:ext cx="1486080" cy="20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41"/>
            <p:cNvSpPr/>
            <p:nvPr/>
          </p:nvSpPr>
          <p:spPr>
            <a:xfrm>
              <a:off x="1692360" y="429264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Picture 12" descr="Великобритания"/>
            <p:cNvPicPr/>
            <p:nvPr/>
          </p:nvPicPr>
          <p:blipFill>
            <a:blip r:embed="rId3"/>
            <a:stretch/>
          </p:blipFill>
          <p:spPr>
            <a:xfrm>
              <a:off x="1908000" y="3716280"/>
              <a:ext cx="754200" cy="50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71"/>
          <p:cNvGrpSpPr/>
          <p:nvPr/>
        </p:nvGrpSpPr>
        <p:grpSpPr>
          <a:xfrm>
            <a:off x="3102840" y="1413000"/>
            <a:ext cx="2621520" cy="2497320"/>
            <a:chOff x="3102840" y="1413000"/>
            <a:chExt cx="2621520" cy="2497320"/>
          </a:xfrm>
        </p:grpSpPr>
        <p:sp>
          <p:nvSpPr>
            <p:cNvPr id="183" name="Rectangle 42"/>
            <p:cNvSpPr/>
            <p:nvPr/>
          </p:nvSpPr>
          <p:spPr>
            <a:xfrm>
              <a:off x="3102840" y="3573000"/>
              <a:ext cx="235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99"/>
                  </a:solidFill>
                  <a:latin typeface="Times New Roman"/>
                </a:rPr>
                <a:t>von Richthofen Manfred</a:t>
              </a:r>
              <a:r>
                <a:rPr b="1" lang="en-US" sz="1100" spc="-1" strike="noStrike">
                  <a:solidFill>
                    <a:srgbClr val="330099"/>
                  </a:solidFill>
                  <a:latin typeface="Times New Roman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Picture 48" descr="Richthofen_M"/>
            <p:cNvPicPr/>
            <p:nvPr/>
          </p:nvPicPr>
          <p:blipFill>
            <a:blip r:embed="rId4"/>
            <a:stretch/>
          </p:blipFill>
          <p:spPr>
            <a:xfrm>
              <a:off x="3603600" y="1413000"/>
              <a:ext cx="14857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71"/>
            <p:cNvSpPr/>
            <p:nvPr/>
          </p:nvSpPr>
          <p:spPr>
            <a:xfrm>
              <a:off x="5116320" y="3213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8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Picture 44" descr="Германия"/>
            <p:cNvPicPr/>
            <p:nvPr/>
          </p:nvPicPr>
          <p:blipFill>
            <a:blip r:embed="rId5"/>
            <a:stretch/>
          </p:blipFill>
          <p:spPr>
            <a:xfrm>
              <a:off x="4970520" y="2565360"/>
              <a:ext cx="75384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104"/>
          <p:cNvGrpSpPr/>
          <p:nvPr/>
        </p:nvGrpSpPr>
        <p:grpSpPr>
          <a:xfrm>
            <a:off x="3203640" y="3860640"/>
            <a:ext cx="2075040" cy="2492640"/>
            <a:chOff x="3203640" y="3860640"/>
            <a:chExt cx="2075040" cy="2492640"/>
          </a:xfrm>
        </p:grpSpPr>
        <p:sp>
          <p:nvSpPr>
            <p:cNvPr id="188" name="Rectangle 72"/>
            <p:cNvSpPr/>
            <p:nvPr/>
          </p:nvSpPr>
          <p:spPr>
            <a:xfrm>
              <a:off x="3421800" y="6015960"/>
              <a:ext cx="185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99"/>
                  </a:solidFill>
                  <a:latin typeface="Times New Roman"/>
                </a:rPr>
                <a:t>Baracca Francesco</a:t>
              </a:r>
              <a:r>
                <a:rPr b="1" lang="en-US" sz="1100" spc="-1" strike="noStrike">
                  <a:solidFill>
                    <a:srgbClr val="330099"/>
                  </a:solidFill>
                  <a:latin typeface="Times New Roman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Picture 78" descr="Baracca"/>
            <p:cNvPicPr/>
            <p:nvPr/>
          </p:nvPicPr>
          <p:blipFill>
            <a:blip r:embed="rId6"/>
            <a:stretch/>
          </p:blipFill>
          <p:spPr>
            <a:xfrm>
              <a:off x="3708360" y="4003560"/>
              <a:ext cx="148536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101"/>
            <p:cNvSpPr/>
            <p:nvPr/>
          </p:nvSpPr>
          <p:spPr>
            <a:xfrm>
              <a:off x="3205080" y="450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Picture 74" descr="Италия"/>
            <p:cNvPicPr/>
            <p:nvPr/>
          </p:nvPicPr>
          <p:blipFill>
            <a:blip r:embed="rId7"/>
            <a:stretch/>
          </p:blipFill>
          <p:spPr>
            <a:xfrm>
              <a:off x="3203640" y="3860640"/>
              <a:ext cx="75384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135"/>
          <p:cNvGrpSpPr/>
          <p:nvPr/>
        </p:nvGrpSpPr>
        <p:grpSpPr>
          <a:xfrm>
            <a:off x="6300720" y="907920"/>
            <a:ext cx="2198520" cy="2424600"/>
            <a:chOff x="6300720" y="907920"/>
            <a:chExt cx="2198520" cy="2424600"/>
          </a:xfrm>
        </p:grpSpPr>
        <p:sp>
          <p:nvSpPr>
            <p:cNvPr id="193" name="Rectangle 105"/>
            <p:cNvSpPr/>
            <p:nvPr/>
          </p:nvSpPr>
          <p:spPr>
            <a:xfrm>
              <a:off x="6808320" y="2995200"/>
              <a:ext cx="16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99"/>
                  </a:solidFill>
                  <a:latin typeface="Times New Roman"/>
                </a:rPr>
                <a:t>Fonck René Paul</a:t>
              </a:r>
              <a:r>
                <a:rPr b="1" lang="en-US" sz="1100" spc="-1" strike="noStrike">
                  <a:solidFill>
                    <a:srgbClr val="330099"/>
                  </a:solidFill>
                  <a:latin typeface="Times New Roman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Picture 111" descr="Fonck"/>
            <p:cNvPicPr/>
            <p:nvPr/>
          </p:nvPicPr>
          <p:blipFill>
            <a:blip r:embed="rId8"/>
            <a:stretch/>
          </p:blipFill>
          <p:spPr>
            <a:xfrm>
              <a:off x="6948360" y="907920"/>
              <a:ext cx="14857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34"/>
            <p:cNvSpPr/>
            <p:nvPr/>
          </p:nvSpPr>
          <p:spPr>
            <a:xfrm>
              <a:off x="6589440" y="184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Picture 107" descr="Франция"/>
            <p:cNvPicPr/>
            <p:nvPr/>
          </p:nvPicPr>
          <p:blipFill>
            <a:blip r:embed="rId9"/>
            <a:stretch/>
          </p:blipFill>
          <p:spPr>
            <a:xfrm>
              <a:off x="6300720" y="979560"/>
              <a:ext cx="75384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166"/>
          <p:cNvGrpSpPr/>
          <p:nvPr/>
        </p:nvGrpSpPr>
        <p:grpSpPr>
          <a:xfrm>
            <a:off x="6624720" y="3716280"/>
            <a:ext cx="2518920" cy="2525400"/>
            <a:chOff x="6624720" y="3716280"/>
            <a:chExt cx="2518920" cy="2525400"/>
          </a:xfrm>
        </p:grpSpPr>
        <p:sp>
          <p:nvSpPr>
            <p:cNvPr id="198" name="Rectangle 136"/>
            <p:cNvSpPr/>
            <p:nvPr/>
          </p:nvSpPr>
          <p:spPr>
            <a:xfrm>
              <a:off x="6840360" y="5661000"/>
              <a:ext cx="23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99"/>
                  </a:solidFill>
                  <a:latin typeface="Times New Roman"/>
                </a:rPr>
                <a:t>Козаков Александр Александрович</a:t>
              </a:r>
              <a:r>
                <a:rPr b="1" lang="en-US" sz="1100" spc="-1" strike="noStrike">
                  <a:solidFill>
                    <a:srgbClr val="330099"/>
                  </a:solidFill>
                  <a:latin typeface="Times New Roman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Picture 142" descr="Kozakov"/>
            <p:cNvPicPr/>
            <p:nvPr/>
          </p:nvPicPr>
          <p:blipFill>
            <a:blip r:embed="rId10"/>
            <a:stretch/>
          </p:blipFill>
          <p:spPr>
            <a:xfrm>
              <a:off x="7200720" y="3716280"/>
              <a:ext cx="14857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65"/>
            <p:cNvSpPr/>
            <p:nvPr/>
          </p:nvSpPr>
          <p:spPr>
            <a:xfrm>
              <a:off x="6698880" y="443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Picture 138" descr="Россия"/>
            <p:cNvPicPr/>
            <p:nvPr/>
          </p:nvPicPr>
          <p:blipFill>
            <a:blip r:embed="rId11"/>
            <a:stretch/>
          </p:blipFill>
          <p:spPr>
            <a:xfrm>
              <a:off x="6624720" y="3787560"/>
              <a:ext cx="753840" cy="5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tvo03002"/>
          <p:cNvPicPr/>
          <p:nvPr/>
        </p:nvPicPr>
        <p:blipFill>
          <a:blip r:embed="rId1"/>
          <a:stretch/>
        </p:blipFill>
        <p:spPr>
          <a:xfrm>
            <a:off x="3059280" y="3068640"/>
            <a:ext cx="3743280" cy="318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Пулемёты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204" name="Picture 5" descr="27285427"/>
          <p:cNvPicPr/>
          <p:nvPr/>
        </p:nvPicPr>
        <p:blipFill>
          <a:blip r:embed="rId2"/>
          <a:stretch/>
        </p:blipFill>
        <p:spPr>
          <a:xfrm>
            <a:off x="0" y="83664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613080" y="299736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,62 Maxim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10 г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8" descr="51941428"/>
          <p:cNvPicPr/>
          <p:nvPr/>
        </p:nvPicPr>
        <p:blipFill>
          <a:blip r:embed="rId3"/>
          <a:stretch/>
        </p:blipFill>
        <p:spPr>
          <a:xfrm>
            <a:off x="611280" y="350028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473040" y="5157720"/>
            <a:ext cx="124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-мм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at-Revelli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14 г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1" descr="66455554"/>
          <p:cNvPicPr/>
          <p:nvPr/>
        </p:nvPicPr>
        <p:blipFill>
          <a:blip r:embed="rId4"/>
          <a:stretch/>
        </p:blipFill>
        <p:spPr>
          <a:xfrm>
            <a:off x="4859280" y="333360"/>
            <a:ext cx="3888000" cy="2592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2"/>
          <p:cNvSpPr/>
          <p:nvPr/>
        </p:nvSpPr>
        <p:spPr>
          <a:xfrm>
            <a:off x="6591960" y="24922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-мм Hotchkis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14 г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03403 C -0.00468 -0.03333 -0.00816 -0.03102 -0.00816 -0.02917 C -0.00816 -0.02755 -0.00468 -0.02639 -0.00017 -0.02639 C 0.00434 -0.02639 0.00834 -0.02755 0.00834 -0.02917 C 0.00834 -0.03102 0.00417 -0.03148 -0.00034 -0.03032 C -0.00486 -0.02894 -0.00816 -0.02662 -0.00816 -0.025 C -0.00816 -0.02338 -0.00468 -0.02199 -0.00017 -0.02199 C 0.00434 -0.02199 0.00834 -0.02338 0.00834 -0.025 C 0.00834 -0.02662 0.00417 -0.02708 -0.00017 -0.02593 C -0.00486 -0.02477 -0.00816 -0.02245 -0.00816 -0.02083 C -0.00816 -0.01898 -0.00468 -0.01759 -0.00017 -0.01759 C 0.00434 -0.01759 0.00834 -0.01898 0.00834 -0.02083 C 0.00834 -0.02222 0.00417 -0.02269 -0.00017 -0.02176 C -0.00468 -0.02037 -0.00816 -0.01806 -0.00816 -0.01644 C -0.00816 -0.01482 -0.00468 -0.01343 -0.00017 -0.01343 C 0.00452 -0.01343 0.00834 -0.01482 0.00834 -0.01644 C 0.00834 -0.01806 0.00434 -0.01852 -0.00017 -0.01736 C -0.00468 -0.0162 -0.00816 -0.01366 -0.00816 -0.01204 C -0.00816 -0.01042 -0.00468 -0.00903 -3.05556E-006 -0.00903 C 0.00452 -0.00903 0.00834 -0.01042 0.00834 -0.01204 C 0.00834 -0.01366 0.00434 -0.01435 -0.00017 -0.0132 C -0.00468 -0.01181 -0.00816 -0.00949 -0.00816 -0.00787 C -0.00816 -0.00625 -0.00451 -0.00486 -3.05556E-006 -0.00486 C 0.00452 -0.00486 0.00834 -0.00625 0.00834 -0.00787 C 0.00834 -0.00949 0.00434 -0.00995 -0.00017 -0.0088 C -0.00468 -0.00764 -0.00816 -0.00532 -0.00816 -0.00347 C -0.00816 -0.00208 -0.00451 -0.00046 -3.05556E-006 -0.00046 C 0.00452 -0.00046 0.00834 -0.00185 0.00834 -0.00347 C 0.00834 -0.00532 0.00434 -0.00579 -0.00017 -0.0044 C -0.00468 -0.00324 -0.00816 -0.00116 -0.00816 0.00069 C -0.00816 0.00231 -0.00451 0.0037 -3.05556E-006 0.0037 C 0.00452 0.0037 0.00834 0.00231 0.00834 0.00046 C 0.00834 -0.00116 0.00452 -0.00139 -3.05556E-006 7.40741E-007 E">
                                      <p:cBhvr>
                                        <p:cTn id="22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02847 C -0.00451 -0.02778 -0.00781 -0.02593 -0.00781 -0.02454 C -0.00781 -0.02315 -0.00451 -0.02199 -0.00017 -0.02199 C 0.00417 -0.02199 0.00799 -0.02315 0.00799 -0.02454 C 0.00799 -0.02593 0.004 -0.02639 -0.00034 -0.02546 C -0.00468 -0.02431 -0.00781 -0.02222 -0.00781 -0.02107 C -0.00781 -0.01945 -0.00451 -0.01829 -0.00017 -0.01829 C 0.00417 -0.01829 0.00799 -0.01945 0.00799 -0.02107 C 0.00799 -0.02222 0.004 -0.02269 -0.00034 -0.02176 C -0.00468 -0.0206 -0.00781 -0.01875 -0.00781 -0.01736 C -0.00781 -0.01574 -0.00451 -0.01459 -0.00017 -0.01459 C 0.00417 -0.01459 0.00799 -0.01574 0.00799 -0.01736 C 0.00799 -0.01875 0.004 -0.01898 -0.00034 -0.01806 C -0.00451 -0.01713 -0.00781 -0.01505 -0.00781 -0.01366 C -0.00781 -0.01227 -0.00451 -0.01111 -0.00017 -0.01111 C 0.00434 -0.01111 0.00799 -0.01227 0.00799 -0.01366 C 0.00799 -0.01505 0.00417 -0.01551 -0.00017 -0.01459 C -0.00451 -0.01343 -0.00781 -0.01158 -0.00781 -0.01019 C -0.00781 -0.00857 -0.00451 -0.00764 -3.05556E-006 -0.00764 C 0.00434 -0.00764 0.00799 -0.0088 0.00799 -0.01019 C 0.00799 -0.01158 0.00417 -0.01204 -0.00017 -0.01088 C -0.00451 -0.00996 -0.00781 -0.00787 -0.00781 -0.00671 C -0.00781 -0.00533 -0.00434 -0.00417 -3.05556E-006 -0.00417 C 0.00434 -0.00417 0.00799 -0.00533 0.00799 -0.00671 C 0.00799 -0.00787 0.00417 -0.00834 -0.00017 -0.00741 C -0.00451 -0.00648 -0.00781 -0.0044 -0.00781 -0.00301 C -0.00781 -0.00185 -0.00434 -0.00046 -3.05556E-006 -0.00046 C 0.00434 -0.00046 0.00799 -0.00162 0.00799 -0.00301 C 0.00799 -0.0044 0.00417 -0.00463 -0.00017 -0.00371 C -0.00451 -0.00278 -0.00781 -0.00093 -0.00781 0.00046 C -0.00781 0.00185 -0.00434 0.00324 -3.05556E-006 0.00324 C 0.00434 0.00324 0.00799 0.00185 0.00799 0.00046 C 0.00799 -0.00093 0.00434 -0.00116 -3.05556E-006 1.85185E-006 E">
                                      <p:cBhvr>
                                        <p:cTn id="22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Связь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211" name="Picture 5" descr="01019634"/>
          <p:cNvPicPr/>
          <p:nvPr/>
        </p:nvPicPr>
        <p:blipFill>
          <a:blip r:embed="rId1"/>
          <a:stretch/>
        </p:blipFill>
        <p:spPr>
          <a:xfrm>
            <a:off x="395280" y="1413000"/>
            <a:ext cx="5905440" cy="4319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6300720" y="3645000"/>
            <a:ext cx="252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сский телеграфный аппарат Брест - Санкт-Петербур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250920" y="260280"/>
            <a:ext cx="4319640" cy="3132360"/>
            <a:chOff x="250920" y="260280"/>
            <a:chExt cx="4319640" cy="3132360"/>
          </a:xfrm>
        </p:grpSpPr>
        <p:pic>
          <p:nvPicPr>
            <p:cNvPr id="215" name="Picture 5" descr="26017115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4319640" cy="31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6"/>
            <p:cNvSpPr/>
            <p:nvPr/>
          </p:nvSpPr>
          <p:spPr>
            <a:xfrm>
              <a:off x="253440" y="2781360"/>
              <a:ext cx="42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Французские зенитчики 1917 г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Picture 9" descr="15425883"/>
          <p:cNvPicPr/>
          <p:nvPr/>
        </p:nvPicPr>
        <p:blipFill>
          <a:blip r:embed="rId2"/>
          <a:stretch/>
        </p:blipFill>
        <p:spPr>
          <a:xfrm>
            <a:off x="3924360" y="3251160"/>
            <a:ext cx="4557600" cy="3154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"/>
          <p:cNvSpPr/>
          <p:nvPr/>
        </p:nvSpPr>
        <p:spPr>
          <a:xfrm>
            <a:off x="1403280" y="4797360"/>
            <a:ext cx="253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мецкий Кайзер приветствует проходящие войск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ядом с ним - кронпринц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220" name="Picture 5" descr="85677297"/>
          <p:cNvPicPr/>
          <p:nvPr/>
        </p:nvPicPr>
        <p:blipFill>
          <a:blip r:embed="rId1"/>
          <a:stretch/>
        </p:blipFill>
        <p:spPr>
          <a:xfrm>
            <a:off x="324000" y="3429000"/>
            <a:ext cx="4822560" cy="3214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254160" y="314172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70 мм ж/д пушка F4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8" descr="57128360"/>
          <p:cNvPicPr/>
          <p:nvPr/>
        </p:nvPicPr>
        <p:blipFill>
          <a:blip r:embed="rId2"/>
          <a:stretch/>
        </p:blipFill>
        <p:spPr>
          <a:xfrm>
            <a:off x="3348000" y="836640"/>
            <a:ext cx="5143680" cy="3279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9"/>
          <p:cNvSpPr/>
          <p:nvPr/>
        </p:nvSpPr>
        <p:spPr>
          <a:xfrm>
            <a:off x="5227200" y="4149720"/>
            <a:ext cx="35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бы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усски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енерал, смотр войск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225" name="Picture 4" descr="39"/>
          <p:cNvPicPr/>
          <p:nvPr/>
        </p:nvPicPr>
        <p:blipFill>
          <a:blip r:embed="rId1"/>
          <a:stretch/>
        </p:blipFill>
        <p:spPr>
          <a:xfrm>
            <a:off x="395280" y="260280"/>
            <a:ext cx="3889440" cy="34164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468360" y="3717360"/>
            <a:ext cx="36288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вгустейший Верховный Главнокомандующий Великий Князь Николай Николаевич в своей ставке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9" descr="9"/>
          <p:cNvPicPr/>
          <p:nvPr/>
        </p:nvPicPr>
        <p:blipFill>
          <a:blip r:embed="rId2"/>
          <a:stretch/>
        </p:blipFill>
        <p:spPr>
          <a:xfrm>
            <a:off x="4284720" y="3637080"/>
            <a:ext cx="45370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5c2305"/>
                </a:solidFill>
                <a:latin typeface="Verdana"/>
              </a:rPr>
              <a:t>План: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2305"/>
                </a:solidFill>
                <a:latin typeface="Verdana"/>
              </a:rPr>
              <a:t>Тяжелая бронетехника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2305"/>
                </a:solidFill>
                <a:latin typeface="Verdana"/>
              </a:rPr>
              <a:t>Химическое оружие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2305"/>
                </a:solidFill>
                <a:latin typeface="Verdana"/>
              </a:rPr>
              <a:t>Военная авиация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2305"/>
                </a:solidFill>
                <a:latin typeface="Verdana"/>
              </a:rPr>
              <a:t>Пулемёты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2305"/>
                </a:solidFill>
                <a:latin typeface="Verdana"/>
              </a:rPr>
              <a:t>Военная радиосвязь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2305"/>
                </a:solidFill>
                <a:latin typeface="Verdana"/>
              </a:rPr>
              <a:t>Кино-фотодокументы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3880" y="1752480"/>
            <a:ext cx="7512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Презентацию подготовил: 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ученик 9 «а» класса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5c2305"/>
                </a:solidFill>
                <a:latin typeface="Verdana"/>
              </a:rPr>
              <a:t>Парамонов Виктор</a:t>
            </a:r>
            <a:endParaRPr b="0" lang="en-US" sz="24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Танки АНТАНТА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91" name="Picture 13" descr="Легкий французский танк Рено"/>
          <p:cNvPicPr/>
          <p:nvPr/>
        </p:nvPicPr>
        <p:blipFill>
          <a:blip r:embed="rId1"/>
          <a:stretch/>
        </p:blipFill>
        <p:spPr>
          <a:xfrm>
            <a:off x="2268360" y="5013360"/>
            <a:ext cx="2665440" cy="14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Опытный американский танк Форд"/>
          <p:cNvPicPr/>
          <p:nvPr/>
        </p:nvPicPr>
        <p:blipFill>
          <a:blip r:embed="rId2"/>
          <a:stretch/>
        </p:blipFill>
        <p:spPr>
          <a:xfrm>
            <a:off x="5938920" y="3759120"/>
            <a:ext cx="2666880" cy="1467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42"/>
          <p:cNvPicPr/>
          <p:nvPr/>
        </p:nvPicPr>
        <p:blipFill>
          <a:blip r:embed="rId3"/>
          <a:stretch/>
        </p:blipFill>
        <p:spPr>
          <a:xfrm>
            <a:off x="539640" y="1484280"/>
            <a:ext cx="3121200" cy="162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43"/>
          <p:cNvPicPr/>
          <p:nvPr/>
        </p:nvPicPr>
        <p:blipFill>
          <a:blip r:embed="rId4"/>
          <a:stretch/>
        </p:blipFill>
        <p:spPr>
          <a:xfrm>
            <a:off x="539640" y="3213000"/>
            <a:ext cx="3075120" cy="1611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402840" y="4581360"/>
            <a:ext cx="32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глийский скоростной танк Уипетт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338120" y="285264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глийский танк марки V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5224680" y="501336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гкий французский танк Рено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1" descr="st_ch_7"/>
          <p:cNvPicPr/>
          <p:nvPr/>
        </p:nvPicPr>
        <p:blipFill>
          <a:blip r:embed="rId5"/>
          <a:stretch/>
        </p:blipFill>
        <p:spPr>
          <a:xfrm>
            <a:off x="4932360" y="1125360"/>
            <a:ext cx="3384720" cy="2563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3"/>
          <p:cNvSpPr/>
          <p:nvPr/>
        </p:nvSpPr>
        <p:spPr>
          <a:xfrm>
            <a:off x="5150880" y="33577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нк "Сен-Шамон"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4932360" y="5516640"/>
            <a:ext cx="210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ытный американский танк Форд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Танки тройственного союза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02" name="Picture 4" descr="Первый немецкий танк A-7-V"/>
          <p:cNvPicPr/>
          <p:nvPr/>
        </p:nvPicPr>
        <p:blipFill>
          <a:blip r:embed="rId1"/>
          <a:stretch/>
        </p:blipFill>
        <p:spPr>
          <a:xfrm>
            <a:off x="5724360" y="1413000"/>
            <a:ext cx="2665440" cy="1546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Сверхтяжелый немецкий танк марки К"/>
          <p:cNvPicPr/>
          <p:nvPr/>
        </p:nvPicPr>
        <p:blipFill>
          <a:blip r:embed="rId2"/>
          <a:stretch/>
        </p:blipFill>
        <p:spPr>
          <a:xfrm>
            <a:off x="395280" y="4902120"/>
            <a:ext cx="424980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5874480" y="316692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ый немецкий танк A-7-V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505400" y="4981680"/>
            <a:ext cx="36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"Сверхтанк" марки К - "Колоссаль"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45080" y="548640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ом около 150 т. Это был самый крупный танк из когда-либо построенных. Было сделано два таких танка, но в боях они участия принять не успели и были уничтожены согласно Версальскому договору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6" descr="2"/>
          <p:cNvPicPr/>
          <p:nvPr/>
        </p:nvPicPr>
        <p:blipFill>
          <a:blip r:embed="rId3"/>
          <a:stretch/>
        </p:blipFill>
        <p:spPr>
          <a:xfrm>
            <a:off x="539640" y="1628640"/>
            <a:ext cx="3961080" cy="2487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8"/>
          <p:cNvSpPr/>
          <p:nvPr/>
        </p:nvSpPr>
        <p:spPr>
          <a:xfrm>
            <a:off x="1603800" y="4194000"/>
            <a:ext cx="28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яжелый танк "Фиат-2000"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Танки России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10" name="Picture 5" descr="Tmc"/>
          <p:cNvPicPr/>
          <p:nvPr/>
        </p:nvPicPr>
        <p:blipFill>
          <a:blip r:embed="rId1"/>
          <a:stretch/>
        </p:blipFill>
        <p:spPr>
          <a:xfrm>
            <a:off x="2700360" y="2565360"/>
            <a:ext cx="5978520" cy="301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Mendel"/>
          <p:cNvPicPr/>
          <p:nvPr/>
        </p:nvPicPr>
        <p:blipFill>
          <a:blip r:embed="rId2"/>
          <a:stretch/>
        </p:blipFill>
        <p:spPr>
          <a:xfrm>
            <a:off x="2627280" y="1554120"/>
            <a:ext cx="5764320" cy="1611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324000" y="55245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нк Менделеева в декабре 1911 года. Проект представил в военное ведомство инженер В.Д. Менделеев — сын знаменитого химика Д.И. Менделеев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Танки России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14" name="Picture 8" descr="Tl2_"/>
          <p:cNvPicPr/>
          <p:nvPr/>
        </p:nvPicPr>
        <p:blipFill>
          <a:blip r:embed="rId1"/>
          <a:stretch/>
        </p:blipFill>
        <p:spPr>
          <a:xfrm>
            <a:off x="0" y="1000080"/>
            <a:ext cx="6732720" cy="5205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lebedenko"/>
          <p:cNvPicPr/>
          <p:nvPr/>
        </p:nvPicPr>
        <p:blipFill>
          <a:blip r:embed="rId2"/>
          <a:stretch/>
        </p:blipFill>
        <p:spPr>
          <a:xfrm>
            <a:off x="4780080" y="3992400"/>
            <a:ext cx="4363920" cy="2865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 rot="1003200">
            <a:off x="5656320" y="252000"/>
            <a:ext cx="3405240" cy="1067400"/>
          </a:xfrm>
          <a:prstGeom prst="rect">
            <a:avLst/>
          </a:prstGeom>
          <a:solidFill>
            <a:srgbClr val="cc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енерал-лейтенант Милеант об английских танках: "22,Х1. Таких чудовищ мы делать не будем, так как у нас есть свое подобное"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929200" y="24267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есная боевая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женера-капита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. Лебеденк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Танки Росии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grpSp>
        <p:nvGrpSpPr>
          <p:cNvPr id="119" name="Group 16"/>
          <p:cNvGrpSpPr/>
          <p:nvPr/>
        </p:nvGrpSpPr>
        <p:grpSpPr>
          <a:xfrm>
            <a:off x="324000" y="1413000"/>
            <a:ext cx="5182920" cy="1347840"/>
            <a:chOff x="324000" y="1413000"/>
            <a:chExt cx="5182920" cy="1347840"/>
          </a:xfrm>
        </p:grpSpPr>
        <p:pic>
          <p:nvPicPr>
            <p:cNvPr id="120" name="Picture 4" descr="Бронеавтомобиль «Путилов-Гарфорд» 1914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26654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6"/>
            <p:cNvSpPr/>
            <p:nvPr/>
          </p:nvSpPr>
          <p:spPr>
            <a:xfrm>
              <a:off x="2843280" y="1557360"/>
              <a:ext cx="266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ронеавтомобиль «Путилов-Гарфорд» 1914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17"/>
          <p:cNvGrpSpPr/>
          <p:nvPr/>
        </p:nvGrpSpPr>
        <p:grpSpPr>
          <a:xfrm>
            <a:off x="6084720" y="549360"/>
            <a:ext cx="2667240" cy="1659960"/>
            <a:chOff x="6084720" y="549360"/>
            <a:chExt cx="2667240" cy="1659960"/>
          </a:xfrm>
        </p:grpSpPr>
        <p:pic>
          <p:nvPicPr>
            <p:cNvPr id="123" name="Picture 7" descr="Бронеавтомобиль «Руссо-Балт М» 1914 г"/>
            <p:cNvPicPr/>
            <p:nvPr/>
          </p:nvPicPr>
          <p:blipFill>
            <a:blip r:embed="rId2"/>
            <a:stretch/>
          </p:blipFill>
          <p:spPr>
            <a:xfrm>
              <a:off x="6084720" y="549360"/>
              <a:ext cx="26672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9"/>
            <p:cNvSpPr/>
            <p:nvPr/>
          </p:nvSpPr>
          <p:spPr>
            <a:xfrm>
              <a:off x="6227640" y="1628640"/>
              <a:ext cx="249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ронеавтомобиль «Руссо-Балт М» 1914 г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9"/>
          <p:cNvGrpSpPr/>
          <p:nvPr/>
        </p:nvGrpSpPr>
        <p:grpSpPr>
          <a:xfrm>
            <a:off x="179280" y="3429000"/>
            <a:ext cx="4248360" cy="3056040"/>
            <a:chOff x="179280" y="3429000"/>
            <a:chExt cx="4248360" cy="3056040"/>
          </a:xfrm>
        </p:grpSpPr>
        <p:pic>
          <p:nvPicPr>
            <p:cNvPr id="126" name="Picture 10" descr="Бронетрактор Ахтырец"/>
            <p:cNvPicPr/>
            <p:nvPr/>
          </p:nvPicPr>
          <p:blipFill>
            <a:blip r:embed="rId3"/>
            <a:stretch/>
          </p:blipFill>
          <p:spPr>
            <a:xfrm>
              <a:off x="179280" y="4025880"/>
              <a:ext cx="4248360" cy="24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2"/>
            <p:cNvSpPr/>
            <p:nvPr/>
          </p:nvSpPr>
          <p:spPr>
            <a:xfrm>
              <a:off x="684360" y="3429000"/>
              <a:ext cx="259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Колёсно-гусеничный бронетрактор «Ахтырец»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3780000" y="2781360"/>
            <a:ext cx="5143320" cy="3746520"/>
            <a:chOff x="3780000" y="2781360"/>
            <a:chExt cx="5143320" cy="3746520"/>
          </a:xfrm>
        </p:grpSpPr>
        <p:pic>
          <p:nvPicPr>
            <p:cNvPr id="129" name="Picture 13" descr="Илья Муромец"/>
            <p:cNvPicPr/>
            <p:nvPr/>
          </p:nvPicPr>
          <p:blipFill>
            <a:blip r:embed="rId4"/>
            <a:stretch/>
          </p:blipFill>
          <p:spPr>
            <a:xfrm>
              <a:off x="5788080" y="3068640"/>
              <a:ext cx="3135240" cy="34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5"/>
            <p:cNvSpPr/>
            <p:nvPr/>
          </p:nvSpPr>
          <p:spPr>
            <a:xfrm>
              <a:off x="3780000" y="2781360"/>
              <a:ext cx="244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Гусеничный танк «Илья Муромец»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Химическое оружие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32" name="Picture 5" descr="Первая мировая война - химическое оружие (14 фото)"/>
          <p:cNvPicPr/>
          <p:nvPr/>
        </p:nvPicPr>
        <p:blipFill>
          <a:blip r:embed="rId1"/>
          <a:stretch/>
        </p:blipFill>
        <p:spPr>
          <a:xfrm>
            <a:off x="324000" y="1557360"/>
            <a:ext cx="4722840" cy="3581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Первая мировая война - химическое оружие (14 фото)"/>
          <p:cNvPicPr/>
          <p:nvPr/>
        </p:nvPicPr>
        <p:blipFill>
          <a:blip r:embed="rId2"/>
          <a:stretch/>
        </p:blipFill>
        <p:spPr>
          <a:xfrm>
            <a:off x="5289480" y="1341360"/>
            <a:ext cx="3678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2305"/>
                </a:solidFill>
                <a:latin typeface="Verdana"/>
              </a:rPr>
              <a:t>Химическое оружие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135" name="Picture 5" descr="Первая мировая война - химическое оружие (14 фото)"/>
          <p:cNvPicPr/>
          <p:nvPr/>
        </p:nvPicPr>
        <p:blipFill>
          <a:blip r:embed="rId1"/>
          <a:stretch/>
        </p:blipFill>
        <p:spPr>
          <a:xfrm>
            <a:off x="250920" y="1341360"/>
            <a:ext cx="5113080" cy="3170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92360" y="1418760"/>
            <a:ext cx="3405240" cy="49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c2305"/>
                </a:solidFill>
                <a:latin typeface="Verdana"/>
              </a:rPr>
              <a:t>22 апреля 1915 г. германские войска в районе бельгийского городка Ипр применили против Антанты газовую атаку. 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c2305"/>
                </a:solidFill>
                <a:latin typeface="Verdana"/>
              </a:rPr>
              <a:t>180 тонн (из 5700 баллонов) высокотоксичного хлора,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c2305"/>
                </a:solidFill>
                <a:latin typeface="Verdana"/>
              </a:rPr>
              <a:t>15 тысяч солдат и офицеров. 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c2305"/>
                </a:solidFill>
                <a:latin typeface="Verdana"/>
              </a:rPr>
              <a:t>Пять тысяч человек погибли сразу, оставшиеся в живых либо умерли в госпиталях, либо навсегда остались инвалидами, получив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c2305"/>
                </a:solidFill>
                <a:latin typeface="Verdana"/>
              </a:rPr>
              <a:t>тяжелейшие поражения легких, органов зрения, многих внутренних органов.</a:t>
            </a:r>
            <a:endParaRPr b="0" lang="en-US" sz="1600" spc="-1" strike="noStrike">
              <a:solidFill>
                <a:srgbClr val="5c23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4:31:38Z</dcterms:created>
  <dc:creator>Соня Ермакова</dc:creator>
  <dc:description/>
  <cp:keywords/>
  <dc:language>en-US</dc:language>
  <cp:lastModifiedBy>Анастасия</cp:lastModifiedBy>
  <cp:lastPrinted>1996-03-19T21:02:48Z</cp:lastPrinted>
  <dcterms:modified xsi:type="dcterms:W3CDTF">2016-11-22T14:39:20Z</dcterms:modified>
  <cp:revision>40</cp:revision>
  <dc:subject/>
  <dc:title>Первая Мировая вой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