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9F7-EE2B-421D-B990-43B6DCCB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EE3-B2BC-42A7-B338-1A9EB2EE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BD1-00A3-4D75-9BC6-AA54643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CC3-1D6B-4E3D-8766-C7D7188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A40-6C5C-43AF-AC2F-0BE776D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117B-24D8-4824-8AF6-963B56E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436-FDEE-43B3-AF03-23B3DFD9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2C59-E276-447B-977F-1103068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11C1-7757-488A-AB30-260EA2EF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FAEC-C5AE-4AD5-A8DA-CC86C7C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2A09-B9A4-4DB2-A945-547A56B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45A-8DB7-4071-AA04-94683849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2A8D-C07B-4684-8567-E0D8063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259-7EDB-4C29-9C80-F36943B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B32-B51E-4668-83C3-03287831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F610-6709-4FFF-8680-3DF45908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32E8-1839-4493-B27D-43EE55BC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6A9-B765-4B6A-9EE6-E6952E1B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FD0-EF26-42E7-89E3-9B97FC1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5E8-6C52-4B55-958B-DC6C201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854-061A-46BF-8723-3E5BC6A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6AD-64D6-4CDA-837D-53E623A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471-BAB4-4043-AB90-F9C26EA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4AA-5AA6-4B5D-89CA-F77A9C3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EDB-184B-4196-A3C3-2D25BA51861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7AB9-BA91-48F4-A3FC-50687558434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91;&#1083;&#1100;&#1090;&#1092;&#1080;&#1083;&#1100;&#1084;%20&apos;&#1050;&#1088;&#1086;&#1096;&#1082;&#1072;%20&#1045;&#1085;&#1086;&#1090;&apos;%20(1974)%20-%20&#1089;&#1082;&#1072;&#1095;&#1072;&#1090;&#1100;%20&#1073;&#1077;&#1089;&#1087;&#1083;&#1072;&#1090;&#1085;&#1086;.mp4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Comic Sans MS"/>
              </a:rPr>
              <a:t>«От улыбки станет всем светлей»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4724280" cy="403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629400" y="5410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полнила: воспитатель Тюкпеева Т.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редняя групп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ид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познавательно-исследовательск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 создание социальной ситуации развития детей в процессе познавательно-исследовательской деятельно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ссмотреть все ситуации, способные вызвать у нас радость и улыбк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брать коллекцию улыбок посредством фотографий и рисунк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здать условия для развития творческой деятельности посредством рисования веселых смайли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Срок реализации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раткосрочный (недельный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omic Sans MS"/>
              </a:rPr>
              <a:t>Гипотез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Я думаю, что человек радуется, когда у него есть хорошие друзь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Человек улыбается, потому что его что-то очень радует, например, интересная работ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от нашего настроения, зависит настроение окружающих нас людей, если ты к человеку с добром и улыбкой, то и к тебе в ответ улыбнуться.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Человек радуется и улыбается, потому что ему весел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е грусти, милый друг, улыбнись!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Позабудь все печали и боль,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Миру сердце своё распахни,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И весь мир станет добрым с тобой!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Метод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прос детей в группе «Что такое улыбка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нкетирование для родит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аблюдение детей друг за друг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тение литературы по те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исование смайли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слушивание песен про улыбку, о дружб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накомство с пословицами и поговорк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Реализац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седы «Почему нужна улыбка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Вежливые слов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Какие бывают улыбки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Дружба начинается с улыбки»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Мультфильм «Крошка Енот»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Продуктивная деятель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исование «Веселый смайлик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ллективная аппликация «Поезд улыбок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omic Sans MS"/>
              </a:rPr>
              <a:t>Продук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идеоролик (ответы детей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Фотовыстав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ставка рисунков и апплик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6-11-29T02:45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